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E749-8FE2-4BCF-B68F-F4154C6C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854-6D63-4D95-8F40-D1A4270F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A7D-CB16-4B78-9635-F8F56D3D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537-29F2-4286-9C7A-DA7AE9C5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3586-0C7D-48A9-93AC-2AC65B2E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512C-0CA4-4853-BC91-74CC188D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8AF4-7E3E-4DF7-AABB-27D6221C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AAEE-718C-4564-8687-97716C40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ECDF-F8B9-41B9-AA8A-626026FA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96C2-09C9-4B40-9ED9-02CDFC3C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CA07-5B84-46AA-9CC7-BCBE12E5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653-9393-4B74-900C-7E3A938C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B327-1D4C-43D8-8089-714AF5F9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2D23-56DF-4969-AF76-A07E3F29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7878-79E3-4C1C-BD80-F2E482E6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AED1-4A06-40E7-A38C-3B9CDF4E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88FB-CE0D-4B04-A9C1-5BA12399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EAC-25AF-463B-9438-A6E33E0D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A88-BE8E-4B11-9930-E129EFD5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DC8-4830-48B5-98B2-1353E363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2E5D-0E0B-44EC-B556-72951387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AF51-6495-4BE2-8446-010980EA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7EC-7A20-4B44-8E6B-0EB8620F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EFA-D3B4-4416-93A7-38C7095E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06E2-2317-434E-8442-CD9FC08856C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3B61-9D42-411C-87E6-FD655F88DD3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elected Topics in Parallel Algorithm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3581280"/>
            <a:ext cx="51055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徐  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中国科学技术大学计算机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国家高性能计算中心（合肥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014.0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@ahu.hef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artⅡ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ree Fundamental Approach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609480" y="14479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第二篇 并行算法的设计</a:t>
            </a:r>
            <a:br>
              <a:rPr sz="48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第五章 并行算法与并行计算模型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第六章 并行算法基本设计策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art 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Ⅲ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undamental Techniqu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76212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第二篇 并行算法的设计</a:t>
            </a:r>
            <a:br>
              <a:rPr sz="48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第七章 并行算法常用设计技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art 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Ⅳ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PCAM Methodology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3352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第二篇 并行算法的设计</a:t>
            </a:r>
            <a:br>
              <a:rPr sz="4000"/>
            </a:b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   第八章 并行算法一般设计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art 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Ⅴ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amples: Numerical Parallel Alg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1752480"/>
            <a:ext cx="853416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第三篇 并行数值算法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第九章 稠密矩阵运算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第十章 线性方程组的求解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6105600" y="3824280"/>
          <a:ext cx="160812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05600" y="3824280"/>
                    <a:ext cx="160812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" name=""/>
          <p:cNvGrpSpPr/>
          <p:nvPr/>
        </p:nvGrpSpPr>
        <p:grpSpPr>
          <a:xfrm>
            <a:off x="2286000" y="1523880"/>
            <a:ext cx="3511440" cy="3852720"/>
            <a:chOff x="2286000" y="1523880"/>
            <a:chExt cx="3511440" cy="3852720"/>
          </a:xfrm>
        </p:grpSpPr>
        <p:sp>
          <p:nvSpPr>
            <p:cNvPr id="184" name=""/>
            <p:cNvSpPr/>
            <p:nvPr/>
          </p:nvSpPr>
          <p:spPr>
            <a:xfrm>
              <a:off x="2560320" y="5000400"/>
              <a:ext cx="625320" cy="376200"/>
            </a:xfrm>
            <a:custGeom>
              <a:avLst/>
              <a:gdLst/>
              <a:ahLst/>
              <a:rect l="l" t="t" r="r" b="b"/>
              <a:pathLst>
                <a:path w="394" h="237">
                  <a:moveTo>
                    <a:pt x="252" y="0"/>
                  </a:moveTo>
                  <a:lnTo>
                    <a:pt x="51" y="20"/>
                  </a:lnTo>
                  <a:lnTo>
                    <a:pt x="31" y="36"/>
                  </a:lnTo>
                  <a:lnTo>
                    <a:pt x="19" y="54"/>
                  </a:lnTo>
                  <a:lnTo>
                    <a:pt x="8" y="74"/>
                  </a:lnTo>
                  <a:lnTo>
                    <a:pt x="0" y="107"/>
                  </a:lnTo>
                  <a:lnTo>
                    <a:pt x="1" y="144"/>
                  </a:lnTo>
                  <a:lnTo>
                    <a:pt x="8" y="164"/>
                  </a:lnTo>
                  <a:lnTo>
                    <a:pt x="19" y="187"/>
                  </a:lnTo>
                  <a:lnTo>
                    <a:pt x="40" y="206"/>
                  </a:lnTo>
                  <a:lnTo>
                    <a:pt x="65" y="221"/>
                  </a:lnTo>
                  <a:lnTo>
                    <a:pt x="90" y="230"/>
                  </a:lnTo>
                  <a:lnTo>
                    <a:pt x="112" y="235"/>
                  </a:lnTo>
                  <a:lnTo>
                    <a:pt x="141" y="237"/>
                  </a:lnTo>
                  <a:lnTo>
                    <a:pt x="138" y="235"/>
                  </a:lnTo>
                  <a:lnTo>
                    <a:pt x="295" y="219"/>
                  </a:lnTo>
                  <a:lnTo>
                    <a:pt x="394" y="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80808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86000" y="1523880"/>
              <a:ext cx="3511440" cy="3849840"/>
            </a:xfrm>
            <a:custGeom>
              <a:avLst/>
              <a:gdLst/>
              <a:ahLst/>
              <a:rect l="l" t="t" r="r" b="b"/>
              <a:pathLst>
                <a:path w="2212" h="2425">
                  <a:moveTo>
                    <a:pt x="139" y="5"/>
                  </a:moveTo>
                  <a:lnTo>
                    <a:pt x="124" y="9"/>
                  </a:lnTo>
                  <a:lnTo>
                    <a:pt x="103" y="19"/>
                  </a:lnTo>
                  <a:lnTo>
                    <a:pt x="79" y="42"/>
                  </a:lnTo>
                  <a:lnTo>
                    <a:pt x="46" y="74"/>
                  </a:lnTo>
                  <a:lnTo>
                    <a:pt x="23" y="109"/>
                  </a:lnTo>
                  <a:lnTo>
                    <a:pt x="10" y="146"/>
                  </a:lnTo>
                  <a:lnTo>
                    <a:pt x="4" y="178"/>
                  </a:lnTo>
                  <a:lnTo>
                    <a:pt x="0" y="221"/>
                  </a:lnTo>
                  <a:lnTo>
                    <a:pt x="0" y="262"/>
                  </a:lnTo>
                  <a:lnTo>
                    <a:pt x="5" y="297"/>
                  </a:lnTo>
                  <a:lnTo>
                    <a:pt x="10" y="332"/>
                  </a:lnTo>
                  <a:lnTo>
                    <a:pt x="16" y="364"/>
                  </a:lnTo>
                  <a:lnTo>
                    <a:pt x="39" y="446"/>
                  </a:lnTo>
                  <a:lnTo>
                    <a:pt x="70" y="538"/>
                  </a:lnTo>
                  <a:lnTo>
                    <a:pt x="117" y="639"/>
                  </a:lnTo>
                  <a:lnTo>
                    <a:pt x="164" y="754"/>
                  </a:lnTo>
                  <a:lnTo>
                    <a:pt x="211" y="854"/>
                  </a:lnTo>
                  <a:lnTo>
                    <a:pt x="251" y="955"/>
                  </a:lnTo>
                  <a:lnTo>
                    <a:pt x="298" y="1076"/>
                  </a:lnTo>
                  <a:lnTo>
                    <a:pt x="338" y="1230"/>
                  </a:lnTo>
                  <a:lnTo>
                    <a:pt x="365" y="1364"/>
                  </a:lnTo>
                  <a:lnTo>
                    <a:pt x="392" y="1532"/>
                  </a:lnTo>
                  <a:lnTo>
                    <a:pt x="405" y="1713"/>
                  </a:lnTo>
                  <a:lnTo>
                    <a:pt x="425" y="1874"/>
                  </a:lnTo>
                  <a:lnTo>
                    <a:pt x="425" y="1962"/>
                  </a:lnTo>
                  <a:lnTo>
                    <a:pt x="425" y="2076"/>
                  </a:lnTo>
                  <a:lnTo>
                    <a:pt x="425" y="2150"/>
                  </a:lnTo>
                  <a:lnTo>
                    <a:pt x="420" y="2219"/>
                  </a:lnTo>
                  <a:lnTo>
                    <a:pt x="399" y="2291"/>
                  </a:lnTo>
                  <a:lnTo>
                    <a:pt x="384" y="2333"/>
                  </a:lnTo>
                  <a:lnTo>
                    <a:pt x="365" y="2371"/>
                  </a:lnTo>
                  <a:lnTo>
                    <a:pt x="346" y="2396"/>
                  </a:lnTo>
                  <a:lnTo>
                    <a:pt x="333" y="2410"/>
                  </a:lnTo>
                  <a:lnTo>
                    <a:pt x="318" y="2425"/>
                  </a:lnTo>
                  <a:lnTo>
                    <a:pt x="515" y="2403"/>
                  </a:lnTo>
                  <a:lnTo>
                    <a:pt x="896" y="2351"/>
                  </a:lnTo>
                  <a:lnTo>
                    <a:pt x="1211" y="2311"/>
                  </a:lnTo>
                  <a:lnTo>
                    <a:pt x="1573" y="2270"/>
                  </a:lnTo>
                  <a:lnTo>
                    <a:pt x="1843" y="2257"/>
                  </a:lnTo>
                  <a:lnTo>
                    <a:pt x="2051" y="2264"/>
                  </a:lnTo>
                  <a:lnTo>
                    <a:pt x="2104" y="2264"/>
                  </a:lnTo>
                  <a:lnTo>
                    <a:pt x="2138" y="2257"/>
                  </a:lnTo>
                  <a:lnTo>
                    <a:pt x="2158" y="2223"/>
                  </a:lnTo>
                  <a:lnTo>
                    <a:pt x="2178" y="2187"/>
                  </a:lnTo>
                  <a:lnTo>
                    <a:pt x="2195" y="2132"/>
                  </a:lnTo>
                  <a:lnTo>
                    <a:pt x="2205" y="2066"/>
                  </a:lnTo>
                  <a:lnTo>
                    <a:pt x="2212" y="2002"/>
                  </a:lnTo>
                  <a:lnTo>
                    <a:pt x="2212" y="1909"/>
                  </a:lnTo>
                  <a:lnTo>
                    <a:pt x="2208" y="1837"/>
                  </a:lnTo>
                  <a:lnTo>
                    <a:pt x="2205" y="1719"/>
                  </a:lnTo>
                  <a:lnTo>
                    <a:pt x="2185" y="1592"/>
                  </a:lnTo>
                  <a:lnTo>
                    <a:pt x="2151" y="1428"/>
                  </a:lnTo>
                  <a:lnTo>
                    <a:pt x="2111" y="1277"/>
                  </a:lnTo>
                  <a:lnTo>
                    <a:pt x="2078" y="1143"/>
                  </a:lnTo>
                  <a:lnTo>
                    <a:pt x="2024" y="995"/>
                  </a:lnTo>
                  <a:lnTo>
                    <a:pt x="1970" y="861"/>
                  </a:lnTo>
                  <a:lnTo>
                    <a:pt x="1923" y="734"/>
                  </a:lnTo>
                  <a:lnTo>
                    <a:pt x="1850" y="551"/>
                  </a:lnTo>
                  <a:lnTo>
                    <a:pt x="1809" y="444"/>
                  </a:lnTo>
                  <a:lnTo>
                    <a:pt x="1785" y="373"/>
                  </a:lnTo>
                  <a:lnTo>
                    <a:pt x="1771" y="317"/>
                  </a:lnTo>
                  <a:lnTo>
                    <a:pt x="1766" y="264"/>
                  </a:lnTo>
                  <a:lnTo>
                    <a:pt x="1766" y="218"/>
                  </a:lnTo>
                  <a:lnTo>
                    <a:pt x="1796" y="55"/>
                  </a:lnTo>
                  <a:lnTo>
                    <a:pt x="1809" y="22"/>
                  </a:lnTo>
                  <a:lnTo>
                    <a:pt x="161" y="0"/>
                  </a:lnTo>
                  <a:lnTo>
                    <a:pt x="139" y="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69960" y="1700280"/>
              <a:ext cx="288360" cy="252360"/>
            </a:xfrm>
            <a:custGeom>
              <a:avLst/>
              <a:gdLst/>
              <a:ahLst/>
              <a:rect l="l" t="t" r="r" b="b"/>
              <a:pathLst>
                <a:path w="182" h="159">
                  <a:moveTo>
                    <a:pt x="182" y="11"/>
                  </a:moveTo>
                  <a:lnTo>
                    <a:pt x="135" y="145"/>
                  </a:lnTo>
                  <a:lnTo>
                    <a:pt x="88" y="159"/>
                  </a:lnTo>
                  <a:lnTo>
                    <a:pt x="65" y="156"/>
                  </a:lnTo>
                  <a:lnTo>
                    <a:pt x="41" y="148"/>
                  </a:lnTo>
                  <a:lnTo>
                    <a:pt x="23" y="132"/>
                  </a:lnTo>
                  <a:lnTo>
                    <a:pt x="11" y="116"/>
                  </a:lnTo>
                  <a:lnTo>
                    <a:pt x="3" y="96"/>
                  </a:lnTo>
                  <a:lnTo>
                    <a:pt x="0" y="78"/>
                  </a:lnTo>
                  <a:lnTo>
                    <a:pt x="1" y="55"/>
                  </a:lnTo>
                  <a:lnTo>
                    <a:pt x="8" y="38"/>
                  </a:lnTo>
                  <a:lnTo>
                    <a:pt x="21" y="25"/>
                  </a:lnTo>
                  <a:lnTo>
                    <a:pt x="38" y="13"/>
                  </a:lnTo>
                  <a:lnTo>
                    <a:pt x="58" y="8"/>
                  </a:lnTo>
                  <a:lnTo>
                    <a:pt x="75" y="4"/>
                  </a:lnTo>
                  <a:lnTo>
                    <a:pt x="94" y="1"/>
                  </a:lnTo>
                  <a:lnTo>
                    <a:pt x="108" y="1"/>
                  </a:lnTo>
                  <a:lnTo>
                    <a:pt x="127" y="0"/>
                  </a:lnTo>
                  <a:lnTo>
                    <a:pt x="182" y="11"/>
                  </a:lnTo>
                  <a:close/>
                </a:path>
              </a:pathLst>
            </a:custGeom>
            <a:solidFill>
              <a:srgbClr val="80808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80840" y="1685880"/>
              <a:ext cx="203040" cy="206280"/>
            </a:xfrm>
            <a:custGeom>
              <a:avLst/>
              <a:gdLst/>
              <a:ahLst/>
              <a:rect l="l" t="t" r="r" b="b"/>
              <a:pathLst>
                <a:path w="128" h="130">
                  <a:moveTo>
                    <a:pt x="0" y="16"/>
                  </a:moveTo>
                  <a:lnTo>
                    <a:pt x="24" y="32"/>
                  </a:lnTo>
                  <a:lnTo>
                    <a:pt x="35" y="49"/>
                  </a:lnTo>
                  <a:lnTo>
                    <a:pt x="40" y="66"/>
                  </a:lnTo>
                  <a:lnTo>
                    <a:pt x="42" y="91"/>
                  </a:lnTo>
                  <a:lnTo>
                    <a:pt x="37" y="111"/>
                  </a:lnTo>
                  <a:lnTo>
                    <a:pt x="24" y="130"/>
                  </a:lnTo>
                  <a:lnTo>
                    <a:pt x="128" y="107"/>
                  </a:lnTo>
                  <a:lnTo>
                    <a:pt x="11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23960" y="1525320"/>
              <a:ext cx="2941200" cy="427320"/>
            </a:xfrm>
            <a:custGeom>
              <a:avLst/>
              <a:gdLst/>
              <a:ahLst/>
              <a:rect l="l" t="t" r="r" b="b"/>
              <a:pathLst>
                <a:path w="1853" h="269">
                  <a:moveTo>
                    <a:pt x="1753" y="21"/>
                  </a:moveTo>
                  <a:lnTo>
                    <a:pt x="0" y="0"/>
                  </a:lnTo>
                  <a:lnTo>
                    <a:pt x="50" y="8"/>
                  </a:lnTo>
                  <a:lnTo>
                    <a:pt x="68" y="14"/>
                  </a:lnTo>
                  <a:lnTo>
                    <a:pt x="87" y="22"/>
                  </a:lnTo>
                  <a:lnTo>
                    <a:pt x="99" y="34"/>
                  </a:lnTo>
                  <a:lnTo>
                    <a:pt x="113" y="52"/>
                  </a:lnTo>
                  <a:lnTo>
                    <a:pt x="120" y="73"/>
                  </a:lnTo>
                  <a:lnTo>
                    <a:pt x="125" y="95"/>
                  </a:lnTo>
                  <a:lnTo>
                    <a:pt x="127" y="118"/>
                  </a:lnTo>
                  <a:lnTo>
                    <a:pt x="128" y="137"/>
                  </a:lnTo>
                  <a:lnTo>
                    <a:pt x="125" y="165"/>
                  </a:lnTo>
                  <a:lnTo>
                    <a:pt x="120" y="192"/>
                  </a:lnTo>
                  <a:lnTo>
                    <a:pt x="108" y="215"/>
                  </a:lnTo>
                  <a:lnTo>
                    <a:pt x="89" y="239"/>
                  </a:lnTo>
                  <a:lnTo>
                    <a:pt x="65" y="254"/>
                  </a:lnTo>
                  <a:lnTo>
                    <a:pt x="46" y="269"/>
                  </a:lnTo>
                  <a:lnTo>
                    <a:pt x="161" y="255"/>
                  </a:lnTo>
                  <a:lnTo>
                    <a:pt x="289" y="235"/>
                  </a:lnTo>
                  <a:lnTo>
                    <a:pt x="491" y="222"/>
                  </a:lnTo>
                  <a:lnTo>
                    <a:pt x="659" y="208"/>
                  </a:lnTo>
                  <a:lnTo>
                    <a:pt x="860" y="208"/>
                  </a:lnTo>
                  <a:lnTo>
                    <a:pt x="1081" y="215"/>
                  </a:lnTo>
                  <a:lnTo>
                    <a:pt x="1356" y="222"/>
                  </a:lnTo>
                  <a:lnTo>
                    <a:pt x="1619" y="242"/>
                  </a:lnTo>
                  <a:lnTo>
                    <a:pt x="1726" y="262"/>
                  </a:lnTo>
                  <a:lnTo>
                    <a:pt x="1757" y="266"/>
                  </a:lnTo>
                  <a:lnTo>
                    <a:pt x="1790" y="268"/>
                  </a:lnTo>
                  <a:lnTo>
                    <a:pt x="1814" y="262"/>
                  </a:lnTo>
                  <a:lnTo>
                    <a:pt x="1834" y="242"/>
                  </a:lnTo>
                  <a:lnTo>
                    <a:pt x="1845" y="217"/>
                  </a:lnTo>
                  <a:lnTo>
                    <a:pt x="1850" y="196"/>
                  </a:lnTo>
                  <a:lnTo>
                    <a:pt x="1853" y="173"/>
                  </a:lnTo>
                  <a:lnTo>
                    <a:pt x="1848" y="130"/>
                  </a:lnTo>
                  <a:lnTo>
                    <a:pt x="1839" y="103"/>
                  </a:lnTo>
                  <a:lnTo>
                    <a:pt x="1826" y="75"/>
                  </a:lnTo>
                  <a:lnTo>
                    <a:pt x="1814" y="57"/>
                  </a:lnTo>
                  <a:lnTo>
                    <a:pt x="1799" y="43"/>
                  </a:lnTo>
                  <a:lnTo>
                    <a:pt x="1778" y="28"/>
                  </a:lnTo>
                  <a:lnTo>
                    <a:pt x="1753" y="21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 txBox="1"/>
          <p:nvPr/>
        </p:nvSpPr>
        <p:spPr>
          <a:xfrm rot="21336000">
            <a:off x="3068640" y="2948040"/>
            <a:ext cx="2076480" cy="371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ush Script MT"/>
              </a:rPr>
              <a:t>Thank you for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ush Script MT"/>
              </a:rPr>
              <a:t>your listening 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ush Script MT"/>
              <a:ea typeface="Brush Script MT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952880" y="3733920"/>
          <a:ext cx="54288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733920"/>
                    <a:ext cx="5428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 txBox="1"/>
          <p:nvPr/>
        </p:nvSpPr>
        <p:spPr>
          <a:xfrm rot="21267600">
            <a:off x="3581280" y="4038480"/>
            <a:ext cx="1295640" cy="295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ush Script MT"/>
              </a:rPr>
              <a:t>Qeustion?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ush Script MT"/>
              <a:ea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330066"/>
                </a:solidFill>
                <a:latin typeface="Arial"/>
                <a:ea typeface="华文行楷"/>
              </a:rPr>
              <a:t>Selected Topics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79246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Ⅰ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ff3300"/>
                </a:solidFill>
                <a:uFillTx/>
                <a:latin typeface="Arial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. Three Fundamental Approach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. Fundamental Technique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Ⅳ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. PCAM Methodolog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Ⅴ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: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umerical Parallel Al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752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61400" y="152280"/>
            <a:ext cx="0" cy="59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Ⅰ Introduction (1/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计算机学科是一门新兴学科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年间不断发展变化着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并行计算是发展过程中的重要里程碑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NCC’1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中国计算机大会）的特邀报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Ⅰ Introduction (2/7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707680" cy="3909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888160" y="2666880"/>
            <a:ext cx="28144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Ⅰ Introduction (3/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55820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Ⅰ Introduction (4/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719360"/>
            <a:ext cx="81536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实际上，并行算法是并行计算的核心和关键。如图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52280"/>
          <a:ext cx="891540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89154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Ⅰ Introduction (5/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本人理解并行算法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串行软件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算法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数据结构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文档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并行软件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并行算法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并行数据结构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文档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计算机体系结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本模块重点介绍并行算法中的一些方法和思想，选择一些章节来讲解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3124080"/>
            <a:ext cx="990720" cy="1219320"/>
          </a:xfrm>
          <a:prstGeom prst="downArrow">
            <a:avLst>
              <a:gd name="adj1" fmla="val 50000"/>
              <a:gd name="adj2" fmla="val 3076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跨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第二篇 并行算法的设计</a:t>
            </a:r>
            <a:br>
              <a:rPr sz="48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第五章 并行算法与并行计算模型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第六章 并行算法基本设计策略</a:t>
            </a:r>
            <a:br>
              <a:rPr sz="4000"/>
            </a:b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   第七章 并行算法常用设计技术</a:t>
            </a:r>
            <a:br>
              <a:rPr sz="4000"/>
            </a:b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   第八章 并行算法一般设计过程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Ⅰ Introduction (6/7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Ⅰ Introduction (7/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600200"/>
            <a:ext cx="853452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第三篇 并行数值算法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第九章 稠密矩阵运算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第十章 线性方程组的求解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第十一章 快速傅里叶变换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第十二章 数值计算的基本支撑技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alkinnet</cp:lastModifiedBy>
  <dcterms:modified xsi:type="dcterms:W3CDTF">2014-07-18T02:15:23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  <property fmtid="{D5CDD505-2E9C-101B-9397-08002B2CF9AE}" pid="3" name="Version">
    <vt:r8>1</vt:r8>
  </property>
</Properties>
</file>