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8E655-4E92-4C60-B2F1-D3521A8FF5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4140720"/>
            <a:ext cx="78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D0316-C71B-4BEB-90F0-AC5BEE5A9C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1400" y="175248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1400" y="414072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BB970-254F-45C5-804A-6E514F046C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3400" y="175248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7320" y="175248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414072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3400" y="414072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7320" y="414072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AE7DB-D328-4035-B5F3-1BBC3DE1D5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2AB9F-501B-4B18-ACDD-A4A9FAC4A9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2DE84-56DF-4EEE-BAE4-869F320B47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30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1400" y="1752480"/>
            <a:ext cx="3830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8D858-5B82-4BC0-B66D-55F589E3C5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07D6E-6DA2-4E7E-AB40-CE65E7578B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8487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8E880-AB39-49D0-80AE-BFDA17324E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1400" y="1752480"/>
            <a:ext cx="3830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1AAF9-9276-4E55-B721-CF858E827E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30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1400" y="175248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1400" y="414072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9FD86-855C-42AE-8BDC-2A81B682BD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1400" y="175248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78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0EBB4-7009-429A-9590-5D4ACF090E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7632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创艺简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创艺简黑体"/>
              </a:rPr>
              <a:t>国家高性能计算中心（合肥）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16256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344E7-3496-4696-B0E5-48F8E7F4739B}" type="slidenum">
              <a:rPr b="0" lang="zh-CN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Comic Sans MS"/>
              </a:rPr>
              <a:t>并行计算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Compu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052880"/>
            <a:ext cx="6656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主讲人   徐 云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mmer, 201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串行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FT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递归算法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539640" y="1268280"/>
                <a:ext cx="367200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奇数时： {</m:t>
                        </m:r>
                        <m:r>
                          <m:t xml:space="preserve">b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l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l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k</m:t>
                            </m:r>
                          </m:sup>
                        </m:s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-324000" y="1989000"/>
                <a:ext cx="648036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l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l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n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l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f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</m:e>
                      <m:e>
                        <m:r>
                          <m:t xml:space="preserve"> 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f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l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f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n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l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f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l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-396720" y="3027240"/>
                <a:ext cx="6624360" cy="11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l</m:t>
                            </m:r>
                          </m:sup>
                        </m:sSup>
                        <m:sSub>
                          <m:e>
                            <m:r>
                              <m:t xml:space="preserve">ω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4</m:t>
                            </m:r>
                            <m:r>
                              <m:t xml:space="preserve">l</m:t>
                            </m:r>
                          </m:sup>
                        </m:sSup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l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n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sup>
                        </m:sSup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f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f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f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l</m:t>
                            </m:r>
                          </m:sup>
                        </m:sSup>
                        <m:sSub>
                          <m:e>
                            <m:r>
                              <m:t xml:space="preserve">ωa</m:t>
                            </m:r>
                          </m:e>
                          <m:sub>
                            <m:f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⋯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l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n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sup>
                        </m:sSup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f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-322200" y="4178160"/>
                <a:ext cx="928692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l</m:t>
                        </m:r>
                      </m:sup>
                    </m:sSup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4</m:t>
                        </m:r>
                        <m:r>
                          <m:t xml:space="preserve">l</m:t>
                        </m:r>
                      </m:sup>
                    </m:sSup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l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sup>
                    </m:sSup>
                    <m:sSup>
                      <m:e>
                        <m:r>
                          <m:t xml:space="preserve">ω</m:t>
                        </m:r>
                      </m:e>
                      <m:sup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-324000" y="4653000"/>
                <a:ext cx="92170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e>
                      <m:sup>
                        <m:r>
                          <m:t xml:space="preserve">l</m:t>
                        </m:r>
                      </m:sup>
                    </m:sSup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e>
                      <m:sup>
                        <m:r>
                          <m:t xml:space="preserve">2</m:t>
                        </m:r>
                        <m:r>
                          <m:t xml:space="preserve">l</m:t>
                        </m:r>
                      </m:sup>
                    </m:sSup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+</m:t>
                    </m:r>
                    <m:s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e>
                      <m:sup>
                        <m:r>
                          <m:t xml:space="preserve">l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sup>
                    </m:sSup>
                    <m:sSup>
                      <m:e>
                        <m:r>
                          <m:t xml:space="preserve">ω</m:t>
                        </m:r>
                      </m:e>
                      <m:sup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-324000" y="5075280"/>
                <a:ext cx="914724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sup>
                            <m:r>
                              <m:t xml:space="preserve">kl</m:t>
                            </m:r>
                          </m:sup>
                        </m:sSup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f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 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0,1</m:t>
                    </m:r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11280" y="5877000"/>
                <a:ext cx="806616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因此，向量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是</m:t>
                    </m:r>
                    <m:r>
                      <m:t xml:space="preserve">(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的</m:t>
                    </m:r>
                    <m:r>
                      <m:rPr>
                        <m:lit/>
                        <m:nor/>
                      </m:rPr>
                      <m:t xml:space="preserve">DF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7ED55-C874-4EE3-B211-6BD0DEE6B4C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串行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FT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递归算法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378080"/>
            <a:ext cx="8354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FFT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蝶式递归计算图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由计算原理推出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847800" y="1844640"/>
          <a:ext cx="674856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7800" y="1844640"/>
                    <a:ext cx="674856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061A0-4EBE-4D80-89DF-B1D47B01F85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串行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FT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递归算法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11280" y="1521000"/>
            <a:ext cx="8354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特别地，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n=8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FFT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蝶式计算图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展开的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993600" y="2060640"/>
          <a:ext cx="6602760" cy="405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3600" y="2060640"/>
                    <a:ext cx="6602760" cy="40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87337-747E-444A-AA2A-48337FCDF95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串行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FT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递归算法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136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SISD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上的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FFT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治递归算法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输入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: A=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n-1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);  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输出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: B=(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,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,…,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n-1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Procedure RFFT(A, B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if n=1 then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=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el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(1)RFFT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n-2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, 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,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,…,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n/2-1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(2)RFFT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n-1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,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,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,…,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n/2-1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(3)z=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(4)for j=0 to n-1 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(4.1)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=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j mod n/2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+z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j mod n/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(4.2)z=zω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endfor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注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: (1)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算法时间复杂度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t(n)=2t(n/2)+O(n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endif                       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得  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t(n)=O(nlogn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end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(2)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算法原理？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A37B2-1C2C-4FF7-BF1B-D7FF4B9821C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000" y="981000"/>
            <a:ext cx="82040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十一章 快速傅里叶变换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1.1</a:t>
            </a: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快速傅里叶变换</a:t>
            </a:r>
            <a:br>
              <a:rPr sz="4000"/>
            </a:b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1.1.1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离散傅里叶变换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(DFT)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1.1.2 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DFT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顺序代码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1.1.3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串行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FFT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递归算法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  <a:ea typeface="华文新魏"/>
              </a:rPr>
              <a:t>11.1.4</a:t>
            </a: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串行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FFT</a:t>
            </a:r>
            <a:r>
              <a:rPr b="0" lang="zh-CN" sz="36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非递归算法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1.2</a:t>
            </a: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并行</a:t>
            </a: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FFT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算法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串行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FT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非递归算法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136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蝶式计算示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755640" y="1916280"/>
                <a:ext cx="7813800" cy="427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当n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时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ω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⇒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当n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时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＝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ω</m:t>
                                  </m:r>
                                </m:e>
                                <m:e>
                                  <m:s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  <m:e>
                                  <m:s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p>
                                      <m:r>
                                        <m:t xml:space="preserve">3</m:t>
                                      </m:r>
                                    </m:sup>
                                  </m:sSup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s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  <m:e>
                                  <m:s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p>
                                      <m:r>
                                        <m:t xml:space="preserve">4</m:t>
                                      </m:r>
                                    </m:sup>
                                  </m:sSup>
                                </m:e>
                                <m:e>
                                  <m:s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p>
                                      <m:r>
                                        <m:t xml:space="preserve">6</m:t>
                                      </m:r>
                                    </m:sup>
                                  </m:sSup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s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p>
                                      <m:r>
                                        <m:t xml:space="preserve">3</m:t>
                                      </m:r>
                                    </m:sup>
                                  </m:sSup>
                                </m:e>
                                <m:e>
                                  <m:s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p>
                                      <m:r>
                                        <m:t xml:space="preserve">6</m:t>
                                      </m:r>
                                    </m:sup>
                                  </m:sSup>
                                </m:e>
                                <m:e>
                                  <m:s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p>
                                      <m:r>
                                        <m:t xml:space="preserve">9</m:t>
                                      </m:r>
                                    </m:sup>
                                  </m:sSup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ω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ω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ω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ω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对调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和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，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</m:e>
                      <m:e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＝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－</m:t>
                                  </m:r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－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－</m:t>
                                  </m:r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ω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－</m:t>
                                  </m:r>
                                  <m:r>
                                    <m:t xml:space="preserve">ω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⇒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  <m:r>
                                    <m:t xml:space="preserve">ω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  <m:r>
                                    <m:t xml:space="preserve">ω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68083-902C-4097-9753-B2F5552A9F9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串行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FT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非递归算法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136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蝶式计算流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776160" y="2441520"/>
          <a:ext cx="7540920" cy="242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6160" y="2441520"/>
                    <a:ext cx="7540920" cy="242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18CDE-2275-4E7E-8A8B-BC5D7E7CA53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1042920" y="-415800"/>
          <a:ext cx="7201080" cy="60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-415800"/>
                    <a:ext cx="7201080" cy="60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串行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FT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非递归算法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8135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行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行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行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行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行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行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行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行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如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 b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[(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+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-(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+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]-[(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+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-(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+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7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]ω</a:t>
            </a:r>
            <a:r>
              <a:rPr b="0" lang="en-US" sz="22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注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 ①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下行线结点处的权因子的确定问题；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②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下标确定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取行号的位序反。如，行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: 3=(011)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 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=&gt;(110)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6, ==&gt; 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行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输出为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E1275-207E-411A-9E53-F8D651EB424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串行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FT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非递归算法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000" y="1339920"/>
            <a:ext cx="84963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算法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1.1(P295):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SISD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上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FFT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迭代算法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输入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: A=(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…,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n-1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;  </a:t>
            </a: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输出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: B=(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…,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n-1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1)for k=0 to n-1 do 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endfor       //</a:t>
            </a: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初始化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2)for h=logn-1 to 0 d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for k=0 to n-1 d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2.1)p=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(2.2)q=n/p     (2.3)z=ω</a:t>
            </a:r>
            <a:r>
              <a:rPr b="0" lang="en-US" sz="18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q/2     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//</a:t>
            </a: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先算出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z=ω</a:t>
            </a:r>
            <a:r>
              <a:rPr b="0" lang="en-US" sz="18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以后每次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z=z×z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2.4)if ( k mod p = k mod 2p) then          //(i)</a:t>
            </a: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ii)</a:t>
            </a: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同时执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i) 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+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k+p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ii)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k</a:t>
            </a:r>
            <a:r>
              <a:rPr b="0" lang="zh-CN" sz="18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＋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-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k+p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z</a:t>
            </a:r>
            <a:r>
              <a:rPr b="0" lang="en-US" sz="18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k mod 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endi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endfor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endf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3)for k=0 to n-1 do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r(k)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endfor                 //r(k)</a:t>
            </a: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为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k</a:t>
            </a: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位序反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End</a:t>
            </a: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算法时间复杂度：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T(n)=O(nlogn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"/>
          <p:cNvSpPr/>
          <p:nvPr/>
        </p:nvSpPr>
        <p:spPr>
          <a:xfrm>
            <a:off x="5940360" y="1987560"/>
            <a:ext cx="2735280" cy="11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203040" indent="-203040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66"/>
                </a:solidFill>
                <a:latin typeface="Comic Sans MS"/>
                <a:ea typeface="华文新魏"/>
              </a:rPr>
              <a:t>如：</a:t>
            </a:r>
            <a:r>
              <a:rPr b="1" lang="en-US" sz="1600" spc="-1" strike="noStrike">
                <a:solidFill>
                  <a:srgbClr val="cc0066"/>
                </a:solidFill>
                <a:latin typeface="Comic Sans MS"/>
              </a:rPr>
              <a:t>n=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Comic Sans MS"/>
              </a:rPr>
              <a:t>h=2, p=4, q=2, z=ω</a:t>
            </a:r>
            <a:r>
              <a:rPr b="1" lang="en-US" sz="1600" spc="-1" strike="noStrike" baseline="30000">
                <a:solidFill>
                  <a:srgbClr val="cc0066"/>
                </a:solidFill>
                <a:latin typeface="Comic Sans MS"/>
              </a:rPr>
              <a:t>1</a:t>
            </a:r>
            <a:r>
              <a:rPr b="1" lang="en-US" sz="1600" spc="-1" strike="noStrike">
                <a:solidFill>
                  <a:srgbClr val="cc0066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Comic Sans MS"/>
              </a:rPr>
              <a:t>h=1, p=2, q=4, z=ω</a:t>
            </a:r>
            <a:r>
              <a:rPr b="1" lang="en-US" sz="1600" spc="-1" strike="noStrike" baseline="30000">
                <a:solidFill>
                  <a:srgbClr val="cc0066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Comic Sans MS"/>
              </a:rPr>
              <a:t>h=0, p=1, q=8, z=ω</a:t>
            </a:r>
            <a:r>
              <a:rPr b="1" lang="en-US" sz="1600" spc="-1" strike="noStrike" baseline="30000">
                <a:solidFill>
                  <a:srgbClr val="cc0066"/>
                </a:solidFill>
                <a:latin typeface="Comic Sans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47CFD-D734-4D45-BFBE-5CC04E1AEE0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000" y="765000"/>
            <a:ext cx="82040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十一章 快速傅里叶变换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1.1</a:t>
            </a: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快速傅里叶变换</a:t>
            </a:r>
            <a:br>
              <a:rPr sz="4000"/>
            </a:b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1.2</a:t>
            </a: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并行</a:t>
            </a: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FFT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算法</a:t>
            </a:r>
            <a:br>
              <a:rPr sz="40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  <a:ea typeface="华文新魏"/>
              </a:rPr>
              <a:t>11.2.1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SIMD-MC</a:t>
            </a:r>
            <a:r>
              <a:rPr b="0" lang="en-US" sz="3600" spc="-1" strike="noStrike" u="sng" baseline="30000">
                <a:solidFill>
                  <a:srgbClr val="ff0000"/>
                </a:solidFill>
                <a:uFillTx/>
                <a:latin typeface="华文新魏"/>
                <a:ea typeface="华文新魏"/>
              </a:rPr>
              <a:t>2</a:t>
            </a:r>
            <a:r>
              <a:rPr b="0" lang="zh-CN" sz="36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上的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FFT</a:t>
            </a:r>
            <a:r>
              <a:rPr b="0" lang="zh-CN" sz="36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算法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1.2.2 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SIMD-BF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上的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FFT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算法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06112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三篇 并行数值算法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第九章 稠密矩阵运算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第十章 线性方程组的求解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</a:t>
            </a:r>
            <a:r>
              <a:rPr b="0" lang="zh-CN" sz="3600" spc="-1" strike="noStrike">
                <a:solidFill>
                  <a:srgbClr val="ff0000"/>
                </a:solidFill>
                <a:latin typeface="Comic Sans MS"/>
                <a:ea typeface="华文新魏"/>
              </a:rPr>
              <a:t>第十一章 </a:t>
            </a:r>
            <a:r>
              <a:rPr b="0" lang="zh-CN" sz="36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快速傅里叶变换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第十二章 数值计算的基本支撑技术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SIMD-MC</a:t>
            </a:r>
            <a:r>
              <a:rPr b="0" lang="en-US" sz="40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上的</a:t>
            </a: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FFT</a:t>
            </a: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算法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136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算法描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处理器组成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1/2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×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1/2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方阵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处理器以行主序编号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333520" y="2421000"/>
          <a:ext cx="3508560" cy="40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3520" y="2421000"/>
                    <a:ext cx="3508560" cy="40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1C329-DC9C-40AC-BFCE-2E106FCFFE0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SIMD-MC</a:t>
            </a:r>
            <a:r>
              <a:rPr b="0" lang="en-US" sz="40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上的</a:t>
            </a: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FFT</a:t>
            </a: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算法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84294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算法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1.3(P299):</a:t>
            </a: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输入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: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k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处于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k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中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; 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输出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k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处于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k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1)for k=0 to n-1 par-do 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endf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2)for h=logn-1 to 0 d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for k=0 to n-1 par-d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2.1)p=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(2.2)q=n/p     (2.3)z=ω</a:t>
            </a:r>
            <a:r>
              <a:rPr b="0" lang="en-US" sz="18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p     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//</a:t>
            </a: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先算出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ω</a:t>
            </a:r>
            <a:r>
              <a:rPr b="0" lang="en-US" sz="18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n/2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以后每次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z=z</a:t>
            </a:r>
            <a:r>
              <a:rPr b="0" lang="en-US" sz="18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2.4)if ( k mod p = k mod 2p) then par-do  //</a:t>
            </a: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满足条件的处理器同时做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i) 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+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k+p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z</a:t>
            </a:r>
            <a:r>
              <a:rPr b="0" lang="en-US" sz="18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r(k)modq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      //(i)</a:t>
            </a: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ii)</a:t>
            </a: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同时执行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ii)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k</a:t>
            </a:r>
            <a:r>
              <a:rPr b="0" lang="zh-CN" sz="18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＋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-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k+p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z</a:t>
            </a:r>
            <a:r>
              <a:rPr b="0" lang="en-US" sz="18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r(k)modq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endi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endfor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endf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3)for k=0 to n-1 par-do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r(k)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endfor                 //r(k)</a:t>
            </a: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为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k</a:t>
            </a: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位序反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End</a:t>
            </a: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1752480"/>
            <a:ext cx="27352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203040" indent="-203040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66"/>
                </a:solidFill>
                <a:latin typeface="Comic Sans MS"/>
                <a:ea typeface="华文新魏"/>
              </a:rPr>
              <a:t>如：</a:t>
            </a:r>
            <a:r>
              <a:rPr b="1" lang="en-US" sz="1600" spc="-1" strike="noStrike">
                <a:solidFill>
                  <a:srgbClr val="cc0066"/>
                </a:solidFill>
                <a:latin typeface="Comic Sans MS"/>
              </a:rPr>
              <a:t>n=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Comic Sans MS"/>
              </a:rPr>
              <a:t>h=3, p=8, q=2, z=ω</a:t>
            </a:r>
            <a:r>
              <a:rPr b="1" lang="en-US" sz="1600" spc="-1" strike="noStrike" baseline="30000">
                <a:solidFill>
                  <a:srgbClr val="cc0066"/>
                </a:solidFill>
                <a:latin typeface="Comic Sans MS"/>
              </a:rPr>
              <a:t>8</a:t>
            </a:r>
            <a:r>
              <a:rPr b="1" lang="en-US" sz="1600" spc="-1" strike="noStrike">
                <a:solidFill>
                  <a:srgbClr val="cc0066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Comic Sans MS"/>
              </a:rPr>
              <a:t>h=2, p=4, q=4, z=ω</a:t>
            </a:r>
            <a:r>
              <a:rPr b="1" lang="en-US" sz="1600" spc="-1" strike="noStrike" baseline="30000">
                <a:solidFill>
                  <a:srgbClr val="cc0066"/>
                </a:solidFill>
                <a:latin typeface="Comic Sans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Comic Sans MS"/>
              </a:rPr>
              <a:t>h=1, p=2, q=8, z=ω</a:t>
            </a:r>
            <a:r>
              <a:rPr b="1" lang="en-US" sz="1600" spc="-1" strike="noStrike" baseline="30000">
                <a:solidFill>
                  <a:srgbClr val="cc0066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03040" indent="-203040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Comic Sans MS"/>
              </a:rPr>
              <a:t>h=0, p=1, q=16,z=ω</a:t>
            </a:r>
            <a:r>
              <a:rPr b="1" lang="en-US" sz="1600" spc="-1" strike="noStrike" baseline="30000">
                <a:solidFill>
                  <a:srgbClr val="cc0066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47F57-01F4-4862-9FED-31EC47B8D14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SIMD-MC</a:t>
            </a:r>
            <a:r>
              <a:rPr b="0" lang="en-US" sz="40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上的</a:t>
            </a: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FFT</a:t>
            </a: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算法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136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示例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P300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1.5, n=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第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步：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279440" y="2878200"/>
          <a:ext cx="6388200" cy="251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9440" y="2878200"/>
                    <a:ext cx="6388200" cy="25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030AD-A6B7-47FE-91A3-C6070FDFA92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SIMD-MC</a:t>
            </a:r>
            <a:r>
              <a:rPr b="0" lang="en-US" sz="40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上的</a:t>
            </a: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FFT</a:t>
            </a: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算法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136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第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步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第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次迭代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h=1): p=2, q=2, z=ω</a:t>
            </a:r>
            <a:r>
              <a:rPr b="0" lang="en-US" sz="24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满足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k mod 2 = k mod 4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处理器为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同时计算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: 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=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+(ω</a:t>
            </a:r>
            <a:r>
              <a:rPr b="0" lang="en-US" sz="24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=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+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: 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=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+(ω</a:t>
            </a:r>
            <a:r>
              <a:rPr b="0" lang="en-US" sz="24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=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+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=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-(ω</a:t>
            </a:r>
            <a:r>
              <a:rPr b="0" lang="en-US" sz="24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=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-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=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-(ω</a:t>
            </a:r>
            <a:r>
              <a:rPr b="0" lang="en-US" sz="24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=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-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826920" y="3789360"/>
          <a:ext cx="7129800" cy="213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3789360"/>
                    <a:ext cx="7129800" cy="21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BFBD2-4E0B-4BC2-9DDC-2E52955C3F4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SIMD-MC</a:t>
            </a:r>
            <a:r>
              <a:rPr b="0" lang="en-US" sz="40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上的</a:t>
            </a: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FFT</a:t>
            </a: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算法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15640" y="1484280"/>
            <a:ext cx="88930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第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2)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步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第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次迭代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h=0): p=1, q=4, z=ω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满足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k mod 1 = k mod 2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处理器为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 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同时计算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 c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c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+ω</a:t>
            </a:r>
            <a:r>
              <a:rPr b="0" lang="en-US" sz="22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c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(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+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+(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+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  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 c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c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+ω</a:t>
            </a:r>
            <a:r>
              <a:rPr b="0" lang="en-US" sz="22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c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(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+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+(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+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ω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c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c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-ω</a:t>
            </a:r>
            <a:r>
              <a:rPr b="0" lang="en-US" sz="22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c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(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+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-(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+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                 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c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c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-ω</a:t>
            </a:r>
            <a:r>
              <a:rPr b="0" lang="en-US" sz="22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c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(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+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+(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+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ω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116000" y="3429000"/>
          <a:ext cx="7018200" cy="28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429000"/>
                    <a:ext cx="7018200" cy="28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C4536-2D9A-4BEE-B1C7-7D396F6EF3B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SIMD-MC</a:t>
            </a:r>
            <a:r>
              <a:rPr b="0" lang="en-US" sz="40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上的</a:t>
            </a: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FFT</a:t>
            </a: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算法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20720" y="1484280"/>
            <a:ext cx="80992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第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3)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步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: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=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=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=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=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算法分析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计算时间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: 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comp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=O(logn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选路时间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: 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routing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涉及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2.4)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2.4):  O(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1/2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3):   O(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1/2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综上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当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较大时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t(n)=O(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1/2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CFE7E-535D-4828-A218-BFA60043A5D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000" y="765000"/>
            <a:ext cx="82040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十一章 快速傅里叶变换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1.1</a:t>
            </a: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快速傅里叶变换</a:t>
            </a:r>
            <a:br>
              <a:rPr sz="4000"/>
            </a:b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1.2</a:t>
            </a: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并行</a:t>
            </a: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FFT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算法</a:t>
            </a:r>
            <a:br>
              <a:rPr sz="40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1.2.1 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SIMD-MC</a:t>
            </a:r>
            <a:r>
              <a:rPr b="0" lang="en-US" sz="36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上的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FFT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算法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  <a:ea typeface="华文新魏"/>
              </a:rPr>
              <a:t>11.2.2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SIMD-BF</a:t>
            </a:r>
            <a:r>
              <a:rPr b="0" lang="zh-CN" sz="36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上的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FFT</a:t>
            </a:r>
            <a:r>
              <a:rPr b="0" lang="zh-CN" sz="36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算法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SIMD-BF</a:t>
            </a: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上的</a:t>
            </a:r>
            <a:r>
              <a:rPr b="0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FFT</a:t>
            </a: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算法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3640" y="1413000"/>
            <a:ext cx="90010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蝶形网络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处理器布局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k+1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层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每层有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n=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k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处理器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共有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n(1+logn)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处理器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第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r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行第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列的处理器记为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r,i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 i=(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…,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互连方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r,j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与上层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r-1,i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r-1,j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相连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里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j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与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仅在第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r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位不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权因子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ω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BF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网络中的计算方法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r,i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中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ω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指数为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j=expr(r,i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里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expr(r,i)=(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…,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0,…,0)   //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即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前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r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位取位序反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再后补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k-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"/>
          <p:cNvSpPr/>
          <p:nvPr/>
        </p:nvSpPr>
        <p:spPr>
          <a:xfrm rot="16200000">
            <a:off x="4196520" y="5142960"/>
            <a:ext cx="177840" cy="715680"/>
          </a:xfrm>
          <a:custGeom>
            <a:avLst/>
            <a:gdLst>
              <a:gd name="textAreaLeft" fmla="*/ 113760 w 177840"/>
              <a:gd name="textAreaRight" fmla="*/ 177840 w 177840"/>
              <a:gd name="textAreaTop" fmla="*/ 18360 h 715680"/>
              <a:gd name="textAreaBottom" fmla="*/ 697320 h 71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368"/>
                </a:lnTo>
                <a:cubicBezTo>
                  <a:pt x="10800" y="10268"/>
                  <a:pt x="5400" y="11168"/>
                  <a:pt x="0" y="11168"/>
                </a:cubicBezTo>
                <a:cubicBezTo>
                  <a:pt x="5400" y="11168"/>
                  <a:pt x="10800" y="12068"/>
                  <a:pt x="10800" y="1296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EB2A7-4F02-4DA7-982B-0198F272561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4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500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SIMD-BF</a:t>
            </a: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上的</a:t>
            </a:r>
            <a:r>
              <a:rPr b="0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FFT</a:t>
            </a: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算法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09928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示例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n=8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BF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网络表示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r,j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与上层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r-1,i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r-1,j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相连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里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j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与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仅在第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r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位不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582560" y="1557360"/>
          <a:ext cx="8677440" cy="437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2560" y="1557360"/>
                    <a:ext cx="8677440" cy="43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7F9DC-768A-4886-A078-3089AC9E8F7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SIMD-BF</a:t>
            </a: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上的</a:t>
            </a:r>
            <a:r>
              <a:rPr b="0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FFT</a:t>
            </a: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算法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9280" y="1413000"/>
            <a:ext cx="8099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算法描述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: P302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算法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1.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算法分析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时间分析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第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(1)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步时间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: O(1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(2.1)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(2.2)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计算时间为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O(1),  (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假定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ω</a:t>
            </a:r>
            <a:r>
              <a:rPr b="0" lang="en-US" sz="20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expr(r,i)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已计算好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(2.1)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(2.2)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选路时间为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O(1)     ==&gt;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第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(2)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步时间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: O(logn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所以 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t(n)=O(logn), p(n)=n(1+logn), c(n)=O(nlo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n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(n)=O(n),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(n)=O(1/logn)      //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本算法的综合指标较好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ω</a:t>
            </a:r>
            <a:r>
              <a:rPr b="0" lang="en-US" sz="24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expr(r,i)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计算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初始时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: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k,i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读入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ω</a:t>
            </a:r>
            <a:r>
              <a:rPr b="0" lang="en-US" sz="20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expr(k,i)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k=log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若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r+1,i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已有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ω</a:t>
            </a:r>
            <a:r>
              <a:rPr b="0" lang="en-US" sz="20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expr(r+1,i)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则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r,i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中的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ω</a:t>
            </a:r>
            <a:r>
              <a:rPr b="0" lang="en-US" sz="20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expr(r,i)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=ω</a:t>
            </a:r>
            <a:r>
              <a:rPr b="0" lang="en-US" sz="20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2expr(r+1,i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所以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经过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logn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步就可以计算出每个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ω</a:t>
            </a:r>
            <a:r>
              <a:rPr b="0" lang="en-US" sz="20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expr(r,i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B2FCE-74C7-4FC6-8FFB-8451750F624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981000"/>
            <a:ext cx="82040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十一章 快速傅里叶变换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1.1</a:t>
            </a: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快速傅里叶变换</a:t>
            </a:r>
            <a:br>
              <a:rPr sz="4000"/>
            </a:b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  <a:ea typeface="华文新魏"/>
              </a:rPr>
              <a:t>11.1.1 </a:t>
            </a:r>
            <a:r>
              <a:rPr b="0" lang="zh-CN" sz="36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离散傅里叶变换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(DFT)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1.1.2 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DFT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顺序代码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1.1.3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串行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FFT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递归算法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1.1.4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串行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FFT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非递归算法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1.2</a:t>
            </a: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并行</a:t>
            </a: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FFT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算法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离散傅里叶变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DFT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9280" y="1449360"/>
            <a:ext cx="8355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定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给定向量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A=(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  <a:ea typeface="华文新魏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,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  <a:ea typeface="华文新魏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,…,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  <a:ea typeface="华文新魏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  <a:ea typeface="华文新魏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,DFT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将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变换为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B=(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  <a:ea typeface="华文新魏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,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  <a:ea typeface="华文新魏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,…,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  <a:ea typeface="华文新魏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  <a:ea typeface="华文新魏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258920" y="2492280"/>
                <a:ext cx="6553080" cy="30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即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j</m:t>
                                </m:r>
                              </m:sup>
                            </m:sSup>
                          </m:e>
                        </m:nary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≤</m:t>
                        </m:r>
                        <m:r>
                          <m:t xml:space="preserve">j</m:t>
                        </m:r>
                        <m:r>
                          <m:t xml:space="preserve">≤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这里</m:t>
                        </m:r>
                        <m:r>
                          <m:t xml:space="preserve">ω</m:t>
                        </m:r>
                        <m:r>
                          <m:t xml:space="preserve">＝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i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sup>
                        </m:sSup>
                        <m:r>
                          <m:t xml:space="preserve">为n</m:t>
                        </m:r>
                        <m:r>
                          <m:rPr>
                            <m:lit/>
                            <m:nor/>
                          </m:rPr>
                          <m:t xml:space="preserve">次单位元根，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写成矩阵形式为</m:t>
                        </m:r>
                      </m:e>
                      <m:e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p>
                                      <m:r>
                                        <m:t xml:space="preserve">0</m:t>
                                      </m:r>
                                    </m:sup>
                                  </m:sSup>
                                </m:e>
                                <m:e>
                                  <m:s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p>
                                      <m:r>
                                        <m:t xml:space="preserve">0</m:t>
                                      </m:r>
                                    </m:sup>
                                  </m:sSup>
                                </m:e>
                                <m:e>
                                  <m:s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p>
                                      <m:r>
                                        <m:t xml:space="preserve">0</m:t>
                                      </m:r>
                                    </m:sup>
                                  </m:sSup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s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p>
                                      <m:r>
                                        <m:t xml:space="preserve">0</m:t>
                                      </m:r>
                                    </m:sup>
                                  </m:sSup>
                                </m:e>
                              </m:mr>
                              <m:mr>
                                <m:e>
                                  <m:s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p>
                                      <m:r>
                                        <m:t xml:space="preserve">0</m:t>
                                      </m:r>
                                    </m:sup>
                                  </m:sSup>
                                </m:e>
                                <m:e>
                                  <m:s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p>
                                      <m:r>
                                        <m:t xml:space="preserve">1</m:t>
                                      </m:r>
                                    </m:sup>
                                  </m:sSup>
                                </m:e>
                                <m:e>
                                  <m:s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s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p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sup>
                                  </m:sSup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  <m:e>
                                  <m:r>
                                    <m:t xml:space="preserve">⋮</m:t>
                                  </m:r>
                                </m:e>
                                <m:e>
                                  <m:r>
                                    <m:t xml:space="preserve">⋮</m:t>
                                  </m:r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s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p>
                                      <m:r>
                                        <m:t xml:space="preserve">0</m:t>
                                      </m:r>
                                    </m:sup>
                                  </m:sSup>
                                </m:e>
                                <m:e>
                                  <m:s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p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sup>
                                  </m:sSup>
                                </m:e>
                                <m:e>
                                  <m:s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  <m:r>
                                        <m:t xml:space="preserve">(</m:t>
                                      </m:r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  <m:r>
                                        <m:t xml:space="preserve">)</m:t>
                                      </m:r>
                                    </m:sup>
                                  </m:sSup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s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p>
                                      <m:r>
                                        <m:t xml:space="preserve">(</m:t>
                                      </m:r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  <m:r>
                                        <m:t xml:space="preserve">)</m:t>
                                      </m:r>
                                      <m:r>
                                        <m:t xml:space="preserve">(</m:t>
                                      </m:r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  <m:r>
                                        <m:t xml:space="preserve">)</m:t>
                                      </m:r>
                                    </m:sup>
                                  </m:sSup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D3652-748D-427E-8AE5-2E7D8E7FFDA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981000"/>
            <a:ext cx="82040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十一章 快速傅里叶变换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1.1</a:t>
            </a: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快速傅里叶变换</a:t>
            </a:r>
            <a:br>
              <a:rPr sz="4000"/>
            </a:b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1.1.1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离散傅里叶变换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(DFT)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  <a:ea typeface="华文新魏"/>
              </a:rPr>
              <a:t>11.1.2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DFT</a:t>
            </a:r>
            <a:r>
              <a:rPr b="0" lang="zh-CN" sz="36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的顺序代码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1.1.3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串行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FFT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递归算法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1.1.4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串行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FFT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非递归算法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1.2</a:t>
            </a: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并行</a:t>
            </a: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FFT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算法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FT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的顺序代码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9280" y="1449000"/>
            <a:ext cx="403236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代码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for j=0 to n-1 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b[j]=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for k=0 to n-1 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b[j]=b[j]+ω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  <a:ea typeface="华文新魏"/>
              </a:rPr>
              <a:t>k*j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a[k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注：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代码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需要计算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ω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  <a:ea typeface="华文新魏"/>
              </a:rPr>
              <a:t>k*j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代码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的复杂度为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O(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  <a:ea typeface="华文新魏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1484280"/>
            <a:ext cx="40323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代码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=ω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j=0 to n-1 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[j]=0, s=ω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k=0 to n-1 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[j]=b[j]+s*a[k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=s*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=w*ω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B85BB-C170-4F99-949E-21080648B94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981000"/>
            <a:ext cx="82040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十一章 快速傅里叶变换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1.1</a:t>
            </a: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快速傅里叶变换</a:t>
            </a:r>
            <a:br>
              <a:rPr sz="4000"/>
            </a:b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1.1.1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离散傅里叶变换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(DFT)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1.1.2 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DFT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顺序代码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  <a:ea typeface="华文新魏"/>
              </a:rPr>
              <a:t>11.1.3 </a:t>
            </a:r>
            <a:r>
              <a:rPr b="0" lang="zh-CN" sz="36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串行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FFT</a:t>
            </a:r>
            <a:r>
              <a:rPr b="0" lang="zh-CN" sz="36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递归算法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1.1.4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串行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FFT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非递归算法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1.2</a:t>
            </a: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并行</a:t>
            </a: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FFT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算法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串行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FT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递归算法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354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蝶式递归计算原理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令                      为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n/2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次单位元根，则有      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将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向量的偶数项                    和奇数项                   分别记为    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    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注意推导中反复使用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1195560" y="1881360"/>
                <a:ext cx="172080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＝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2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i</m:t>
                            </m:r>
                          </m:num>
                          <m:den>
                            <m:r>
                              <m:t xml:space="preserve">(</m:t>
                            </m:r>
                          </m:den>
                        </m:f>
                        <m:f>
                          <m:fPr>
                            <m:type m:val="lin"/>
                          </m:fPr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5981760" y="1881360"/>
                <a:ext cx="103356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＝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5823000" y="2384280"/>
                <a:ext cx="16304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890640" y="2800440"/>
                <a:ext cx="17384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,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2771640" y="2825640"/>
                <a:ext cx="172584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,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3564000" y="3240000"/>
                <a:ext cx="463716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sn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2" name=""/>
          <p:cNvGraphicFramePr/>
          <p:nvPr/>
        </p:nvGraphicFramePr>
        <p:xfrm>
          <a:off x="1476360" y="3602160"/>
          <a:ext cx="4392720" cy="35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3602160"/>
                    <a:ext cx="4392720" cy="35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3147840" y="2384280"/>
                <a:ext cx="16671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20953-BC06-4674-9737-8C2B66BA2A7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串行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FT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递归算法（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611280" y="1268280"/>
                <a:ext cx="3529080" cy="8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偶数时： {</m:t>
                        </m:r>
                        <m:r>
                          <m:t xml:space="preserve">b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k</m:t>
                            </m:r>
                          </m:sup>
                        </m:s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682560" y="2060640"/>
                <a:ext cx="597708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l</m:t>
                            </m:r>
                          </m:sup>
                        </m:s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4</m:t>
                            </m:r>
                            <m:r>
                              <m:t xml:space="preserve">l</m:t>
                            </m:r>
                          </m:sup>
                        </m:s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l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n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sup>
                        </m:s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f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f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l</m:t>
                            </m:r>
                          </m:sup>
                        </m:s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f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4</m:t>
                            </m:r>
                            <m:r>
                              <m:t xml:space="preserve">l</m:t>
                            </m:r>
                          </m:sup>
                        </m:s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f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l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n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sup>
                        </m:s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684360" y="3193920"/>
                <a:ext cx="626580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f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l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f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4</m:t>
                            </m:r>
                            <m:r>
                              <m:t xml:space="preserve">l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f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l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n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f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684360" y="4226040"/>
                <a:ext cx="604980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f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sup>
                            <m:r>
                              <m:t xml:space="preserve">l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f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l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f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sup>
                            <m:r>
                              <m:t xml:space="preserve">l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n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f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611280" y="5119560"/>
                <a:ext cx="777708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sup>
                            <m:r>
                              <m:t xml:space="preserve">kl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f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 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0,1</m:t>
                    </m:r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755640" y="5937120"/>
                <a:ext cx="7667640" cy="5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因此，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向量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是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的</m:t>
                    </m:r>
                    <m:r>
                      <m:rPr>
                        <m:lit/>
                        <m:nor/>
                      </m:rPr>
                      <m:t xml:space="preserve">DF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D18DB-A888-46B4-B29F-47E6DAA1C61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7T01:26:01Z</dcterms:created>
  <dc:creator>Xu Yun</dc:creator>
  <dc:description/>
  <dc:language>en-US</dc:language>
  <cp:lastModifiedBy>walkinnet</cp:lastModifiedBy>
  <dcterms:modified xsi:type="dcterms:W3CDTF">2014-07-16T07:51:46Z</dcterms:modified>
  <cp:revision>37</cp:revision>
  <dc:subject/>
  <dc:title>并行计算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