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zh-CN" sz="13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B8005B-59C7-46F9-9DDB-2A0D4D1A3D40}" type="slidenum">
              <a:rPr b="0" lang="zh-CN" sz="13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3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CC2933-DF3F-44C5-A685-44D197F4DEEB}" type="slidenum">
              <a:rPr b="0" lang="zh-CN" sz="13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3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533160" y="4861080"/>
            <a:ext cx="6118200" cy="4605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dentia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a compu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e pho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n be an hidden slide.  I just want to use this to do my own plann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 have rearranged Cull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lecture slides slightly and add more slides.  This covers everything he covers in his first lecture (and more) but ma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will save the fun part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Levels of Organization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at the end (so student can stay awake): I will show the internal stricture of the SS10/20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es to Patterson: You may want to edit the slides in your section or add extra slides to taylor your nee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ldImg"/>
          </p:nvPr>
        </p:nvSpPr>
        <p:spPr>
          <a:xfrm>
            <a:off x="1008000" y="657360"/>
            <a:ext cx="5099040" cy="3824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B5FF-D6B3-469B-A418-CCD08530B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CA31-EADB-4266-8AF2-5FF04495D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0F4C-B0D2-4468-B8B9-33B8C627D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850C-37D9-48FD-B488-8538911A8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227E-834D-44B6-A4E3-F157753B76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1638-D9B9-42F8-899D-FEBEDB861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8150-3022-401D-9C8E-34C724744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44B1-81C0-47A5-8C52-A6CADDE54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F7B9-1CA3-44DF-83FF-78B12A488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D416-17EB-4417-81C2-E5F7EDB0F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738C-1F4D-4B3A-A9C4-199F48CFF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F2DF-F7BD-43D4-BD7A-19A1604F7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i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6797-6861-4B8B-A6C7-87F240AD88C5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er,  20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1.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定义和分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表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复杂性度量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1.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并行算法中的同步和通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2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23CB-7022-4C95-A545-0FF1C4292F3E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同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8283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同步概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同步是在时间上强使各执行进程在某一点必须互相等待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可用软件、硬件和固件的办法来实现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同步语句示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1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共享存储多处理器上求和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入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=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处理器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出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=Σ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S=0                                                     (2.3) lock(S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for all Pi where 0</a:t>
            </a:r>
            <a:r>
              <a:rPr b="0" lang="en-US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≤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-1</a:t>
            </a:r>
            <a:r>
              <a:rPr b="0" lang="en-US" sz="1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                         S=S+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.1) L=0                                              (2.4) unlock(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.2) for j=i to n step p do               end 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=L+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 for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5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76" name="灯片编号占位符 6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66FD-1C85-43AD-AB49-9F241CBC3C9F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440" y="3240"/>
            <a:ext cx="9164880" cy="687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419640" y="6093000"/>
            <a:ext cx="3019320" cy="22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826920" y="6381720"/>
            <a:ext cx="301968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1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B7AD-066F-4CCE-9A15-E975E9AC0F26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通讯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8283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通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共享存储多处理器使用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read(X,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write(X,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分布存储多计算机使用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(X,i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(Y,j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通讯语句示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算法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2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分布存储多计算机上矩阵向量乘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入：处理器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, A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=A[1..n,(i-1)r+1..ir]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划分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=w[(i-1)r+1..ir]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=n/p, i=1~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输出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保存乘积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 Compute z=B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 if i=1 then y=0 else receive(y,left) endi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3) y=y+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4) send(y,righ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5) if i=1 then receive(y,lef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5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E1D4-0445-4760-BCFA-4CE92D33085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通讯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8283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计算过程图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1374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0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80DD-C73E-41AF-9B47-AC3D36DEFAAB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4920" y="97956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2.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PRAM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异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A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BS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log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4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25FC-6E32-442A-BAC9-D38EEABB22EB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tune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yllie1978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年提出，又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D-S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模型。有一个集中的共享存储器和一个指令控制器，通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/W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交换数据，隐式同步计算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结构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2627280" y="3429000"/>
            <a:ext cx="3294000" cy="2736360"/>
            <a:chOff x="2627280" y="3429000"/>
            <a:chExt cx="3294000" cy="2736360"/>
          </a:xfrm>
        </p:grpSpPr>
        <p:sp>
          <p:nvSpPr>
            <p:cNvPr id="98" name="Rectangle 5"/>
            <p:cNvSpPr/>
            <p:nvPr/>
          </p:nvSpPr>
          <p:spPr>
            <a:xfrm>
              <a:off x="3450600" y="3429000"/>
              <a:ext cx="145584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rol Unit</a:t>
              </a:r>
              <a:endParaRPr b="0" lang="en-US" sz="1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2627280" y="5121000"/>
              <a:ext cx="3294000" cy="37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terconnection Network</a:t>
              </a:r>
              <a:endParaRPr b="0" lang="en-US" sz="1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723040" y="4073400"/>
              <a:ext cx="482040" cy="1046520"/>
              <a:chOff x="2723040" y="4073400"/>
              <a:chExt cx="482040" cy="104652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723040" y="4325400"/>
                <a:ext cx="482040" cy="532080"/>
                <a:chOff x="2723040" y="4325400"/>
                <a:chExt cx="482040" cy="53208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723040" y="4325400"/>
                  <a:ext cx="482040" cy="53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M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Line 10"/>
                <p:cNvSpPr/>
                <p:nvPr/>
              </p:nvSpPr>
              <p:spPr>
                <a:xfrm flipV="1">
                  <a:off x="2723040" y="4570920"/>
                  <a:ext cx="48096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4" name="Line 11"/>
              <p:cNvSpPr/>
              <p:nvPr/>
            </p:nvSpPr>
            <p:spPr>
              <a:xfrm>
                <a:off x="2955240" y="4073400"/>
                <a:ext cx="1800" cy="25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05" name="Line 12"/>
              <p:cNvSpPr/>
              <p:nvPr/>
            </p:nvSpPr>
            <p:spPr>
              <a:xfrm>
                <a:off x="2957040" y="4863960"/>
                <a:ext cx="0" cy="2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Group 13"/>
            <p:cNvGrpSpPr/>
            <p:nvPr/>
          </p:nvGrpSpPr>
          <p:grpSpPr>
            <a:xfrm>
              <a:off x="3546720" y="4074120"/>
              <a:ext cx="481680" cy="1046520"/>
              <a:chOff x="3546720" y="4074120"/>
              <a:chExt cx="481680" cy="1046520"/>
            </a:xfrm>
          </p:grpSpPr>
          <p:grpSp>
            <p:nvGrpSpPr>
              <p:cNvPr id="107" name="Group 14"/>
              <p:cNvGrpSpPr/>
              <p:nvPr/>
            </p:nvGrpSpPr>
            <p:grpSpPr>
              <a:xfrm>
                <a:off x="3546720" y="4322880"/>
                <a:ext cx="481680" cy="538200"/>
                <a:chOff x="3546720" y="4322880"/>
                <a:chExt cx="481680" cy="53820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3546720" y="4322880"/>
                  <a:ext cx="481680" cy="538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M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Line 16"/>
                <p:cNvSpPr/>
                <p:nvPr/>
              </p:nvSpPr>
              <p:spPr>
                <a:xfrm flipV="1">
                  <a:off x="3546720" y="4573800"/>
                  <a:ext cx="480960" cy="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Line 17"/>
              <p:cNvSpPr/>
              <p:nvPr/>
            </p:nvSpPr>
            <p:spPr>
              <a:xfrm>
                <a:off x="3779640" y="40741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11" name="Line 18"/>
              <p:cNvSpPr/>
              <p:nvPr/>
            </p:nvSpPr>
            <p:spPr>
              <a:xfrm>
                <a:off x="3779640" y="4866840"/>
                <a:ext cx="180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grpSp>
          <p:nvGrpSpPr>
            <p:cNvPr id="112" name="Group 19"/>
            <p:cNvGrpSpPr/>
            <p:nvPr/>
          </p:nvGrpSpPr>
          <p:grpSpPr>
            <a:xfrm>
              <a:off x="4370040" y="4074120"/>
              <a:ext cx="482040" cy="1046520"/>
              <a:chOff x="4370040" y="4074120"/>
              <a:chExt cx="482040" cy="1046520"/>
            </a:xfrm>
          </p:grpSpPr>
          <p:grpSp>
            <p:nvGrpSpPr>
              <p:cNvPr id="113" name="Group 20"/>
              <p:cNvGrpSpPr/>
              <p:nvPr/>
            </p:nvGrpSpPr>
            <p:grpSpPr>
              <a:xfrm>
                <a:off x="4370040" y="4322880"/>
                <a:ext cx="482040" cy="538200"/>
                <a:chOff x="4370040" y="4322880"/>
                <a:chExt cx="482040" cy="538200"/>
              </a:xfrm>
            </p:grpSpPr>
            <p:sp>
              <p:nvSpPr>
                <p:cNvPr id="114" name="Rectangle 21"/>
                <p:cNvSpPr/>
                <p:nvPr/>
              </p:nvSpPr>
              <p:spPr>
                <a:xfrm>
                  <a:off x="4370040" y="4322880"/>
                  <a:ext cx="482040" cy="538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M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Line 22"/>
                <p:cNvSpPr/>
                <p:nvPr/>
              </p:nvSpPr>
              <p:spPr>
                <a:xfrm flipV="1">
                  <a:off x="4370040" y="4573800"/>
                  <a:ext cx="481320" cy="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6" name="Line 23"/>
              <p:cNvSpPr/>
              <p:nvPr/>
            </p:nvSpPr>
            <p:spPr>
              <a:xfrm>
                <a:off x="4602960" y="40741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17" name="Line 24"/>
              <p:cNvSpPr/>
              <p:nvPr/>
            </p:nvSpPr>
            <p:spPr>
              <a:xfrm>
                <a:off x="4602960" y="4866840"/>
                <a:ext cx="180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grpSp>
          <p:nvGrpSpPr>
            <p:cNvPr id="118" name="Group 25"/>
            <p:cNvGrpSpPr/>
            <p:nvPr/>
          </p:nvGrpSpPr>
          <p:grpSpPr>
            <a:xfrm>
              <a:off x="5193720" y="4074840"/>
              <a:ext cx="482040" cy="1046520"/>
              <a:chOff x="5193720" y="4074840"/>
              <a:chExt cx="482040" cy="1046520"/>
            </a:xfrm>
          </p:grpSpPr>
          <p:grpSp>
            <p:nvGrpSpPr>
              <p:cNvPr id="119" name="Group 26"/>
              <p:cNvGrpSpPr/>
              <p:nvPr/>
            </p:nvGrpSpPr>
            <p:grpSpPr>
              <a:xfrm>
                <a:off x="5193720" y="4326840"/>
                <a:ext cx="482040" cy="532080"/>
                <a:chOff x="5193720" y="4326840"/>
                <a:chExt cx="482040" cy="532080"/>
              </a:xfrm>
            </p:grpSpPr>
            <p:sp>
              <p:nvSpPr>
                <p:cNvPr id="120" name="Rectangle 27"/>
                <p:cNvSpPr/>
                <p:nvPr/>
              </p:nvSpPr>
              <p:spPr>
                <a:xfrm>
                  <a:off x="5193720" y="4326840"/>
                  <a:ext cx="482040" cy="532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ffb800"/>
                    </a:solidFill>
                    <a:latin typeface="Comic Sans MS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M</a:t>
                  </a:r>
                  <a:endParaRPr b="0" lang="en-US" sz="12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Line 28"/>
                <p:cNvSpPr/>
                <p:nvPr/>
              </p:nvSpPr>
              <p:spPr>
                <a:xfrm flipV="1">
                  <a:off x="5193720" y="4572360"/>
                  <a:ext cx="48132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b8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2" name="Line 29"/>
              <p:cNvSpPr/>
              <p:nvPr/>
            </p:nvSpPr>
            <p:spPr>
              <a:xfrm>
                <a:off x="5426640" y="4074840"/>
                <a:ext cx="0" cy="25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  <p:sp>
            <p:nvSpPr>
              <p:cNvPr id="123" name="Line 30"/>
              <p:cNvSpPr/>
              <p:nvPr/>
            </p:nvSpPr>
            <p:spPr>
              <a:xfrm>
                <a:off x="5426640" y="4865400"/>
                <a:ext cx="1800" cy="2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b800"/>
                  </a:solidFill>
                  <a:latin typeface="Comic Sans MS"/>
                </a:endParaRPr>
              </a:p>
            </p:txBody>
          </p:sp>
        </p:grpSp>
        <p:sp>
          <p:nvSpPr>
            <p:cNvPr id="124" name="Line 31"/>
            <p:cNvSpPr/>
            <p:nvPr/>
          </p:nvSpPr>
          <p:spPr>
            <a:xfrm flipV="1">
              <a:off x="2928960" y="4070160"/>
              <a:ext cx="2511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>
              <a:off x="4205520" y="3770640"/>
              <a:ext cx="144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sp>
          <p:nvSpPr>
            <p:cNvPr id="126" name="Rectangle 33"/>
            <p:cNvSpPr/>
            <p:nvPr/>
          </p:nvSpPr>
          <p:spPr>
            <a:xfrm>
              <a:off x="3271320" y="5806800"/>
              <a:ext cx="19371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hared Memory</a:t>
              </a:r>
              <a:endParaRPr b="0" lang="en-US" sz="1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  <p:sp>
          <p:nvSpPr>
            <p:cNvPr id="127" name="Line 34"/>
            <p:cNvSpPr/>
            <p:nvPr/>
          </p:nvSpPr>
          <p:spPr>
            <a:xfrm>
              <a:off x="4233960" y="55018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b8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29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CF9-981D-4A56-9FE1-495FB160391C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C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发读并发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PRAM-CRCW(Common PRAM-CRCW)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：仅允许写入相同数据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PRAM-CRCW(Priority PRAM-CRCW)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：仅允许优先级最高的处理器写入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RAM-CRCW(Arbitrary PRAM-CRCW)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：允许任意处理器自由写入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发读互斥写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E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互斥读互斥写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计算能力比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C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是最强的计算模型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E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可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倍模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EW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M-CRCW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5"/>
              <p:cNvSpPr txBox="1"/>
              <p:nvPr/>
            </p:nvSpPr>
            <p:spPr>
              <a:xfrm>
                <a:off x="0" y="0"/>
                <a:ext cx="140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REW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EW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C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Rectangle 3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7"/>
              <p:cNvSpPr txBox="1"/>
              <p:nvPr/>
            </p:nvSpPr>
            <p:spPr>
              <a:xfrm>
                <a:off x="1536840" y="5229360"/>
                <a:ext cx="23875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REW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EW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C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Rectangle 4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9"/>
              <p:cNvSpPr txBox="1"/>
              <p:nvPr/>
            </p:nvSpPr>
            <p:spPr>
              <a:xfrm>
                <a:off x="1476360" y="5727600"/>
                <a:ext cx="42372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R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EW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CW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39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E5AF-5764-413F-920C-F0A5E89D8269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3720"/>
            <a:ext cx="80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适合并行算法表示和复杂性分析，易于使用，隐藏了并行机的通讯、同步等细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不适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MD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并行机，忽略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的竞争、通讯延迟等因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41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二篇 并行算法的设计</a:t>
            </a:r>
            <a:br>
              <a:rPr sz="4400"/>
            </a:br>
            <a:r>
              <a:rPr b="0" lang="zh-CN" sz="3600" spc="-1" strike="noStrike">
                <a:solidFill>
                  <a:srgbClr val="003399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五章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六章 并行算法基本设计策略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七章 并行算法常用设计技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八章 并行算法一般设计过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2.1 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2.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异步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APRAM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BS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log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4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B5BB-E797-4BF1-AA0E-51B561FAB281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异步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593720"/>
            <a:ext cx="805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又称分相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ase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MD-S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。每个处理器有其局部存储器、局部时钟、局部程序；无全局时钟，各处理器异步执行；处理器通过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进行通讯；处理器间依赖关系，需在并行程序中显式地加入同步路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指令类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全局读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全局写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局部操作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同步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8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BC8D-C401-46D3-AE1D-AB73ADC61118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异步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756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计算过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由同步障分开的全局相组成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5378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53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8E43-1F25-48B1-8AA5-1B56C023013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异步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RAM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593720"/>
            <a:ext cx="805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计算时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设局部操作为单位时间；全局读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写平均时间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随着处理器数目的增加而增加；同步路障时间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=B(p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非降函数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满足关系                    ；                             或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令    为全局相内各处理器执行时间最长者，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RA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上的计算时间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优缺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易编程和分析算法的复杂度，但与现实相差较远，其上并行算法非常有限，也不适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-DM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模型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2268360" y="2968560"/>
                <a:ext cx="1432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8"/>
          <p:cNvSpPr/>
          <p:nvPr/>
        </p:nvSpPr>
        <p:spPr>
          <a:xfrm>
            <a:off x="3862800" y="298368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endParaRPr b="0" lang="en-US" sz="10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3924360" y="2978280"/>
                <a:ext cx="21700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6516720" y="2975040"/>
                <a:ext cx="16952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log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0"/>
              <p:cNvSpPr txBox="1"/>
              <p:nvPr/>
            </p:nvSpPr>
            <p:spPr>
              <a:xfrm>
                <a:off x="1403280" y="3284640"/>
                <a:ext cx="3081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8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2"/>
              <p:cNvSpPr txBox="1"/>
              <p:nvPr/>
            </p:nvSpPr>
            <p:spPr>
              <a:xfrm>
                <a:off x="2637000" y="3755880"/>
                <a:ext cx="2727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同步障次数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2.1 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异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A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2.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BSP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log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67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3D10-B5ED-46DC-9116-1E68B59439E0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593720"/>
            <a:ext cx="805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iant(1990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提出的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同步模型，是一种异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MD-DM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模型，支持消息传递系统，块内异步并行，块间显式同步。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模型参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：处理器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带有存储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：同步障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arrier synchronization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：带宽因子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ime steps/packet)=1/bandwid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4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6347-0170-47EE-9CC8-D3C52FA0D3DD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449360"/>
            <a:ext cx="7923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计算过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由若干超级步组成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每个超级步计算模式为左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优缺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强调了计算和通讯的分离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提供了一个编程环境，易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程序复杂性分析。但需要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式同步机制，限制至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消息的传递等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4838760" y="1628640"/>
          <a:ext cx="405432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8760" y="1628640"/>
                    <a:ext cx="40543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2.1 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异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APR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BS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模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2.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logP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模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C03D-6D20-4D95-89DF-5F0885478250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593720"/>
            <a:ext cx="805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基本概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ller(1993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年提出的，是一种分布存储的、点到点通讯的多处理机模型，其中通讯由一组参数描述，实行隐式同步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模型参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lat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i="1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i="1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p=1/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zh-CN" sz="24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process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注：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反映了通讯网络的容量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49DA-292F-4E55-967E-1B0FC049D063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模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593360"/>
            <a:ext cx="8055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优缺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捕捉了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C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的通讯瓶颈，隐藏了并行机的网络拓扑、路由、协议，可以应用到共享存储、消息传递、数据并行的编程模型中；但难以进行算法描述、设计和分析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SP vs. Lo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块同步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子集同步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进程对同步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可以常数因子模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可以对数因子模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+Barriers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提供了更方便的程设环境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更好地利用了机器资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S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似乎更简单、方便和符合结构化编程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1.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并行算法的定义和分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表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复杂性度量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中的同步和通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F81B-A21E-464F-970A-1BFD7C25A6C8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593360"/>
            <a:ext cx="8055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ity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介绍陈国良老师的关于“三层并行计算模型”论文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并讨论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 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6(4.6),  5.7(4.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3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BB0E-A45E-48F5-A5C6-04D978EBEDAF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定义和分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并行算法的定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算法：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Comic Sans MS"/>
              </a:rPr>
              <a:t>并行算法：一些可同时执行的诸进程的集合，这些进程互相作用和协调动作从而达到给定问题的求解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并行算法的分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Comic Sans MS"/>
              </a:rPr>
              <a:t>数值计算和非数值计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Comic Sans MS"/>
              </a:rPr>
              <a:t>同步算法和异步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Comic Sans MS"/>
              </a:rPr>
              <a:t>分布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Comic Sans MS"/>
              </a:rPr>
              <a:t>确定算法和随机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1.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定义和分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1.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并行算法的表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复杂性度量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中的同步和通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8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A75A-737D-4F5E-8C20-55BD9229868B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表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描述语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可以使用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ol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、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cal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等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在描述语言中引入并行语句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并行语句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-do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i=1 to n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all Pi, where 0</a:t>
            </a: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≤i≤k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 for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五章 并行算法与并行计算模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算法的基础知识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.1.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定义和分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的表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5.1.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并行算法的复杂性度量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行算法中的同步和通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5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并行计算模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3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1FEC-1D28-4F4E-9F55-B49BBF376B25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复杂性度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串行算法的复杂性度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最坏情况下的复杂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orst-Case Complex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期望复杂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ected Complex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并行算法的几个复杂性度量指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运行时间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(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包含计算时间和通讯时间，分别用计算时间步和选路时间步作单位。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为问题实例的输入规模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处理器数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并行算法成本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(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c(n)=t(n)p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成本最优性：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(n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等于在最坏情形下串行算法所需要的时间，则并行算法是成本最优的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总运算量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(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并行算法求解问题时所完成的总的操作步数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3"/>
          <p:cNvSpPr/>
          <p:nvPr/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7" name="灯片编号占位符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F34F-20E5-46A8-9D75-D55FD587BAC2}" type="slidenum">
              <a:rPr b="0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ffb8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并行算法的复杂性度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nt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(n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是某并行算法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在运行时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n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内所执行的运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量，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使用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台处理器可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n)=O(W(n)/p+T(n))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内执行完毕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注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揭示了并行算法工作量和运行时间的关系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提供了并行算法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T(Work-Tim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表示方法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告诉我们：设计并行算法时应尽可能将每个时间步的工作量均匀地分摊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台处理器，使各处理器处于活跃状态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45:54Z</dcterms:modified>
  <cp:revision>53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