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7EBA-9A62-4DA6-9A85-634C803E2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9E72-034F-4F39-B598-845FCA6AB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CF5C-CA52-4F91-BD4E-856C7CB51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EB04-3CAB-4F43-848E-A80904756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C697-29F1-4052-AB64-A85F482A5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8B39-4136-4428-B8C1-CE4A4B639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53EB-7B19-44F0-82BE-31B1ADE3D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8B86-5826-4227-BBDC-296196AE1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E8B4-2D64-4A54-A37F-E90C7FAF9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ADFC-6335-451D-9FCE-F392584B5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9370-D34D-4F3E-B672-E361E6CBF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D95F-986D-41FE-8698-DCA06B74E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80B-A3DE-4AA0-B826-9B3588DBD96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51D-7A90-45FC-9F97-1D15700E9BB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对数划分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780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logn+1..ilog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1~n/lo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的对数划分并行归并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过程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设有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[1..m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[i]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的位序，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小于等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log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元素个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(4,6,7,10,12,15,18,20), B=(3,9,16,21)  n=8, m=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&gt;logm=log4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&gt; j[1]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log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=rank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A)=rank(9:A)=3, j[2]=…=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3,   9          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16,   2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4,  6,  7     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  10,  12,  15,   18,   2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归并化为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(A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,  B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(A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,  B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cc0066"/>
                </a:solidFill>
                <a:latin typeface="Comic Sans MS"/>
              </a:rPr>
              <a:t>的归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87" name="Object 12"/>
          <p:cNvGraphicFramePr/>
          <p:nvPr/>
        </p:nvGraphicFramePr>
        <p:xfrm>
          <a:off x="826920" y="2708280"/>
          <a:ext cx="769644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08280"/>
                    <a:ext cx="769644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2BF-604C-45E1-BEB6-AEF2689D293A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80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分成等长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组，每组满足某种特性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, 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选择问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中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最小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功能划分：要求每组元素个数必须大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94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Comic Sans MS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输入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;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输出：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最小者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功能划分：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=n/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，每组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局部排序：使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网络将各组并行进行排序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两两比较：将所排序的各组两两进行比较，从而形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序列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比较：对各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序列，重复执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步，直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最小者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BDF-5E50-4FD7-91BC-2F4C2097514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功能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1995480" y="1589040"/>
          <a:ext cx="459252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589040"/>
                    <a:ext cx="459252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2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分治设计步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双调归并网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751-C7A5-4324-AFD6-B81F90D7B9D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分治设计步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12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输入划分成若干个规模相等的子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同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并行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递归求解这些子问题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并行地归并子问题的解，直至得到原问题的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分治设计步骤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2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双调归并网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5AF-CC3F-4DFB-86AC-986F6A45485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410840"/>
            <a:ext cx="8282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195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定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,3,5,7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6,4,2,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,7,6,4,2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1,3,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,2,3,4,5,6,7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以上都是双调序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定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给定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对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min{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和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max{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则小数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和大数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)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(1≤i, j≤n)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小数和大数序列仍是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双调的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70C-B471-4949-8213-B1D216E68B1E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4,4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双调归并网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111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240" y="1166760"/>
            <a:ext cx="8204040" cy="42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七章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常用设计技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八章 并行算法一般设计过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5D0-7E49-447F-B22D-52892056312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双调归并网络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tch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双调归并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双调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非降有序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=(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dure BITONIC_MERG(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i=0 to n/2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.1)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min{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.2)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max{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+n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Recursive Cal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.1)BITONIC_MERG(MIN=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…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/2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.2)BITONIC_MERG(MIN=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…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/2-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3)output sequence MIN followed by sequence MA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E97A-FA50-4A8A-A646-C59EF671A20E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平衡树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200" y="1410840"/>
            <a:ext cx="777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树的叶结点为输入，中间结点为处理结点，由叶向根或由根向叶逐层进行并行处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求最大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计算前缀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7D16-4E30-4204-B825-A1CF2ECFC14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最大值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8:  SIMD-TC(SM)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上求最大值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k=m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j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j]=max{A[2j], A[2j+1]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图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时间分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n)=m×O(1)=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n)=n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3348000" y="1844640"/>
            <a:ext cx="5705640" cy="3166920"/>
            <a:chOff x="3348000" y="1844640"/>
            <a:chExt cx="5705640" cy="3166920"/>
          </a:xfrm>
        </p:grpSpPr>
        <p:grpSp>
          <p:nvGrpSpPr>
            <p:cNvPr id="144" name="Group 8"/>
            <p:cNvGrpSpPr/>
            <p:nvPr/>
          </p:nvGrpSpPr>
          <p:grpSpPr>
            <a:xfrm>
              <a:off x="3348000" y="1844640"/>
              <a:ext cx="5705640" cy="3166920"/>
              <a:chOff x="3348000" y="1844640"/>
              <a:chExt cx="5705640" cy="3166920"/>
            </a:xfrm>
          </p:grpSpPr>
          <p:sp>
            <p:nvSpPr>
              <p:cNvPr id="145" name="Rectangle 9"/>
              <p:cNvSpPr/>
              <p:nvPr/>
            </p:nvSpPr>
            <p:spPr>
              <a:xfrm>
                <a:off x="5803920" y="18446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6" name="Line 10"/>
              <p:cNvSpPr/>
              <p:nvPr/>
            </p:nvSpPr>
            <p:spPr>
              <a:xfrm flipH="1">
                <a:off x="4849560" y="2912760"/>
                <a:ext cx="369720" cy="3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7" name="Line 11"/>
              <p:cNvSpPr/>
              <p:nvPr/>
            </p:nvSpPr>
            <p:spPr>
              <a:xfrm flipH="1">
                <a:off x="5541840" y="2208240"/>
                <a:ext cx="36972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8" name="Line 12"/>
              <p:cNvSpPr/>
              <p:nvPr/>
            </p:nvSpPr>
            <p:spPr>
              <a:xfrm flipH="1">
                <a:off x="4219560" y="3560760"/>
                <a:ext cx="37008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49" name="Line 13"/>
              <p:cNvSpPr/>
              <p:nvPr/>
            </p:nvSpPr>
            <p:spPr>
              <a:xfrm flipH="1">
                <a:off x="3600360" y="4201920"/>
                <a:ext cx="3697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 flipH="1">
                <a:off x="4695840" y="4201920"/>
                <a:ext cx="37008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 flipH="1">
                <a:off x="6205320" y="4233600"/>
                <a:ext cx="36828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 flipH="1">
                <a:off x="6711840" y="3565440"/>
                <a:ext cx="3697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 flipH="1">
                <a:off x="7358040" y="4232160"/>
                <a:ext cx="370080" cy="38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4" name="Line 18"/>
              <p:cNvSpPr/>
              <p:nvPr/>
            </p:nvSpPr>
            <p:spPr>
              <a:xfrm flipH="1" flipV="1">
                <a:off x="6048360" y="2248920"/>
                <a:ext cx="35424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5" name="Line 19"/>
              <p:cNvSpPr/>
              <p:nvPr/>
            </p:nvSpPr>
            <p:spPr>
              <a:xfrm flipH="1" flipV="1">
                <a:off x="4681440" y="3558960"/>
                <a:ext cx="3538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 flipH="1" flipV="1">
                <a:off x="5172120" y="42447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 flipH="1" flipV="1">
                <a:off x="4092480" y="4219560"/>
                <a:ext cx="3538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8" name="Line 22"/>
              <p:cNvSpPr/>
              <p:nvPr/>
            </p:nvSpPr>
            <p:spPr>
              <a:xfrm flipH="1" flipV="1">
                <a:off x="6742080" y="291780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H="1" flipV="1">
                <a:off x="7326360" y="353052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H="1" flipV="1">
                <a:off x="7834320" y="42321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 flipH="1" flipV="1">
                <a:off x="6680160" y="4244760"/>
                <a:ext cx="35424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2" name="Line 26"/>
              <p:cNvSpPr/>
              <p:nvPr/>
            </p:nvSpPr>
            <p:spPr>
              <a:xfrm>
                <a:off x="5634000" y="4697280"/>
                <a:ext cx="554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3" name="Line 27"/>
              <p:cNvSpPr/>
              <p:nvPr/>
            </p:nvSpPr>
            <p:spPr>
              <a:xfrm>
                <a:off x="5618160" y="4097160"/>
                <a:ext cx="554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4" name="Line 28"/>
              <p:cNvSpPr/>
              <p:nvPr/>
            </p:nvSpPr>
            <p:spPr>
              <a:xfrm>
                <a:off x="5648400" y="3411360"/>
                <a:ext cx="554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5" name="Line 29"/>
              <p:cNvSpPr/>
              <p:nvPr/>
            </p:nvSpPr>
            <p:spPr>
              <a:xfrm>
                <a:off x="5634000" y="2798640"/>
                <a:ext cx="55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6" name="Rectangle 30"/>
              <p:cNvSpPr/>
              <p:nvPr/>
            </p:nvSpPr>
            <p:spPr>
              <a:xfrm>
                <a:off x="4573800" y="321768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4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7" name="Rectangle 31"/>
              <p:cNvSpPr/>
              <p:nvPr/>
            </p:nvSpPr>
            <p:spPr>
              <a:xfrm>
                <a:off x="7021440" y="321768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8" name="Rectangle 32"/>
              <p:cNvSpPr/>
              <p:nvPr/>
            </p:nvSpPr>
            <p:spPr>
              <a:xfrm>
                <a:off x="3924360" y="38653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69" name="Rectangle 33"/>
              <p:cNvSpPr/>
              <p:nvPr/>
            </p:nvSpPr>
            <p:spPr>
              <a:xfrm>
                <a:off x="4932360" y="38653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/2+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0" name="Rectangle 34"/>
              <p:cNvSpPr/>
              <p:nvPr/>
            </p:nvSpPr>
            <p:spPr>
              <a:xfrm>
                <a:off x="6445440" y="38653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-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1" name="Rectangle 35"/>
              <p:cNvSpPr/>
              <p:nvPr/>
            </p:nvSpPr>
            <p:spPr>
              <a:xfrm>
                <a:off x="7542360" y="3825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2" name="Rectangle 36"/>
              <p:cNvSpPr/>
              <p:nvPr/>
            </p:nvSpPr>
            <p:spPr>
              <a:xfrm>
                <a:off x="334800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3" name="Rectangle 37"/>
              <p:cNvSpPr/>
              <p:nvPr/>
            </p:nvSpPr>
            <p:spPr>
              <a:xfrm>
                <a:off x="414036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4" name="Rectangle 38"/>
              <p:cNvSpPr/>
              <p:nvPr/>
            </p:nvSpPr>
            <p:spPr>
              <a:xfrm>
                <a:off x="451800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5" name="Rectangle 39"/>
              <p:cNvSpPr/>
              <p:nvPr/>
            </p:nvSpPr>
            <p:spPr>
              <a:xfrm>
                <a:off x="529272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n+3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6" name="Rectangle 40"/>
              <p:cNvSpPr/>
              <p:nvPr/>
            </p:nvSpPr>
            <p:spPr>
              <a:xfrm>
                <a:off x="6029280" y="45464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4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7" name="Rectangle 41"/>
              <p:cNvSpPr/>
              <p:nvPr/>
            </p:nvSpPr>
            <p:spPr>
              <a:xfrm>
                <a:off x="673272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3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8" name="Rectangle 42"/>
              <p:cNvSpPr/>
              <p:nvPr/>
            </p:nvSpPr>
            <p:spPr>
              <a:xfrm>
                <a:off x="718200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79" name="Rectangle 43"/>
              <p:cNvSpPr/>
              <p:nvPr/>
            </p:nvSpPr>
            <p:spPr>
              <a:xfrm>
                <a:off x="7956720" y="454644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n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0" name="Rectangle 44"/>
              <p:cNvSpPr/>
              <p:nvPr/>
            </p:nvSpPr>
            <p:spPr>
              <a:xfrm>
                <a:off x="8172720" y="3862080"/>
                <a:ext cx="88092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m-1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1" name="Rectangle 45"/>
              <p:cNvSpPr/>
              <p:nvPr/>
            </p:nvSpPr>
            <p:spPr>
              <a:xfrm>
                <a:off x="8155080" y="321300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m-2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2" name="Rectangle 46"/>
              <p:cNvSpPr/>
              <p:nvPr/>
            </p:nvSpPr>
            <p:spPr>
              <a:xfrm>
                <a:off x="8155080" y="1917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K=0</a:t>
                </a:r>
                <a:endParaRPr b="0" lang="en-US" sz="1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3" name="Line 47"/>
              <p:cNvSpPr/>
              <p:nvPr/>
            </p:nvSpPr>
            <p:spPr>
              <a:xfrm>
                <a:off x="8460000" y="249372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sp>
          <p:nvSpPr>
            <p:cNvPr id="184" name="Rectangle 48"/>
            <p:cNvSpPr/>
            <p:nvPr/>
          </p:nvSpPr>
          <p:spPr>
            <a:xfrm>
              <a:off x="5562720" y="1917720"/>
              <a:ext cx="8809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18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grpSp>
          <p:nvGrpSpPr>
            <p:cNvPr id="185" name="Group 49"/>
            <p:cNvGrpSpPr/>
            <p:nvPr/>
          </p:nvGrpSpPr>
          <p:grpSpPr>
            <a:xfrm>
              <a:off x="3619440" y="3933720"/>
              <a:ext cx="4426200" cy="465120"/>
              <a:chOff x="3619440" y="3933720"/>
              <a:chExt cx="4426200" cy="465120"/>
            </a:xfrm>
          </p:grpSpPr>
          <p:sp>
            <p:nvSpPr>
              <p:cNvPr id="186" name="Rectangle 50"/>
              <p:cNvSpPr/>
              <p:nvPr/>
            </p:nvSpPr>
            <p:spPr>
              <a:xfrm>
                <a:off x="361944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7" name="Rectangle 51"/>
              <p:cNvSpPr/>
              <p:nvPr/>
            </p:nvSpPr>
            <p:spPr>
              <a:xfrm>
                <a:off x="4627800" y="3933720"/>
                <a:ext cx="8809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8" name="Rectangle 52"/>
              <p:cNvSpPr/>
              <p:nvPr/>
            </p:nvSpPr>
            <p:spPr>
              <a:xfrm>
                <a:off x="606744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89" name="Rectangle 53"/>
              <p:cNvSpPr/>
              <p:nvPr/>
            </p:nvSpPr>
            <p:spPr>
              <a:xfrm>
                <a:off x="7164360" y="393372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90" name="Group 54"/>
            <p:cNvGrpSpPr/>
            <p:nvPr/>
          </p:nvGrpSpPr>
          <p:grpSpPr>
            <a:xfrm>
              <a:off x="4211640" y="3324240"/>
              <a:ext cx="3240360" cy="498240"/>
              <a:chOff x="4211640" y="3324240"/>
              <a:chExt cx="3240360" cy="498240"/>
            </a:xfrm>
          </p:grpSpPr>
          <p:sp>
            <p:nvSpPr>
              <p:cNvPr id="191" name="Rectangle 55"/>
              <p:cNvSpPr/>
              <p:nvPr/>
            </p:nvSpPr>
            <p:spPr>
              <a:xfrm>
                <a:off x="4211640" y="332424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92" name="Rectangle 56"/>
              <p:cNvSpPr/>
              <p:nvPr/>
            </p:nvSpPr>
            <p:spPr>
              <a:xfrm>
                <a:off x="6570720" y="3357360"/>
                <a:ext cx="88128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n/2-1</a:t>
                </a:r>
                <a:endParaRPr b="0" lang="en-US" sz="18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FB2-15A1-415C-8E8A-D6ABFAB5144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最大值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500120"/>
            <a:ext cx="8497800" cy="4395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D-CRCW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上常数时间求最大值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D-CRCW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上枚举算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1..p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不同元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B[1..p][1..p],M[1..p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为中间处理用的布尔数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[i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i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为最大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1≤i, j≤p par-do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工作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p2);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时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1)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因为允许同时读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[i]≥A[j] then B[i, j]=1 else B[i, j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for 1≤i≤p par-do   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工作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p2);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时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(1),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因为允许同时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[i]=B[i,1]∧ B[i,2]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∧B[i,p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5292720" y="51181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T(n)=O(1)   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(n)=O(p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  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可以用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个处理器实现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 marL="203040" indent="-2030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速度虽快，但不是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T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最优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最大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3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计算前缀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52A-F149-420F-AD9B-EC9B2564506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0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前缀和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部分和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…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1≤i≤n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这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可以是＋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串行算法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omic Sans MS"/>
              </a:rPr>
              <a:t>－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计算时间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(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并行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199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9 SIMD-TC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上非递归算法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i]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=1~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h,j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[h,j]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辅助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=0~logn, j=1~n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录由叶到根正向遍历树中各结点的信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数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记录由根到叶反向遍历树中各结点的信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播送前缀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75B-5941-4A64-8E59-CDC85B26692C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064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例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=8, p=8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前缀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210" name="Picture 170" descr=""/>
          <p:cNvPicPr/>
          <p:nvPr/>
        </p:nvPicPr>
        <p:blipFill>
          <a:blip r:embed="rId1"/>
          <a:stretch/>
        </p:blipFill>
        <p:spPr>
          <a:xfrm>
            <a:off x="179280" y="1954080"/>
            <a:ext cx="87854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691-6142-4E27-AF35-18FE5A5A6F7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计算前缀和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174920" cy="3708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D-S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非递归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for j=1 to n par-do 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[0,j]=A[j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for h=1 to logn do   //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正向遍历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j=1 to n/2h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[h,j]=B[h-1,2j-1]*B[h-1,2j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340000" y="4975200"/>
            <a:ext cx="53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分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 O(1)    (2) O(logn)    (3) O(logn)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=&gt; t(n)=O(logn) ,  p(n)=n ,   c(n)=O(nlogn)</a:t>
            </a:r>
            <a:endParaRPr b="0" lang="en-US" sz="18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780000" y="1427040"/>
            <a:ext cx="5400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3)for h=logn to 0 do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反向遍历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for j=1 to n/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Gulim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par-do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)  if j=even then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其父结点的右儿子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j]=C[h+1,j/2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i) if j=1 then     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最左结点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1]=B[h,1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(iii) if j=odd&gt;1 then   /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该结点为其父结点的左儿子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[h,j]=C[h+1,(j-1)/2]*B[h,j]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if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for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 for 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nd</a:t>
            </a:r>
            <a:endParaRPr b="0" lang="en-US" sz="16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154480" y="1442880"/>
            <a:ext cx="37418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216-E756-4D8E-9C7A-9ACFBAA8DB6E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倍增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2560" y="1410840"/>
            <a:ext cx="78249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又称指针跳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er jumping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技术，特别适合于处理链表或有向树之类的数据结构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当递归调用时，所要处理数据之间的距离逐步加倍，经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步后即可完成距离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所有数据的计算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表序问题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求森林的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F52-D5A1-42E9-A36B-3285F53F2DA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表序问题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元素的列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求出每个元素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中的次第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秩或位序或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k(k)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k(k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可视为元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至表尾的距离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=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p[a]=b, p[b]=c, p[c]=d, p[d]=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[e]=f, p[f]=g, 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r[b]=r[c]=r[d]=r[e]=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2)p[a]=c, p[b]=d, p[c]=e, p[d]=f, 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r[b]=r[c]=r[d]=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3)p[a]=e, p[b]=f, p[c]=p[d]=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4, r[b]=4, r[c]=4, r[d]=3, 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4)p[a]=p[b]=p[c]=p[d]=p[e]=p[f]=p[g]=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r[a]=6, r[b]=5, r[c]=4, r[d]=3, r[e]=2, r[f]=1, r[g]=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32" name="Object 6"/>
          <p:cNvGraphicFramePr/>
          <p:nvPr/>
        </p:nvGraphicFramePr>
        <p:xfrm>
          <a:off x="4753080" y="1473120"/>
          <a:ext cx="4211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3080" y="1473120"/>
                    <a:ext cx="4211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5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84E-A2D9-4589-BC07-D9478436079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表序问题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算法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00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做：初始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k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ance[k]                            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执行              次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地做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后继不等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后继之后继，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  distance[k]= distance[k]+ distance[p[k]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i) p[k]=p[p[k]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地做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k[k]=distance[k]                                     //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运行时间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n)=O(logn)     p(n)=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835280" y="2381400"/>
                <a:ext cx="776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表序问题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4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求森林的根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3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B35E-D461-4634-9D3F-6823AB1D732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森林的根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94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一组有向树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i, j&gt;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中的一条弧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[i]=j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双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；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为根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[i]=i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求每个结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(j=1~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树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[j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初始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1]=p[2]=5   p[3]=p[4]=p[5]=6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6]=p[7]=8   p[8]=8  P[9]=10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[10]=11 p[11]=12  p[12]=13  p[13]=1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i]=p[i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5538960" y="3068640"/>
          <a:ext cx="3087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8960" y="3068640"/>
                    <a:ext cx="3087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04D-E365-492B-BB59-39687BA028E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求森林的根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2100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第一次迭代后            第二次迭代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20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运行时间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logn)   W(n)=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56" name="Object 8"/>
          <p:cNvGraphicFramePr/>
          <p:nvPr/>
        </p:nvGraphicFramePr>
        <p:xfrm>
          <a:off x="1619280" y="2349360"/>
          <a:ext cx="5832360" cy="28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49360"/>
                    <a:ext cx="5832360" cy="28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2 5-point DF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F859-F183-4C9A-AC35-09B6AA99EEA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流水线设计技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2200" y="1482840"/>
            <a:ext cx="7767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设计思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将算法流程划分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个前后衔接的任务片断，每个任务片断的输出作为下一个任务片断的输入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所有任务片断按同样的速率产生出结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评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流水线技术是一种广泛应用在并行处理中的技术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脉动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ystolic algorithm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其中一种流水线技术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6EB-B92F-4ECC-B8A1-D9CEB1334B3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均匀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872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，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=1~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-S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RS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均匀划分：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均匀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，每个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局部排序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调用串行排序算法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取样本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从其有序子序列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选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样本元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样本排序：用一台处理器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样本元素进行串行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5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选择主元：用一台处理器从排好序的样本序列中选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-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主元，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播送给其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6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主元划分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按主元将有序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(i-1)n/p+1..in/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成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7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全局交换：各处理器将其有序段按段号交换到对应的处理器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8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排序：各处理器对接收到的元素进行归并排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2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5-point DF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74B0-C3D5-49D9-98F4-A1AA19F8E1C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的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2200" y="1482840"/>
            <a:ext cx="7767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计算。应用秦九韶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orner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法则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755640" y="2924280"/>
                <a:ext cx="7777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8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3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4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3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4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4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E4F-5175-418B-8C92-939AE4FD64A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-point D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的计算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示例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n)=n-1, t(n)=2n-2=O(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" name="Object 11"/>
          <p:cNvGraphicFramePr/>
          <p:nvPr/>
        </p:nvGraphicFramePr>
        <p:xfrm>
          <a:off x="2313000" y="1989000"/>
          <a:ext cx="64357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3000" y="1989000"/>
                    <a:ext cx="64357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81" name="Object 13"/>
          <p:cNvGraphicFramePr/>
          <p:nvPr/>
        </p:nvGraphicFramePr>
        <p:xfrm>
          <a:off x="179280" y="4221000"/>
          <a:ext cx="2679840" cy="16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221000"/>
                    <a:ext cx="26798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198080"/>
            <a:ext cx="8204040" cy="460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设计思想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.2 5-point DF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计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5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多线程软件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多线程软件流水例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419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用多线程流水方法计算下面阵列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88" name="Rectangle 4"/>
          <p:cNvGraphicFramePr/>
          <p:nvPr/>
        </p:nvGraphicFramePr>
        <p:xfrm>
          <a:off x="1692360" y="2205000"/>
          <a:ext cx="52704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52704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Rectangle 4"/>
          <p:cNvGraphicFramePr/>
          <p:nvPr/>
        </p:nvGraphicFramePr>
        <p:xfrm>
          <a:off x="1258920" y="4076640"/>
          <a:ext cx="617076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Rectangl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076640"/>
                    <a:ext cx="61707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多线程软件流水例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419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问题描述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线程和流程设计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296" name="Rectangle 4"/>
          <p:cNvGraphicFramePr/>
          <p:nvPr/>
        </p:nvGraphicFramePr>
        <p:xfrm>
          <a:off x="971640" y="2205000"/>
          <a:ext cx="63878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05000"/>
                    <a:ext cx="63878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Rectangle 4"/>
          <p:cNvGraphicFramePr/>
          <p:nvPr/>
        </p:nvGraphicFramePr>
        <p:xfrm>
          <a:off x="1042920" y="4221000"/>
          <a:ext cx="696456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Rectangl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221000"/>
                    <a:ext cx="69645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BD0B-9FF5-4CFE-9C4D-0C7FDC4DC87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2560" y="1053720"/>
            <a:ext cx="7850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y 5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是一个大小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布尔数组，欲求出最小的下标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i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真，试设计一个常数时间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算法。如果使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，运行时间如何？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int:   1. copy A[1..n] to B[1..n]         3. for i=1 to n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for i=1 to n par-do                   if B[i]=true 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B[i]=true then                         return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j=i+1 to n par-do           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[j]=false                      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，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个处理器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时间内求出数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n]={0,…,0,1,…,1}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最先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值的下标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work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7.3(6.3), 7.6(6.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0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6153-7268-4631-9FC2-248D92F842E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均匀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92324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1 PSR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排序过程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=27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=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R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排序如下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179280" y="1773360"/>
          <a:ext cx="859644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59644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20404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七章 并行算法常用设计技术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划分设计技术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均匀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7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方根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对数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1.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功能划分技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分治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平衡树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倍增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7.5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流水线设计技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7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47F6-D89F-4939-B5DF-A38E5F65393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划分方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元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1..n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分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(i-1)n^(1/2)+1..in^(1/2)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=1~n^(1/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示例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D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上的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liant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归并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975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年发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有序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[1..p]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[1..q], (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假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&lt;=q),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器数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方根划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,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别按                                                              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间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至多             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确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应插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中的区段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段内比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相应段内元素进行比较，并插入适当的位置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递归归并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B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按插入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元重新分段，与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相应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除去原划分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构成了成对的段组，对每对段组递归执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~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直至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组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时，递归结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各组仍按              分配处理器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356000" y="206064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6012000" y="242100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3505320" y="3141720"/>
                <a:ext cx="47386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⌈"/>
                        <m:endChr m:val="⌉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和</m:t>
                    </m:r>
                    <m:r>
                      <m:t xml:space="preserve"> </m:t>
                    </m:r>
                    <m:r>
                      <m:t xml:space="preserve">j</m:t>
                    </m:r>
                    <m:d>
                      <m:dPr>
                        <m:begChr m:val="⌈"/>
                        <m:endChr m:val="⌉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  <m:r>
                      <m:rPr>
                        <m:lit/>
                        <m:nor/>
                      </m:rPr>
                      <m:t xml:space="preserve">分成若干段（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、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1"/>
              <p:cNvSpPr txBox="1"/>
              <p:nvPr/>
            </p:nvSpPr>
            <p:spPr>
              <a:xfrm>
                <a:off x="5635800" y="3500280"/>
                <a:ext cx="9522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5719680" y="5324400"/>
                <a:ext cx="8683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AB55-51EC-444A-A208-CC7AFEA6E69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71" name="Object 13"/>
          <p:cNvGraphicFramePr/>
          <p:nvPr/>
        </p:nvGraphicFramePr>
        <p:xfrm>
          <a:off x="1095480" y="1270080"/>
          <a:ext cx="739620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270080"/>
                    <a:ext cx="73962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6352-2824-4B8F-8654-5EF5D03FDCD4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方根划分技术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549360" y="1098720"/>
          <a:ext cx="777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098720"/>
                    <a:ext cx="777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8:42Z</dcterms:modified>
  <cp:revision>72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