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9.wmf" ContentType="image/x-wmf"/>
  <Override PartName="/ppt/media/image1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EE0E-FAA6-4FA3-83B2-C9D6223FD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EF6C-ECCF-4E44-92A9-02225887D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8E9B-6A36-4492-B096-723828FF9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CD34-2DEB-4E9E-A611-458B6CD8A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E717-2B30-456F-957F-C34FE571BF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7552-7BE9-4DBC-9198-85458073E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977A-14FB-4286-8316-04720A33D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5470-C9E4-4873-AC82-509DF10A7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DA60-CD16-4906-B093-0C8C4697E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1841-71D9-4DEA-81E0-F8C4FBB0F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171F-5293-469E-887D-393DB0E63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D0E2-1D10-4A73-B45B-2BB2488CB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A4AC-5191-466E-B661-7F75F0D2FFF0}" type="slidenum">
              <a:rPr b="0" lang="zh-CN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并行计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人   徐 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er, 20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棋盘划分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07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示例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6×16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种棋盘划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2100240"/>
            <a:ext cx="8351640" cy="311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052C-5C46-4060-BF26-10234C5E2D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2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棋盘划分的矩阵转置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的矩阵转置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棋盘划分的矩阵转置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网孔连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情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: p=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步                                   转置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87280" y="2516040"/>
          <a:ext cx="6662880" cy="40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6040"/>
                    <a:ext cx="666288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D2AE-F66E-452B-8A94-04E55A0AED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棋盘划分的矩阵转置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形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: p&lt;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①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mesh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接进行块转置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同处理器间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②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块内转置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一处理器内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步                                         转置后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16000" y="3236760"/>
          <a:ext cx="6408720" cy="36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36760"/>
                    <a:ext cx="640872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25760" y="1773360"/>
                <a:ext cx="35226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划分成p个大小为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子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299280" y="2066760"/>
                <a:ext cx="2305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/</m:t>
                    </m:r>
                    <m:r>
                      <m:t xml:space="preserve"> 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通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297480" y="2333520"/>
                <a:ext cx="13114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/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⋯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计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92360" y="2637000"/>
                <a:ext cx="41050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⋯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运行时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C4581-FFE5-45B2-9185-835FD150A7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棋盘划分的矩阵转置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超立方连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②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j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递归应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转置，直至分块矩阵的元素处于同一处理器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同一处理器的内部转置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行时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8400" y="2133720"/>
                <a:ext cx="33703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划分成p个大小为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子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041480" y="4797360"/>
                <a:ext cx="73468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（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rPr>
                            <m:lit/>
                            <m:nor/>
                          </m:rPr>
                          <m:t xml:space="preserve">内部转置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选路：</m:t>
                        </m:r>
                        <m:r>
                          <m:t xml:space="preserve">2</m:t>
                        </m:r>
                        <m:r>
                          <m:t xml:space="preserve">（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递归步：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（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376280" y="2852640"/>
                <a:ext cx="34117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将A</m:t>
                    </m:r>
                    <m:r>
                      <m:t xml:space="preserve">＝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转置为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B5B5-05AE-412C-856B-DA76AC3968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棋盘划分的矩阵转置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305000"/>
            <a:ext cx="384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超立方连接：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071800" y="4631400"/>
            <a:ext cx="4876200" cy="2181960"/>
            <a:chOff x="2071800" y="4631400"/>
            <a:chExt cx="4876200" cy="2181960"/>
          </a:xfrm>
        </p:grpSpPr>
        <p:sp>
          <p:nvSpPr>
            <p:cNvPr id="85" name=""/>
            <p:cNvSpPr/>
            <p:nvPr/>
          </p:nvSpPr>
          <p:spPr>
            <a:xfrm>
              <a:off x="3295440" y="5364720"/>
              <a:ext cx="385560" cy="31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70480" y="4878720"/>
              <a:ext cx="38520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94120" y="48787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88" name=""/>
            <p:cNvCxnSpPr>
              <a:stCxn id="86" idx="3"/>
              <a:endCxn id="87" idx="1"/>
            </p:cNvCxnSpPr>
            <p:nvPr/>
          </p:nvCxnSpPr>
          <p:spPr>
            <a:xfrm>
              <a:off x="3067560" y="5038560"/>
              <a:ext cx="8146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89" name=""/>
            <p:cNvSpPr/>
            <p:nvPr/>
          </p:nvSpPr>
          <p:spPr>
            <a:xfrm>
              <a:off x="2670480" y="5997600"/>
              <a:ext cx="38520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94120" y="599760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91" name=""/>
            <p:cNvCxnSpPr>
              <a:stCxn id="89" idx="3"/>
              <a:endCxn id="90" idx="1"/>
            </p:cNvCxnSpPr>
            <p:nvPr/>
          </p:nvCxnSpPr>
          <p:spPr>
            <a:xfrm>
              <a:off x="3067560" y="6157440"/>
              <a:ext cx="8146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>
              <a:stCxn id="86" idx="2"/>
              <a:endCxn id="89" idx="0"/>
            </p:cNvCxnSpPr>
            <p:nvPr/>
          </p:nvCxnSpPr>
          <p:spPr>
            <a:xfrm>
              <a:off x="2863440" y="5207760"/>
              <a:ext cx="1080" cy="780480"/>
            </a:xfrm>
            <a:prstGeom prst="straightConnector1">
              <a:avLst/>
            </a:prstGeom>
            <a:ln w="38160">
              <a:solidFill>
                <a:srgbClr val="003399"/>
              </a:solidFill>
              <a:miter/>
            </a:ln>
          </p:spPr>
        </p:cxnSp>
        <p:cxnSp>
          <p:nvCxnSpPr>
            <p:cNvPr id="93" name=""/>
            <p:cNvCxnSpPr>
              <a:stCxn id="90" idx="0"/>
              <a:endCxn id="87" idx="2"/>
            </p:cNvCxnSpPr>
            <p:nvPr/>
          </p:nvCxnSpPr>
          <p:spPr>
            <a:xfrm flipV="1">
              <a:off x="4087440" y="5207400"/>
              <a:ext cx="1080" cy="780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94" name=""/>
            <p:cNvSpPr/>
            <p:nvPr/>
          </p:nvSpPr>
          <p:spPr>
            <a:xfrm>
              <a:off x="2071800" y="5364720"/>
              <a:ext cx="385560" cy="31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95" name=""/>
            <p:cNvCxnSpPr>
              <a:stCxn id="94" idx="3"/>
              <a:endCxn id="85" idx="1"/>
            </p:cNvCxnSpPr>
            <p:nvPr/>
          </p:nvCxnSpPr>
          <p:spPr>
            <a:xfrm>
              <a:off x="2469240" y="5524560"/>
              <a:ext cx="815040" cy="108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2071800" y="64933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5440" y="64933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98" name=""/>
            <p:cNvCxnSpPr>
              <a:stCxn id="96" idx="3"/>
              <a:endCxn id="97" idx="1"/>
            </p:cNvCxnSpPr>
            <p:nvPr/>
          </p:nvCxnSpPr>
          <p:spPr>
            <a:xfrm>
              <a:off x="2469240" y="6653160"/>
              <a:ext cx="8150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9" name=""/>
            <p:cNvCxnSpPr>
              <a:stCxn id="94" idx="2"/>
              <a:endCxn id="96" idx="0"/>
            </p:cNvCxnSpPr>
            <p:nvPr/>
          </p:nvCxnSpPr>
          <p:spPr>
            <a:xfrm>
              <a:off x="2264760" y="5694840"/>
              <a:ext cx="1080" cy="789120"/>
            </a:xfrm>
            <a:prstGeom prst="straightConnector1">
              <a:avLst/>
            </a:prstGeom>
            <a:ln w="44280">
              <a:solidFill>
                <a:srgbClr val="000000"/>
              </a:solidFill>
              <a:miter/>
            </a:ln>
          </p:spPr>
        </p:cxnSp>
        <p:cxnSp>
          <p:nvCxnSpPr>
            <p:cNvPr id="100" name=""/>
            <p:cNvCxnSpPr>
              <a:stCxn id="97" idx="0"/>
              <a:endCxn id="85" idx="2"/>
            </p:cNvCxnSpPr>
            <p:nvPr/>
          </p:nvCxnSpPr>
          <p:spPr>
            <a:xfrm flipV="1">
              <a:off x="3488760" y="5694480"/>
              <a:ext cx="1080" cy="789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1" name=""/>
            <p:cNvCxnSpPr>
              <a:stCxn id="94" idx="0"/>
              <a:endCxn id="86" idx="1"/>
            </p:cNvCxnSpPr>
            <p:nvPr/>
          </p:nvCxnSpPr>
          <p:spPr>
            <a:xfrm flipV="1">
              <a:off x="2265120" y="5038200"/>
              <a:ext cx="393840" cy="316440"/>
            </a:xfrm>
            <a:prstGeom prst="straightConnector1">
              <a:avLst/>
            </a:prstGeom>
            <a:ln w="38160">
              <a:solidFill>
                <a:srgbClr val="cc0066"/>
              </a:solidFill>
              <a:miter/>
            </a:ln>
          </p:spPr>
        </p:cxnSp>
        <p:cxnSp>
          <p:nvCxnSpPr>
            <p:cNvPr id="102" name=""/>
            <p:cNvCxnSpPr>
              <a:stCxn id="85" idx="0"/>
              <a:endCxn id="87" idx="1"/>
            </p:cNvCxnSpPr>
            <p:nvPr/>
          </p:nvCxnSpPr>
          <p:spPr>
            <a:xfrm flipV="1">
              <a:off x="3489120" y="5038200"/>
              <a:ext cx="393840" cy="31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3" name=""/>
            <p:cNvCxnSpPr>
              <a:stCxn id="96" idx="0"/>
              <a:endCxn id="89" idx="1"/>
            </p:cNvCxnSpPr>
            <p:nvPr/>
          </p:nvCxnSpPr>
          <p:spPr>
            <a:xfrm flipV="1">
              <a:off x="2265120" y="6157440"/>
              <a:ext cx="393840" cy="32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4" name=""/>
            <p:cNvCxnSpPr>
              <a:stCxn id="97" idx="0"/>
              <a:endCxn id="90" idx="1"/>
            </p:cNvCxnSpPr>
            <p:nvPr/>
          </p:nvCxnSpPr>
          <p:spPr>
            <a:xfrm flipV="1">
              <a:off x="3489120" y="6157440"/>
              <a:ext cx="393840" cy="32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05" name=""/>
            <p:cNvSpPr/>
            <p:nvPr/>
          </p:nvSpPr>
          <p:spPr>
            <a:xfrm>
              <a:off x="5338440" y="48787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62440" y="48787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07" name=""/>
            <p:cNvCxnSpPr>
              <a:stCxn id="105" idx="3"/>
              <a:endCxn id="106" idx="1"/>
            </p:cNvCxnSpPr>
            <p:nvPr/>
          </p:nvCxnSpPr>
          <p:spPr>
            <a:xfrm>
              <a:off x="5735880" y="5038560"/>
              <a:ext cx="8150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08" name=""/>
            <p:cNvSpPr/>
            <p:nvPr/>
          </p:nvSpPr>
          <p:spPr>
            <a:xfrm>
              <a:off x="5338440" y="599760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62440" y="599760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10" name=""/>
            <p:cNvCxnSpPr>
              <a:stCxn id="108" idx="3"/>
              <a:endCxn id="109" idx="1"/>
            </p:cNvCxnSpPr>
            <p:nvPr/>
          </p:nvCxnSpPr>
          <p:spPr>
            <a:xfrm>
              <a:off x="5735880" y="6157440"/>
              <a:ext cx="8150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1" name=""/>
            <p:cNvCxnSpPr>
              <a:stCxn id="105" idx="2"/>
              <a:endCxn id="108" idx="0"/>
            </p:cNvCxnSpPr>
            <p:nvPr/>
          </p:nvCxnSpPr>
          <p:spPr>
            <a:xfrm>
              <a:off x="5531760" y="5207760"/>
              <a:ext cx="1080" cy="780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2" name=""/>
            <p:cNvCxnSpPr>
              <a:stCxn id="109" idx="0"/>
              <a:endCxn id="106" idx="2"/>
            </p:cNvCxnSpPr>
            <p:nvPr/>
          </p:nvCxnSpPr>
          <p:spPr>
            <a:xfrm flipV="1">
              <a:off x="6755760" y="5207400"/>
              <a:ext cx="1080" cy="780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13" name=""/>
            <p:cNvSpPr/>
            <p:nvPr/>
          </p:nvSpPr>
          <p:spPr>
            <a:xfrm>
              <a:off x="4739760" y="5364720"/>
              <a:ext cx="385560" cy="31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63760" y="5364720"/>
              <a:ext cx="385560" cy="319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15" name=""/>
            <p:cNvCxnSpPr>
              <a:stCxn id="113" idx="3"/>
              <a:endCxn id="114" idx="1"/>
            </p:cNvCxnSpPr>
            <p:nvPr/>
          </p:nvCxnSpPr>
          <p:spPr>
            <a:xfrm>
              <a:off x="5137200" y="5524560"/>
              <a:ext cx="8150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16" name=""/>
            <p:cNvSpPr/>
            <p:nvPr/>
          </p:nvSpPr>
          <p:spPr>
            <a:xfrm>
              <a:off x="4739760" y="64933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63760" y="6493320"/>
              <a:ext cx="385560" cy="320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18" name=""/>
            <p:cNvCxnSpPr>
              <a:stCxn id="116" idx="3"/>
              <a:endCxn id="117" idx="1"/>
            </p:cNvCxnSpPr>
            <p:nvPr/>
          </p:nvCxnSpPr>
          <p:spPr>
            <a:xfrm>
              <a:off x="5137200" y="6653160"/>
              <a:ext cx="8150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>
              <a:stCxn id="113" idx="2"/>
              <a:endCxn id="116" idx="0"/>
            </p:cNvCxnSpPr>
            <p:nvPr/>
          </p:nvCxnSpPr>
          <p:spPr>
            <a:xfrm>
              <a:off x="4933080" y="5694840"/>
              <a:ext cx="1080" cy="789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>
              <a:stCxn id="117" idx="0"/>
              <a:endCxn id="114" idx="2"/>
            </p:cNvCxnSpPr>
            <p:nvPr/>
          </p:nvCxnSpPr>
          <p:spPr>
            <a:xfrm flipV="1">
              <a:off x="6157080" y="5694480"/>
              <a:ext cx="1080" cy="789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1" name=""/>
            <p:cNvCxnSpPr>
              <a:stCxn id="113" idx="0"/>
              <a:endCxn id="105" idx="1"/>
            </p:cNvCxnSpPr>
            <p:nvPr/>
          </p:nvCxnSpPr>
          <p:spPr>
            <a:xfrm flipV="1">
              <a:off x="4933440" y="5038200"/>
              <a:ext cx="393840" cy="31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>
              <a:stCxn id="114" idx="0"/>
              <a:endCxn id="106" idx="1"/>
            </p:cNvCxnSpPr>
            <p:nvPr/>
          </p:nvCxnSpPr>
          <p:spPr>
            <a:xfrm flipV="1">
              <a:off x="6157440" y="5038200"/>
              <a:ext cx="393840" cy="31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>
              <a:stCxn id="116" idx="0"/>
              <a:endCxn id="108" idx="1"/>
            </p:cNvCxnSpPr>
            <p:nvPr/>
          </p:nvCxnSpPr>
          <p:spPr>
            <a:xfrm flipV="1">
              <a:off x="4933440" y="6157440"/>
              <a:ext cx="393840" cy="32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4" name=""/>
            <p:cNvCxnSpPr>
              <a:stCxn id="117" idx="0"/>
              <a:endCxn id="109" idx="1"/>
            </p:cNvCxnSpPr>
            <p:nvPr/>
          </p:nvCxnSpPr>
          <p:spPr>
            <a:xfrm flipV="1">
              <a:off x="6157440" y="6157440"/>
              <a:ext cx="393840" cy="32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87" idx="0"/>
              <a:endCxn id="106" idx="0"/>
            </p:cNvCxnSpPr>
            <p:nvPr/>
          </p:nvCxnSpPr>
          <p:spPr>
            <a:xfrm flipH="1" rot="16200000">
              <a:off x="5421240" y="3535200"/>
              <a:ext cx="216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stCxn id="86" idx="0"/>
              <a:endCxn id="105" idx="0"/>
            </p:cNvCxnSpPr>
            <p:nvPr/>
          </p:nvCxnSpPr>
          <p:spPr>
            <a:xfrm flipH="1" rot="16200000">
              <a:off x="4197240" y="3535200"/>
              <a:ext cx="216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7" name=""/>
            <p:cNvCxnSpPr>
              <a:stCxn id="94" idx="0"/>
              <a:endCxn id="113" idx="0"/>
            </p:cNvCxnSpPr>
            <p:nvPr/>
          </p:nvCxnSpPr>
          <p:spPr>
            <a:xfrm flipH="1" rot="16200000">
              <a:off x="3598560" y="4020120"/>
              <a:ext cx="180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8" name=""/>
            <p:cNvCxnSpPr>
              <a:stCxn id="85" idx="0"/>
              <a:endCxn id="114" idx="0"/>
            </p:cNvCxnSpPr>
            <p:nvPr/>
          </p:nvCxnSpPr>
          <p:spPr>
            <a:xfrm flipH="1" rot="16200000">
              <a:off x="4822560" y="4020120"/>
              <a:ext cx="180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29" name=""/>
            <p:cNvCxnSpPr>
              <a:stCxn id="89" idx="0"/>
              <a:endCxn id="108" idx="0"/>
            </p:cNvCxnSpPr>
            <p:nvPr/>
          </p:nvCxnSpPr>
          <p:spPr>
            <a:xfrm flipH="1" rot="16200000">
              <a:off x="4197240" y="4653720"/>
              <a:ext cx="216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3399"/>
              </a:solidFill>
              <a:miter/>
            </a:ln>
          </p:spPr>
        </p:cxnSp>
        <p:cxnSp>
          <p:nvCxnSpPr>
            <p:cNvPr id="130" name=""/>
            <p:cNvCxnSpPr>
              <a:stCxn id="90" idx="0"/>
              <a:endCxn id="109" idx="0"/>
            </p:cNvCxnSpPr>
            <p:nvPr/>
          </p:nvCxnSpPr>
          <p:spPr>
            <a:xfrm flipH="1" rot="16200000">
              <a:off x="5421240" y="4653720"/>
              <a:ext cx="216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1" name=""/>
            <p:cNvCxnSpPr>
              <a:stCxn id="96" idx="0"/>
              <a:endCxn id="116" idx="0"/>
            </p:cNvCxnSpPr>
            <p:nvPr/>
          </p:nvCxnSpPr>
          <p:spPr>
            <a:xfrm flipH="1" rot="16200000">
              <a:off x="3598560" y="5149440"/>
              <a:ext cx="216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97" idx="0"/>
              <a:endCxn id="117" idx="0"/>
            </p:cNvCxnSpPr>
            <p:nvPr/>
          </p:nvCxnSpPr>
          <p:spPr>
            <a:xfrm flipH="1" rot="16200000">
              <a:off x="4822560" y="5149440"/>
              <a:ext cx="2160" cy="2669040"/>
            </a:xfrm>
            <a:prstGeom prst="curvedConnector5">
              <a:avLst>
                <a:gd name="adj1" fmla="val -13200000"/>
                <a:gd name="adj2" fmla="val 49993"/>
                <a:gd name="adj3" fmla="val -13200000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1456200" y="1847880"/>
            <a:ext cx="6311160" cy="2805480"/>
            <a:chOff x="1456200" y="1847880"/>
            <a:chExt cx="6311160" cy="2805480"/>
          </a:xfrm>
        </p:grpSpPr>
        <p:sp>
          <p:nvSpPr>
            <p:cNvPr id="134" name=""/>
            <p:cNvSpPr/>
            <p:nvPr/>
          </p:nvSpPr>
          <p:spPr>
            <a:xfrm>
              <a:off x="5749560" y="3996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7640" y="22453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86200" y="265320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45240" y="230328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94160" y="265320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38720" y="358740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45240" y="3587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4160" y="39373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620720" y="1847880"/>
              <a:ext cx="6146640" cy="2805480"/>
              <a:chOff x="1620720" y="1847880"/>
              <a:chExt cx="6146640" cy="2805480"/>
            </a:xfrm>
          </p:grpSpPr>
          <p:sp>
            <p:nvSpPr>
              <p:cNvPr id="143" name=""/>
              <p:cNvSpPr/>
              <p:nvPr/>
            </p:nvSpPr>
            <p:spPr>
              <a:xfrm>
                <a:off x="6892200" y="2488680"/>
                <a:ext cx="70236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92200" y="2488680"/>
                <a:ext cx="70236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89480" y="2488680"/>
                <a:ext cx="70236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89480" y="2488680"/>
                <a:ext cx="70236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20720" y="1847880"/>
                <a:ext cx="70344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20720" y="1847880"/>
                <a:ext cx="70344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4160" y="1847880"/>
                <a:ext cx="70092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24160" y="1847880"/>
                <a:ext cx="70092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25440" y="1847880"/>
                <a:ext cx="70380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25440" y="1847880"/>
                <a:ext cx="70380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24936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4936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29600" y="184788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729600" y="184788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20720" y="2488680"/>
                <a:ext cx="70344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620720" y="2488680"/>
                <a:ext cx="70344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70748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ff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24160" y="2488680"/>
                <a:ext cx="70092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24160" y="2488680"/>
                <a:ext cx="70092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40876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25440" y="2488680"/>
                <a:ext cx="70380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25440" y="2488680"/>
                <a:ext cx="70380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0932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ff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24936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4936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29600" y="2488680"/>
                <a:ext cx="70236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29600" y="2488680"/>
                <a:ext cx="70236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1204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20720" y="3130560"/>
                <a:ext cx="70344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20720" y="3130560"/>
                <a:ext cx="70344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70748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24160" y="3130560"/>
                <a:ext cx="70092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24160" y="3130560"/>
                <a:ext cx="70092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0876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25440" y="3130560"/>
                <a:ext cx="70380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5440" y="3130560"/>
                <a:ext cx="70380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0932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4936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4936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29600" y="31305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29600" y="31305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1204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20720" y="3771360"/>
                <a:ext cx="70344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620720" y="3771360"/>
                <a:ext cx="70344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0748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24160" y="3771360"/>
                <a:ext cx="70092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24160" y="3771360"/>
                <a:ext cx="70092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0876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25440" y="3771360"/>
                <a:ext cx="70380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25440" y="3771360"/>
                <a:ext cx="70380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0932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4936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936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29600" y="37713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729600" y="37713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1204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18000" y="3363480"/>
                <a:ext cx="1194480" cy="198000"/>
              </a:xfrm>
              <a:custGeom>
                <a:avLst/>
                <a:gdLst/>
                <a:ahLst/>
                <a:rect l="l" t="t" r="r" b="b"/>
                <a:pathLst>
                  <a:path w="1416" h="257">
                    <a:moveTo>
                      <a:pt x="1411" y="16"/>
                    </a:moveTo>
                    <a:lnTo>
                      <a:pt x="1370" y="40"/>
                    </a:lnTo>
                    <a:cubicBezTo>
                      <a:pt x="1366" y="42"/>
                      <a:pt x="1361" y="40"/>
                      <a:pt x="1359" y="37"/>
                    </a:cubicBezTo>
                    <a:cubicBezTo>
                      <a:pt x="1357" y="33"/>
                      <a:pt x="1358" y="28"/>
                      <a:pt x="1362" y="26"/>
                    </a:cubicBezTo>
                    <a:lnTo>
                      <a:pt x="1403" y="2"/>
                    </a:lnTo>
                    <a:cubicBezTo>
                      <a:pt x="1407" y="0"/>
                      <a:pt x="1412" y="1"/>
                      <a:pt x="1414" y="5"/>
                    </a:cubicBezTo>
                    <a:cubicBezTo>
                      <a:pt x="1416" y="9"/>
                      <a:pt x="1415" y="13"/>
                      <a:pt x="1411" y="16"/>
                    </a:cubicBezTo>
                    <a:close/>
                    <a:moveTo>
                      <a:pt x="1328" y="64"/>
                    </a:moveTo>
                    <a:lnTo>
                      <a:pt x="1286" y="87"/>
                    </a:lnTo>
                    <a:cubicBezTo>
                      <a:pt x="1283" y="90"/>
                      <a:pt x="1278" y="88"/>
                      <a:pt x="1276" y="85"/>
                    </a:cubicBezTo>
                    <a:cubicBezTo>
                      <a:pt x="1273" y="81"/>
                      <a:pt x="1275" y="76"/>
                      <a:pt x="1278" y="74"/>
                    </a:cubicBezTo>
                    <a:lnTo>
                      <a:pt x="1320" y="50"/>
                    </a:lnTo>
                    <a:cubicBezTo>
                      <a:pt x="1324" y="47"/>
                      <a:pt x="1329" y="49"/>
                      <a:pt x="1331" y="53"/>
                    </a:cubicBezTo>
                    <a:cubicBezTo>
                      <a:pt x="1333" y="56"/>
                      <a:pt x="1332" y="61"/>
                      <a:pt x="1328" y="64"/>
                    </a:cubicBezTo>
                    <a:close/>
                    <a:moveTo>
                      <a:pt x="1245" y="111"/>
                    </a:moveTo>
                    <a:lnTo>
                      <a:pt x="1209" y="132"/>
                    </a:lnTo>
                    <a:cubicBezTo>
                      <a:pt x="1209" y="132"/>
                      <a:pt x="1208" y="132"/>
                      <a:pt x="1208" y="133"/>
                    </a:cubicBezTo>
                    <a:lnTo>
                      <a:pt x="1202" y="135"/>
                    </a:lnTo>
                    <a:cubicBezTo>
                      <a:pt x="1198" y="137"/>
                      <a:pt x="1193" y="135"/>
                      <a:pt x="1191" y="130"/>
                    </a:cubicBezTo>
                    <a:cubicBezTo>
                      <a:pt x="1190" y="126"/>
                      <a:pt x="1192" y="122"/>
                      <a:pt x="1196" y="120"/>
                    </a:cubicBezTo>
                    <a:lnTo>
                      <a:pt x="1202" y="118"/>
                    </a:lnTo>
                    <a:lnTo>
                      <a:pt x="1201" y="118"/>
                    </a:lnTo>
                    <a:lnTo>
                      <a:pt x="1237" y="98"/>
                    </a:lnTo>
                    <a:cubicBezTo>
                      <a:pt x="1241" y="95"/>
                      <a:pt x="1246" y="97"/>
                      <a:pt x="1248" y="101"/>
                    </a:cubicBezTo>
                    <a:cubicBezTo>
                      <a:pt x="1250" y="104"/>
                      <a:pt x="1249" y="109"/>
                      <a:pt x="1245" y="111"/>
                    </a:cubicBezTo>
                    <a:close/>
                    <a:moveTo>
                      <a:pt x="1157" y="152"/>
                    </a:moveTo>
                    <a:lnTo>
                      <a:pt x="1112" y="170"/>
                    </a:lnTo>
                    <a:cubicBezTo>
                      <a:pt x="1108" y="172"/>
                      <a:pt x="1104" y="170"/>
                      <a:pt x="1102" y="165"/>
                    </a:cubicBezTo>
                    <a:cubicBezTo>
                      <a:pt x="1100" y="161"/>
                      <a:pt x="1102" y="157"/>
                      <a:pt x="1107" y="155"/>
                    </a:cubicBezTo>
                    <a:lnTo>
                      <a:pt x="1151" y="138"/>
                    </a:lnTo>
                    <a:cubicBezTo>
                      <a:pt x="1155" y="136"/>
                      <a:pt x="1160" y="138"/>
                      <a:pt x="1162" y="142"/>
                    </a:cubicBezTo>
                    <a:cubicBezTo>
                      <a:pt x="1163" y="146"/>
                      <a:pt x="1161" y="151"/>
                      <a:pt x="1157" y="152"/>
                    </a:cubicBezTo>
                    <a:close/>
                    <a:moveTo>
                      <a:pt x="1068" y="187"/>
                    </a:moveTo>
                    <a:lnTo>
                      <a:pt x="1023" y="205"/>
                    </a:lnTo>
                    <a:cubicBezTo>
                      <a:pt x="1019" y="206"/>
                      <a:pt x="1014" y="204"/>
                      <a:pt x="1013" y="200"/>
                    </a:cubicBezTo>
                    <a:cubicBezTo>
                      <a:pt x="1011" y="196"/>
                      <a:pt x="1013" y="192"/>
                      <a:pt x="1017" y="190"/>
                    </a:cubicBezTo>
                    <a:lnTo>
                      <a:pt x="1062" y="173"/>
                    </a:lnTo>
                    <a:cubicBezTo>
                      <a:pt x="1066" y="171"/>
                      <a:pt x="1071" y="173"/>
                      <a:pt x="1072" y="177"/>
                    </a:cubicBezTo>
                    <a:cubicBezTo>
                      <a:pt x="1074" y="181"/>
                      <a:pt x="1072" y="186"/>
                      <a:pt x="1068" y="187"/>
                    </a:cubicBezTo>
                    <a:close/>
                    <a:moveTo>
                      <a:pt x="975" y="218"/>
                    </a:moveTo>
                    <a:lnTo>
                      <a:pt x="928" y="228"/>
                    </a:lnTo>
                    <a:cubicBezTo>
                      <a:pt x="924" y="228"/>
                      <a:pt x="920" y="226"/>
                      <a:pt x="919" y="221"/>
                    </a:cubicBezTo>
                    <a:cubicBezTo>
                      <a:pt x="918" y="217"/>
                      <a:pt x="921" y="213"/>
                      <a:pt x="925" y="212"/>
                    </a:cubicBezTo>
                    <a:lnTo>
                      <a:pt x="972" y="202"/>
                    </a:lnTo>
                    <a:cubicBezTo>
                      <a:pt x="977" y="201"/>
                      <a:pt x="981" y="204"/>
                      <a:pt x="982" y="208"/>
                    </a:cubicBezTo>
                    <a:cubicBezTo>
                      <a:pt x="983" y="213"/>
                      <a:pt x="980" y="217"/>
                      <a:pt x="975" y="218"/>
                    </a:cubicBezTo>
                    <a:close/>
                    <a:moveTo>
                      <a:pt x="881" y="237"/>
                    </a:moveTo>
                    <a:lnTo>
                      <a:pt x="834" y="247"/>
                    </a:lnTo>
                    <a:cubicBezTo>
                      <a:pt x="830" y="248"/>
                      <a:pt x="826" y="245"/>
                      <a:pt x="825" y="241"/>
                    </a:cubicBezTo>
                    <a:cubicBezTo>
                      <a:pt x="824" y="236"/>
                      <a:pt x="827" y="232"/>
                      <a:pt x="831" y="231"/>
                    </a:cubicBezTo>
                    <a:lnTo>
                      <a:pt x="878" y="222"/>
                    </a:lnTo>
                    <a:cubicBezTo>
                      <a:pt x="883" y="221"/>
                      <a:pt x="887" y="223"/>
                      <a:pt x="888" y="228"/>
                    </a:cubicBezTo>
                    <a:cubicBezTo>
                      <a:pt x="889" y="232"/>
                      <a:pt x="886" y="236"/>
                      <a:pt x="881" y="237"/>
                    </a:cubicBezTo>
                    <a:close/>
                    <a:moveTo>
                      <a:pt x="786" y="254"/>
                    </a:moveTo>
                    <a:lnTo>
                      <a:pt x="738" y="255"/>
                    </a:lnTo>
                    <a:cubicBezTo>
                      <a:pt x="733" y="255"/>
                      <a:pt x="730" y="251"/>
                      <a:pt x="729" y="247"/>
                    </a:cubicBezTo>
                    <a:cubicBezTo>
                      <a:pt x="729" y="243"/>
                      <a:pt x="733" y="239"/>
                      <a:pt x="737" y="239"/>
                    </a:cubicBezTo>
                    <a:lnTo>
                      <a:pt x="785" y="238"/>
                    </a:lnTo>
                    <a:cubicBezTo>
                      <a:pt x="790" y="238"/>
                      <a:pt x="793" y="241"/>
                      <a:pt x="793" y="246"/>
                    </a:cubicBezTo>
                    <a:cubicBezTo>
                      <a:pt x="794" y="250"/>
                      <a:pt x="790" y="254"/>
                      <a:pt x="786" y="254"/>
                    </a:cubicBezTo>
                    <a:close/>
                    <a:moveTo>
                      <a:pt x="690" y="256"/>
                    </a:moveTo>
                    <a:lnTo>
                      <a:pt x="642" y="257"/>
                    </a:lnTo>
                    <a:cubicBezTo>
                      <a:pt x="637" y="257"/>
                      <a:pt x="634" y="253"/>
                      <a:pt x="634" y="249"/>
                    </a:cubicBezTo>
                    <a:cubicBezTo>
                      <a:pt x="633" y="245"/>
                      <a:pt x="637" y="241"/>
                      <a:pt x="641" y="241"/>
                    </a:cubicBezTo>
                    <a:lnTo>
                      <a:pt x="689" y="240"/>
                    </a:lnTo>
                    <a:cubicBezTo>
                      <a:pt x="694" y="240"/>
                      <a:pt x="697" y="243"/>
                      <a:pt x="697" y="248"/>
                    </a:cubicBezTo>
                    <a:cubicBezTo>
                      <a:pt x="698" y="252"/>
                      <a:pt x="694" y="256"/>
                      <a:pt x="690" y="256"/>
                    </a:cubicBezTo>
                    <a:close/>
                    <a:moveTo>
                      <a:pt x="592" y="257"/>
                    </a:moveTo>
                    <a:lnTo>
                      <a:pt x="545" y="249"/>
                    </a:lnTo>
                    <a:cubicBezTo>
                      <a:pt x="541" y="248"/>
                      <a:pt x="538" y="244"/>
                      <a:pt x="538" y="240"/>
                    </a:cubicBezTo>
                    <a:cubicBezTo>
                      <a:pt x="539" y="235"/>
                      <a:pt x="543" y="232"/>
                      <a:pt x="548" y="233"/>
                    </a:cubicBezTo>
                    <a:lnTo>
                      <a:pt x="595" y="241"/>
                    </a:lnTo>
                    <a:cubicBezTo>
                      <a:pt x="599" y="242"/>
                      <a:pt x="602" y="246"/>
                      <a:pt x="601" y="250"/>
                    </a:cubicBezTo>
                    <a:cubicBezTo>
                      <a:pt x="601" y="254"/>
                      <a:pt x="597" y="257"/>
                      <a:pt x="592" y="257"/>
                    </a:cubicBezTo>
                    <a:close/>
                    <a:moveTo>
                      <a:pt x="498" y="241"/>
                    </a:moveTo>
                    <a:lnTo>
                      <a:pt x="450" y="233"/>
                    </a:lnTo>
                    <a:cubicBezTo>
                      <a:pt x="446" y="233"/>
                      <a:pt x="443" y="228"/>
                      <a:pt x="444" y="224"/>
                    </a:cubicBezTo>
                    <a:cubicBezTo>
                      <a:pt x="444" y="220"/>
                      <a:pt x="448" y="217"/>
                      <a:pt x="453" y="217"/>
                    </a:cubicBezTo>
                    <a:lnTo>
                      <a:pt x="500" y="225"/>
                    </a:lnTo>
                    <a:cubicBezTo>
                      <a:pt x="505" y="226"/>
                      <a:pt x="507" y="230"/>
                      <a:pt x="507" y="234"/>
                    </a:cubicBezTo>
                    <a:cubicBezTo>
                      <a:pt x="506" y="239"/>
                      <a:pt x="502" y="242"/>
                      <a:pt x="498" y="241"/>
                    </a:cubicBezTo>
                    <a:close/>
                    <a:moveTo>
                      <a:pt x="403" y="225"/>
                    </a:moveTo>
                    <a:lnTo>
                      <a:pt x="396" y="224"/>
                    </a:lnTo>
                    <a:cubicBezTo>
                      <a:pt x="395" y="224"/>
                      <a:pt x="395" y="224"/>
                      <a:pt x="394" y="224"/>
                    </a:cubicBezTo>
                    <a:lnTo>
                      <a:pt x="356" y="210"/>
                    </a:lnTo>
                    <a:cubicBezTo>
                      <a:pt x="352" y="209"/>
                      <a:pt x="350" y="204"/>
                      <a:pt x="351" y="200"/>
                    </a:cubicBezTo>
                    <a:cubicBezTo>
                      <a:pt x="352" y="196"/>
                      <a:pt x="357" y="194"/>
                      <a:pt x="361" y="195"/>
                    </a:cubicBezTo>
                    <a:lnTo>
                      <a:pt x="400" y="209"/>
                    </a:lnTo>
                    <a:lnTo>
                      <a:pt x="398" y="209"/>
                    </a:lnTo>
                    <a:lnTo>
                      <a:pt x="405" y="210"/>
                    </a:lnTo>
                    <a:cubicBezTo>
                      <a:pt x="410" y="210"/>
                      <a:pt x="413" y="215"/>
                      <a:pt x="412" y="219"/>
                    </a:cubicBezTo>
                    <a:cubicBezTo>
                      <a:pt x="411" y="223"/>
                      <a:pt x="407" y="226"/>
                      <a:pt x="403" y="225"/>
                    </a:cubicBezTo>
                    <a:close/>
                    <a:moveTo>
                      <a:pt x="311" y="195"/>
                    </a:moveTo>
                    <a:lnTo>
                      <a:pt x="265" y="179"/>
                    </a:lnTo>
                    <a:cubicBezTo>
                      <a:pt x="261" y="177"/>
                      <a:pt x="259" y="173"/>
                      <a:pt x="260" y="169"/>
                    </a:cubicBezTo>
                    <a:cubicBezTo>
                      <a:pt x="262" y="164"/>
                      <a:pt x="266" y="162"/>
                      <a:pt x="271" y="164"/>
                    </a:cubicBezTo>
                    <a:lnTo>
                      <a:pt x="316" y="180"/>
                    </a:lnTo>
                    <a:cubicBezTo>
                      <a:pt x="320" y="181"/>
                      <a:pt x="322" y="186"/>
                      <a:pt x="321" y="190"/>
                    </a:cubicBezTo>
                    <a:cubicBezTo>
                      <a:pt x="319" y="194"/>
                      <a:pt x="315" y="196"/>
                      <a:pt x="311" y="195"/>
                    </a:cubicBezTo>
                    <a:close/>
                    <a:moveTo>
                      <a:pt x="220" y="163"/>
                    </a:moveTo>
                    <a:lnTo>
                      <a:pt x="192" y="153"/>
                    </a:lnTo>
                    <a:cubicBezTo>
                      <a:pt x="192" y="153"/>
                      <a:pt x="192" y="153"/>
                      <a:pt x="191" y="153"/>
                    </a:cubicBezTo>
                    <a:lnTo>
                      <a:pt x="175" y="144"/>
                    </a:lnTo>
                    <a:cubicBezTo>
                      <a:pt x="171" y="142"/>
                      <a:pt x="169" y="137"/>
                      <a:pt x="171" y="133"/>
                    </a:cubicBezTo>
                    <a:cubicBezTo>
                      <a:pt x="173" y="129"/>
                      <a:pt x="178" y="128"/>
                      <a:pt x="182" y="130"/>
                    </a:cubicBezTo>
                    <a:lnTo>
                      <a:pt x="199" y="139"/>
                    </a:lnTo>
                    <a:lnTo>
                      <a:pt x="198" y="138"/>
                    </a:lnTo>
                    <a:lnTo>
                      <a:pt x="225" y="148"/>
                    </a:lnTo>
                    <a:cubicBezTo>
                      <a:pt x="229" y="149"/>
                      <a:pt x="232" y="154"/>
                      <a:pt x="230" y="158"/>
                    </a:cubicBezTo>
                    <a:cubicBezTo>
                      <a:pt x="229" y="162"/>
                      <a:pt x="224" y="164"/>
                      <a:pt x="220" y="163"/>
                    </a:cubicBezTo>
                    <a:close/>
                    <a:moveTo>
                      <a:pt x="132" y="121"/>
                    </a:moveTo>
                    <a:lnTo>
                      <a:pt x="90" y="99"/>
                    </a:lnTo>
                    <a:cubicBezTo>
                      <a:pt x="86" y="97"/>
                      <a:pt x="85" y="92"/>
                      <a:pt x="87" y="88"/>
                    </a:cubicBezTo>
                    <a:cubicBezTo>
                      <a:pt x="89" y="84"/>
                      <a:pt x="94" y="82"/>
                      <a:pt x="98" y="85"/>
                    </a:cubicBezTo>
                    <a:lnTo>
                      <a:pt x="140" y="107"/>
                    </a:lnTo>
                    <a:cubicBezTo>
                      <a:pt x="144" y="109"/>
                      <a:pt x="145" y="114"/>
                      <a:pt x="143" y="118"/>
                    </a:cubicBezTo>
                    <a:cubicBezTo>
                      <a:pt x="141" y="122"/>
                      <a:pt x="136" y="123"/>
                      <a:pt x="132" y="121"/>
                    </a:cubicBezTo>
                    <a:close/>
                    <a:moveTo>
                      <a:pt x="48" y="76"/>
                    </a:moveTo>
                    <a:lnTo>
                      <a:pt x="5" y="53"/>
                    </a:lnTo>
                    <a:cubicBezTo>
                      <a:pt x="2" y="51"/>
                      <a:pt x="0" y="46"/>
                      <a:pt x="2" y="42"/>
                    </a:cubicBezTo>
                    <a:cubicBezTo>
                      <a:pt x="4" y="39"/>
                      <a:pt x="9" y="37"/>
                      <a:pt x="13" y="39"/>
                    </a:cubicBezTo>
                    <a:lnTo>
                      <a:pt x="55" y="62"/>
                    </a:lnTo>
                    <a:cubicBezTo>
                      <a:pt x="59" y="64"/>
                      <a:pt x="61" y="69"/>
                      <a:pt x="59" y="73"/>
                    </a:cubicBezTo>
                    <a:cubicBezTo>
                      <a:pt x="56" y="77"/>
                      <a:pt x="52" y="78"/>
                      <a:pt x="48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74440" y="3371400"/>
                <a:ext cx="57600" cy="4356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41" y="4"/>
                    </a:moveTo>
                    <a:lnTo>
                      <a:pt x="0" y="0"/>
                    </a:lnTo>
                    <a:lnTo>
                      <a:pt x="21" y="34"/>
                    </a:lnTo>
                    <a:lnTo>
                      <a:pt x="4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015640" y="3363480"/>
                <a:ext cx="1194480" cy="198000"/>
              </a:xfrm>
              <a:custGeom>
                <a:avLst/>
                <a:gdLst/>
                <a:ahLst/>
                <a:rect l="l" t="t" r="r" b="b"/>
                <a:pathLst>
                  <a:path w="1417" h="257">
                    <a:moveTo>
                      <a:pt x="1412" y="16"/>
                    </a:moveTo>
                    <a:lnTo>
                      <a:pt x="1370" y="40"/>
                    </a:lnTo>
                    <a:cubicBezTo>
                      <a:pt x="1366" y="42"/>
                      <a:pt x="1361" y="40"/>
                      <a:pt x="1359" y="37"/>
                    </a:cubicBezTo>
                    <a:cubicBezTo>
                      <a:pt x="1357" y="33"/>
                      <a:pt x="1358" y="28"/>
                      <a:pt x="1362" y="26"/>
                    </a:cubicBezTo>
                    <a:lnTo>
                      <a:pt x="1404" y="2"/>
                    </a:lnTo>
                    <a:cubicBezTo>
                      <a:pt x="1407" y="0"/>
                      <a:pt x="1412" y="1"/>
                      <a:pt x="1415" y="5"/>
                    </a:cubicBezTo>
                    <a:cubicBezTo>
                      <a:pt x="1417" y="9"/>
                      <a:pt x="1415" y="13"/>
                      <a:pt x="1412" y="16"/>
                    </a:cubicBezTo>
                    <a:close/>
                    <a:moveTo>
                      <a:pt x="1328" y="64"/>
                    </a:moveTo>
                    <a:lnTo>
                      <a:pt x="1287" y="87"/>
                    </a:lnTo>
                    <a:cubicBezTo>
                      <a:pt x="1283" y="90"/>
                      <a:pt x="1278" y="88"/>
                      <a:pt x="1276" y="85"/>
                    </a:cubicBezTo>
                    <a:cubicBezTo>
                      <a:pt x="1274" y="81"/>
                      <a:pt x="1275" y="76"/>
                      <a:pt x="1279" y="74"/>
                    </a:cubicBezTo>
                    <a:lnTo>
                      <a:pt x="1320" y="50"/>
                    </a:lnTo>
                    <a:cubicBezTo>
                      <a:pt x="1324" y="47"/>
                      <a:pt x="1329" y="49"/>
                      <a:pt x="1331" y="53"/>
                    </a:cubicBezTo>
                    <a:cubicBezTo>
                      <a:pt x="1334" y="56"/>
                      <a:pt x="1332" y="61"/>
                      <a:pt x="1328" y="64"/>
                    </a:cubicBezTo>
                    <a:close/>
                    <a:moveTo>
                      <a:pt x="1245" y="111"/>
                    </a:moveTo>
                    <a:lnTo>
                      <a:pt x="1210" y="132"/>
                    </a:lnTo>
                    <a:cubicBezTo>
                      <a:pt x="1209" y="132"/>
                      <a:pt x="1209" y="132"/>
                      <a:pt x="1208" y="133"/>
                    </a:cubicBezTo>
                    <a:lnTo>
                      <a:pt x="1202" y="135"/>
                    </a:lnTo>
                    <a:cubicBezTo>
                      <a:pt x="1198" y="137"/>
                      <a:pt x="1193" y="135"/>
                      <a:pt x="1192" y="130"/>
                    </a:cubicBezTo>
                    <a:cubicBezTo>
                      <a:pt x="1190" y="126"/>
                      <a:pt x="1192" y="122"/>
                      <a:pt x="1196" y="120"/>
                    </a:cubicBezTo>
                    <a:lnTo>
                      <a:pt x="1203" y="118"/>
                    </a:lnTo>
                    <a:lnTo>
                      <a:pt x="1202" y="118"/>
                    </a:lnTo>
                    <a:lnTo>
                      <a:pt x="1237" y="98"/>
                    </a:lnTo>
                    <a:cubicBezTo>
                      <a:pt x="1241" y="95"/>
                      <a:pt x="1246" y="97"/>
                      <a:pt x="1248" y="101"/>
                    </a:cubicBezTo>
                    <a:cubicBezTo>
                      <a:pt x="1250" y="104"/>
                      <a:pt x="1249" y="109"/>
                      <a:pt x="1245" y="111"/>
                    </a:cubicBezTo>
                    <a:close/>
                    <a:moveTo>
                      <a:pt x="1157" y="152"/>
                    </a:moveTo>
                    <a:lnTo>
                      <a:pt x="1113" y="170"/>
                    </a:lnTo>
                    <a:cubicBezTo>
                      <a:pt x="1109" y="172"/>
                      <a:pt x="1104" y="170"/>
                      <a:pt x="1102" y="165"/>
                    </a:cubicBezTo>
                    <a:cubicBezTo>
                      <a:pt x="1101" y="161"/>
                      <a:pt x="1103" y="157"/>
                      <a:pt x="1107" y="155"/>
                    </a:cubicBezTo>
                    <a:lnTo>
                      <a:pt x="1152" y="138"/>
                    </a:lnTo>
                    <a:cubicBezTo>
                      <a:pt x="1156" y="136"/>
                      <a:pt x="1160" y="138"/>
                      <a:pt x="1162" y="142"/>
                    </a:cubicBezTo>
                    <a:cubicBezTo>
                      <a:pt x="1164" y="146"/>
                      <a:pt x="1162" y="151"/>
                      <a:pt x="1157" y="152"/>
                    </a:cubicBezTo>
                    <a:close/>
                    <a:moveTo>
                      <a:pt x="1068" y="187"/>
                    </a:moveTo>
                    <a:lnTo>
                      <a:pt x="1023" y="205"/>
                    </a:lnTo>
                    <a:cubicBezTo>
                      <a:pt x="1019" y="206"/>
                      <a:pt x="1015" y="204"/>
                      <a:pt x="1013" y="200"/>
                    </a:cubicBezTo>
                    <a:cubicBezTo>
                      <a:pt x="1011" y="196"/>
                      <a:pt x="1013" y="192"/>
                      <a:pt x="1017" y="190"/>
                    </a:cubicBezTo>
                    <a:lnTo>
                      <a:pt x="1062" y="173"/>
                    </a:lnTo>
                    <a:cubicBezTo>
                      <a:pt x="1066" y="171"/>
                      <a:pt x="1071" y="173"/>
                      <a:pt x="1073" y="177"/>
                    </a:cubicBezTo>
                    <a:cubicBezTo>
                      <a:pt x="1074" y="181"/>
                      <a:pt x="1072" y="186"/>
                      <a:pt x="1068" y="187"/>
                    </a:cubicBezTo>
                    <a:close/>
                    <a:moveTo>
                      <a:pt x="976" y="218"/>
                    </a:moveTo>
                    <a:lnTo>
                      <a:pt x="929" y="228"/>
                    </a:lnTo>
                    <a:cubicBezTo>
                      <a:pt x="924" y="228"/>
                      <a:pt x="920" y="226"/>
                      <a:pt x="919" y="221"/>
                    </a:cubicBezTo>
                    <a:cubicBezTo>
                      <a:pt x="918" y="217"/>
                      <a:pt x="921" y="213"/>
                      <a:pt x="926" y="212"/>
                    </a:cubicBezTo>
                    <a:lnTo>
                      <a:pt x="973" y="202"/>
                    </a:lnTo>
                    <a:cubicBezTo>
                      <a:pt x="977" y="201"/>
                      <a:pt x="981" y="204"/>
                      <a:pt x="982" y="208"/>
                    </a:cubicBezTo>
                    <a:cubicBezTo>
                      <a:pt x="983" y="213"/>
                      <a:pt x="980" y="217"/>
                      <a:pt x="976" y="218"/>
                    </a:cubicBezTo>
                    <a:close/>
                    <a:moveTo>
                      <a:pt x="882" y="237"/>
                    </a:moveTo>
                    <a:lnTo>
                      <a:pt x="835" y="247"/>
                    </a:lnTo>
                    <a:cubicBezTo>
                      <a:pt x="830" y="248"/>
                      <a:pt x="826" y="245"/>
                      <a:pt x="825" y="241"/>
                    </a:cubicBezTo>
                    <a:cubicBezTo>
                      <a:pt x="824" y="236"/>
                      <a:pt x="827" y="232"/>
                      <a:pt x="832" y="231"/>
                    </a:cubicBezTo>
                    <a:lnTo>
                      <a:pt x="879" y="222"/>
                    </a:lnTo>
                    <a:cubicBezTo>
                      <a:pt x="883" y="221"/>
                      <a:pt x="887" y="223"/>
                      <a:pt x="888" y="228"/>
                    </a:cubicBezTo>
                    <a:cubicBezTo>
                      <a:pt x="889" y="232"/>
                      <a:pt x="886" y="236"/>
                      <a:pt x="882" y="237"/>
                    </a:cubicBezTo>
                    <a:close/>
                    <a:moveTo>
                      <a:pt x="786" y="254"/>
                    </a:moveTo>
                    <a:lnTo>
                      <a:pt x="738" y="255"/>
                    </a:lnTo>
                    <a:cubicBezTo>
                      <a:pt x="734" y="255"/>
                      <a:pt x="730" y="251"/>
                      <a:pt x="730" y="247"/>
                    </a:cubicBezTo>
                    <a:cubicBezTo>
                      <a:pt x="730" y="243"/>
                      <a:pt x="733" y="239"/>
                      <a:pt x="738" y="239"/>
                    </a:cubicBezTo>
                    <a:lnTo>
                      <a:pt x="786" y="238"/>
                    </a:lnTo>
                    <a:cubicBezTo>
                      <a:pt x="790" y="238"/>
                      <a:pt x="794" y="241"/>
                      <a:pt x="794" y="246"/>
                    </a:cubicBezTo>
                    <a:cubicBezTo>
                      <a:pt x="794" y="250"/>
                      <a:pt x="790" y="254"/>
                      <a:pt x="786" y="254"/>
                    </a:cubicBezTo>
                    <a:close/>
                    <a:moveTo>
                      <a:pt x="690" y="256"/>
                    </a:moveTo>
                    <a:lnTo>
                      <a:pt x="642" y="257"/>
                    </a:lnTo>
                    <a:cubicBezTo>
                      <a:pt x="638" y="257"/>
                      <a:pt x="634" y="253"/>
                      <a:pt x="634" y="249"/>
                    </a:cubicBezTo>
                    <a:cubicBezTo>
                      <a:pt x="634" y="245"/>
                      <a:pt x="637" y="241"/>
                      <a:pt x="642" y="241"/>
                    </a:cubicBezTo>
                    <a:lnTo>
                      <a:pt x="690" y="240"/>
                    </a:lnTo>
                    <a:cubicBezTo>
                      <a:pt x="694" y="240"/>
                      <a:pt x="698" y="243"/>
                      <a:pt x="698" y="248"/>
                    </a:cubicBezTo>
                    <a:cubicBezTo>
                      <a:pt x="698" y="252"/>
                      <a:pt x="694" y="256"/>
                      <a:pt x="690" y="256"/>
                    </a:cubicBezTo>
                    <a:close/>
                    <a:moveTo>
                      <a:pt x="593" y="257"/>
                    </a:moveTo>
                    <a:lnTo>
                      <a:pt x="545" y="249"/>
                    </a:lnTo>
                    <a:cubicBezTo>
                      <a:pt x="541" y="248"/>
                      <a:pt x="538" y="244"/>
                      <a:pt x="539" y="240"/>
                    </a:cubicBezTo>
                    <a:cubicBezTo>
                      <a:pt x="539" y="235"/>
                      <a:pt x="544" y="232"/>
                      <a:pt x="548" y="233"/>
                    </a:cubicBezTo>
                    <a:lnTo>
                      <a:pt x="595" y="241"/>
                    </a:lnTo>
                    <a:cubicBezTo>
                      <a:pt x="600" y="242"/>
                      <a:pt x="603" y="246"/>
                      <a:pt x="602" y="250"/>
                    </a:cubicBezTo>
                    <a:cubicBezTo>
                      <a:pt x="601" y="254"/>
                      <a:pt x="597" y="257"/>
                      <a:pt x="593" y="257"/>
                    </a:cubicBezTo>
                    <a:close/>
                    <a:moveTo>
                      <a:pt x="498" y="241"/>
                    </a:moveTo>
                    <a:lnTo>
                      <a:pt x="451" y="233"/>
                    </a:lnTo>
                    <a:cubicBezTo>
                      <a:pt x="446" y="233"/>
                      <a:pt x="443" y="228"/>
                      <a:pt x="444" y="224"/>
                    </a:cubicBezTo>
                    <a:cubicBezTo>
                      <a:pt x="445" y="220"/>
                      <a:pt x="449" y="217"/>
                      <a:pt x="453" y="217"/>
                    </a:cubicBezTo>
                    <a:lnTo>
                      <a:pt x="501" y="225"/>
                    </a:lnTo>
                    <a:cubicBezTo>
                      <a:pt x="505" y="226"/>
                      <a:pt x="508" y="230"/>
                      <a:pt x="507" y="234"/>
                    </a:cubicBezTo>
                    <a:cubicBezTo>
                      <a:pt x="506" y="239"/>
                      <a:pt x="502" y="242"/>
                      <a:pt x="498" y="241"/>
                    </a:cubicBezTo>
                    <a:close/>
                    <a:moveTo>
                      <a:pt x="403" y="225"/>
                    </a:moveTo>
                    <a:lnTo>
                      <a:pt x="396" y="224"/>
                    </a:lnTo>
                    <a:cubicBezTo>
                      <a:pt x="396" y="224"/>
                      <a:pt x="395" y="224"/>
                      <a:pt x="395" y="224"/>
                    </a:cubicBezTo>
                    <a:lnTo>
                      <a:pt x="356" y="210"/>
                    </a:lnTo>
                    <a:cubicBezTo>
                      <a:pt x="352" y="209"/>
                      <a:pt x="350" y="204"/>
                      <a:pt x="351" y="200"/>
                    </a:cubicBezTo>
                    <a:cubicBezTo>
                      <a:pt x="353" y="196"/>
                      <a:pt x="357" y="194"/>
                      <a:pt x="362" y="195"/>
                    </a:cubicBezTo>
                    <a:lnTo>
                      <a:pt x="400" y="209"/>
                    </a:lnTo>
                    <a:lnTo>
                      <a:pt x="399" y="209"/>
                    </a:lnTo>
                    <a:lnTo>
                      <a:pt x="406" y="210"/>
                    </a:lnTo>
                    <a:cubicBezTo>
                      <a:pt x="410" y="210"/>
                      <a:pt x="413" y="215"/>
                      <a:pt x="412" y="219"/>
                    </a:cubicBezTo>
                    <a:cubicBezTo>
                      <a:pt x="412" y="223"/>
                      <a:pt x="408" y="226"/>
                      <a:pt x="403" y="225"/>
                    </a:cubicBezTo>
                    <a:close/>
                    <a:moveTo>
                      <a:pt x="311" y="195"/>
                    </a:moveTo>
                    <a:lnTo>
                      <a:pt x="266" y="179"/>
                    </a:lnTo>
                    <a:cubicBezTo>
                      <a:pt x="261" y="177"/>
                      <a:pt x="259" y="173"/>
                      <a:pt x="261" y="169"/>
                    </a:cubicBezTo>
                    <a:cubicBezTo>
                      <a:pt x="262" y="164"/>
                      <a:pt x="267" y="162"/>
                      <a:pt x="271" y="164"/>
                    </a:cubicBezTo>
                    <a:lnTo>
                      <a:pt x="316" y="180"/>
                    </a:lnTo>
                    <a:cubicBezTo>
                      <a:pt x="320" y="181"/>
                      <a:pt x="323" y="186"/>
                      <a:pt x="321" y="190"/>
                    </a:cubicBezTo>
                    <a:cubicBezTo>
                      <a:pt x="320" y="194"/>
                      <a:pt x="315" y="196"/>
                      <a:pt x="311" y="195"/>
                    </a:cubicBezTo>
                    <a:close/>
                    <a:moveTo>
                      <a:pt x="220" y="163"/>
                    </a:moveTo>
                    <a:lnTo>
                      <a:pt x="193" y="153"/>
                    </a:lnTo>
                    <a:cubicBezTo>
                      <a:pt x="192" y="153"/>
                      <a:pt x="192" y="153"/>
                      <a:pt x="192" y="153"/>
                    </a:cubicBezTo>
                    <a:lnTo>
                      <a:pt x="175" y="144"/>
                    </a:lnTo>
                    <a:cubicBezTo>
                      <a:pt x="171" y="142"/>
                      <a:pt x="170" y="137"/>
                      <a:pt x="172" y="133"/>
                    </a:cubicBezTo>
                    <a:cubicBezTo>
                      <a:pt x="174" y="129"/>
                      <a:pt x="179" y="128"/>
                      <a:pt x="183" y="130"/>
                    </a:cubicBezTo>
                    <a:lnTo>
                      <a:pt x="199" y="139"/>
                    </a:lnTo>
                    <a:lnTo>
                      <a:pt x="198" y="138"/>
                    </a:lnTo>
                    <a:lnTo>
                      <a:pt x="226" y="148"/>
                    </a:lnTo>
                    <a:cubicBezTo>
                      <a:pt x="230" y="149"/>
                      <a:pt x="232" y="154"/>
                      <a:pt x="231" y="158"/>
                    </a:cubicBezTo>
                    <a:cubicBezTo>
                      <a:pt x="229" y="162"/>
                      <a:pt x="224" y="164"/>
                      <a:pt x="220" y="163"/>
                    </a:cubicBezTo>
                    <a:close/>
                    <a:moveTo>
                      <a:pt x="133" y="121"/>
                    </a:moveTo>
                    <a:lnTo>
                      <a:pt x="90" y="99"/>
                    </a:lnTo>
                    <a:cubicBezTo>
                      <a:pt x="87" y="97"/>
                      <a:pt x="85" y="92"/>
                      <a:pt x="87" y="88"/>
                    </a:cubicBezTo>
                    <a:cubicBezTo>
                      <a:pt x="89" y="84"/>
                      <a:pt x="94" y="82"/>
                      <a:pt x="98" y="85"/>
                    </a:cubicBezTo>
                    <a:lnTo>
                      <a:pt x="140" y="107"/>
                    </a:lnTo>
                    <a:cubicBezTo>
                      <a:pt x="144" y="109"/>
                      <a:pt x="146" y="114"/>
                      <a:pt x="144" y="118"/>
                    </a:cubicBezTo>
                    <a:cubicBezTo>
                      <a:pt x="141" y="122"/>
                      <a:pt x="137" y="123"/>
                      <a:pt x="133" y="121"/>
                    </a:cubicBezTo>
                    <a:close/>
                    <a:moveTo>
                      <a:pt x="48" y="76"/>
                    </a:moveTo>
                    <a:lnTo>
                      <a:pt x="6" y="53"/>
                    </a:lnTo>
                    <a:cubicBezTo>
                      <a:pt x="2" y="51"/>
                      <a:pt x="0" y="46"/>
                      <a:pt x="2" y="42"/>
                    </a:cubicBezTo>
                    <a:cubicBezTo>
                      <a:pt x="5" y="39"/>
                      <a:pt x="9" y="37"/>
                      <a:pt x="13" y="39"/>
                    </a:cubicBezTo>
                    <a:lnTo>
                      <a:pt x="56" y="62"/>
                    </a:lnTo>
                    <a:cubicBezTo>
                      <a:pt x="60" y="64"/>
                      <a:pt x="61" y="69"/>
                      <a:pt x="59" y="73"/>
                    </a:cubicBezTo>
                    <a:cubicBezTo>
                      <a:pt x="57" y="77"/>
                      <a:pt x="52" y="78"/>
                      <a:pt x="48" y="76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71720" y="3371400"/>
                <a:ext cx="56160" cy="43560"/>
              </a:xfrm>
              <a:custGeom>
                <a:avLst/>
                <a:gdLst/>
                <a:ahLst/>
                <a:rect l="l" t="t" r="r" b="b"/>
                <a:pathLst>
                  <a:path w="40" h="34">
                    <a:moveTo>
                      <a:pt x="40" y="4"/>
                    </a:moveTo>
                    <a:lnTo>
                      <a:pt x="0" y="0"/>
                    </a:lnTo>
                    <a:lnTo>
                      <a:pt x="21" y="34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139840" y="2698200"/>
                <a:ext cx="1194480" cy="199080"/>
              </a:xfrm>
              <a:custGeom>
                <a:avLst/>
                <a:gdLst/>
                <a:ahLst/>
                <a:rect l="l" t="t" r="r" b="b"/>
                <a:pathLst>
                  <a:path w="1416" h="258">
                    <a:moveTo>
                      <a:pt x="5" y="242"/>
                    </a:moveTo>
                    <a:lnTo>
                      <a:pt x="47" y="218"/>
                    </a:lnTo>
                    <a:cubicBezTo>
                      <a:pt x="51" y="215"/>
                      <a:pt x="55" y="217"/>
                      <a:pt x="58" y="221"/>
                    </a:cubicBezTo>
                    <a:cubicBezTo>
                      <a:pt x="60" y="224"/>
                      <a:pt x="59" y="229"/>
                      <a:pt x="55" y="231"/>
                    </a:cubicBezTo>
                    <a:lnTo>
                      <a:pt x="13" y="255"/>
                    </a:lnTo>
                    <a:cubicBezTo>
                      <a:pt x="9" y="258"/>
                      <a:pt x="4" y="256"/>
                      <a:pt x="2" y="252"/>
                    </a:cubicBezTo>
                    <a:cubicBezTo>
                      <a:pt x="0" y="249"/>
                      <a:pt x="1" y="244"/>
                      <a:pt x="5" y="242"/>
                    </a:cubicBezTo>
                    <a:close/>
                    <a:moveTo>
                      <a:pt x="88" y="194"/>
                    </a:moveTo>
                    <a:lnTo>
                      <a:pt x="130" y="170"/>
                    </a:lnTo>
                    <a:cubicBezTo>
                      <a:pt x="134" y="167"/>
                      <a:pt x="139" y="169"/>
                      <a:pt x="141" y="173"/>
                    </a:cubicBezTo>
                    <a:cubicBezTo>
                      <a:pt x="143" y="176"/>
                      <a:pt x="142" y="181"/>
                      <a:pt x="138" y="184"/>
                    </a:cubicBezTo>
                    <a:lnTo>
                      <a:pt x="96" y="207"/>
                    </a:lnTo>
                    <a:cubicBezTo>
                      <a:pt x="92" y="210"/>
                      <a:pt x="88" y="208"/>
                      <a:pt x="85" y="205"/>
                    </a:cubicBezTo>
                    <a:cubicBezTo>
                      <a:pt x="83" y="201"/>
                      <a:pt x="85" y="196"/>
                      <a:pt x="88" y="194"/>
                    </a:cubicBezTo>
                    <a:close/>
                    <a:moveTo>
                      <a:pt x="172" y="146"/>
                    </a:moveTo>
                    <a:lnTo>
                      <a:pt x="207" y="125"/>
                    </a:lnTo>
                    <a:cubicBezTo>
                      <a:pt x="208" y="125"/>
                      <a:pt x="208" y="125"/>
                      <a:pt x="208" y="125"/>
                    </a:cubicBezTo>
                    <a:lnTo>
                      <a:pt x="215" y="122"/>
                    </a:lnTo>
                    <a:cubicBezTo>
                      <a:pt x="219" y="121"/>
                      <a:pt x="223" y="123"/>
                      <a:pt x="225" y="127"/>
                    </a:cubicBezTo>
                    <a:cubicBezTo>
                      <a:pt x="227" y="131"/>
                      <a:pt x="225" y="135"/>
                      <a:pt x="220" y="137"/>
                    </a:cubicBezTo>
                    <a:lnTo>
                      <a:pt x="214" y="140"/>
                    </a:lnTo>
                    <a:lnTo>
                      <a:pt x="215" y="139"/>
                    </a:lnTo>
                    <a:lnTo>
                      <a:pt x="180" y="160"/>
                    </a:lnTo>
                    <a:cubicBezTo>
                      <a:pt x="176" y="162"/>
                      <a:pt x="171" y="160"/>
                      <a:pt x="169" y="157"/>
                    </a:cubicBezTo>
                    <a:cubicBezTo>
                      <a:pt x="166" y="153"/>
                      <a:pt x="168" y="148"/>
                      <a:pt x="172" y="146"/>
                    </a:cubicBezTo>
                    <a:close/>
                    <a:moveTo>
                      <a:pt x="259" y="105"/>
                    </a:moveTo>
                    <a:lnTo>
                      <a:pt x="304" y="87"/>
                    </a:lnTo>
                    <a:cubicBezTo>
                      <a:pt x="308" y="86"/>
                      <a:pt x="313" y="88"/>
                      <a:pt x="314" y="92"/>
                    </a:cubicBezTo>
                    <a:cubicBezTo>
                      <a:pt x="316" y="96"/>
                      <a:pt x="314" y="100"/>
                      <a:pt x="310" y="102"/>
                    </a:cubicBezTo>
                    <a:lnTo>
                      <a:pt x="265" y="120"/>
                    </a:lnTo>
                    <a:cubicBezTo>
                      <a:pt x="261" y="121"/>
                      <a:pt x="256" y="119"/>
                      <a:pt x="255" y="115"/>
                    </a:cubicBezTo>
                    <a:cubicBezTo>
                      <a:pt x="253" y="111"/>
                      <a:pt x="255" y="106"/>
                      <a:pt x="259" y="105"/>
                    </a:cubicBezTo>
                    <a:close/>
                    <a:moveTo>
                      <a:pt x="349" y="70"/>
                    </a:moveTo>
                    <a:lnTo>
                      <a:pt x="393" y="52"/>
                    </a:lnTo>
                    <a:cubicBezTo>
                      <a:pt x="398" y="51"/>
                      <a:pt x="402" y="53"/>
                      <a:pt x="404" y="57"/>
                    </a:cubicBezTo>
                    <a:cubicBezTo>
                      <a:pt x="405" y="61"/>
                      <a:pt x="403" y="66"/>
                      <a:pt x="399" y="67"/>
                    </a:cubicBezTo>
                    <a:lnTo>
                      <a:pt x="355" y="85"/>
                    </a:lnTo>
                    <a:cubicBezTo>
                      <a:pt x="350" y="86"/>
                      <a:pt x="346" y="84"/>
                      <a:pt x="344" y="80"/>
                    </a:cubicBezTo>
                    <a:cubicBezTo>
                      <a:pt x="343" y="76"/>
                      <a:pt x="345" y="71"/>
                      <a:pt x="349" y="70"/>
                    </a:cubicBezTo>
                    <a:close/>
                    <a:moveTo>
                      <a:pt x="441" y="39"/>
                    </a:moveTo>
                    <a:lnTo>
                      <a:pt x="488" y="30"/>
                    </a:lnTo>
                    <a:cubicBezTo>
                      <a:pt x="492" y="29"/>
                      <a:pt x="496" y="31"/>
                      <a:pt x="497" y="36"/>
                    </a:cubicBezTo>
                    <a:cubicBezTo>
                      <a:pt x="498" y="40"/>
                      <a:pt x="495" y="44"/>
                      <a:pt x="491" y="45"/>
                    </a:cubicBezTo>
                    <a:lnTo>
                      <a:pt x="444" y="55"/>
                    </a:lnTo>
                    <a:cubicBezTo>
                      <a:pt x="440" y="56"/>
                      <a:pt x="436" y="53"/>
                      <a:pt x="435" y="49"/>
                    </a:cubicBezTo>
                    <a:cubicBezTo>
                      <a:pt x="434" y="44"/>
                      <a:pt x="437" y="40"/>
                      <a:pt x="441" y="39"/>
                    </a:cubicBezTo>
                    <a:close/>
                    <a:moveTo>
                      <a:pt x="535" y="20"/>
                    </a:moveTo>
                    <a:lnTo>
                      <a:pt x="582" y="10"/>
                    </a:lnTo>
                    <a:cubicBezTo>
                      <a:pt x="586" y="9"/>
                      <a:pt x="591" y="12"/>
                      <a:pt x="591" y="16"/>
                    </a:cubicBezTo>
                    <a:cubicBezTo>
                      <a:pt x="592" y="21"/>
                      <a:pt x="590" y="25"/>
                      <a:pt x="585" y="26"/>
                    </a:cubicBezTo>
                    <a:lnTo>
                      <a:pt x="538" y="36"/>
                    </a:lnTo>
                    <a:cubicBezTo>
                      <a:pt x="534" y="36"/>
                      <a:pt x="530" y="34"/>
                      <a:pt x="529" y="29"/>
                    </a:cubicBezTo>
                    <a:cubicBezTo>
                      <a:pt x="528" y="25"/>
                      <a:pt x="531" y="21"/>
                      <a:pt x="535" y="20"/>
                    </a:cubicBezTo>
                    <a:close/>
                    <a:moveTo>
                      <a:pt x="631" y="3"/>
                    </a:moveTo>
                    <a:lnTo>
                      <a:pt x="679" y="2"/>
                    </a:lnTo>
                    <a:cubicBezTo>
                      <a:pt x="683" y="2"/>
                      <a:pt x="687" y="6"/>
                      <a:pt x="687" y="10"/>
                    </a:cubicBezTo>
                    <a:cubicBezTo>
                      <a:pt x="687" y="15"/>
                      <a:pt x="683" y="18"/>
                      <a:pt x="679" y="18"/>
                    </a:cubicBezTo>
                    <a:lnTo>
                      <a:pt x="631" y="19"/>
                    </a:lnTo>
                    <a:cubicBezTo>
                      <a:pt x="627" y="19"/>
                      <a:pt x="623" y="16"/>
                      <a:pt x="623" y="11"/>
                    </a:cubicBezTo>
                    <a:cubicBezTo>
                      <a:pt x="623" y="7"/>
                      <a:pt x="626" y="3"/>
                      <a:pt x="631" y="3"/>
                    </a:cubicBezTo>
                    <a:close/>
                    <a:moveTo>
                      <a:pt x="727" y="1"/>
                    </a:moveTo>
                    <a:lnTo>
                      <a:pt x="775" y="0"/>
                    </a:lnTo>
                    <a:cubicBezTo>
                      <a:pt x="779" y="0"/>
                      <a:pt x="783" y="4"/>
                      <a:pt x="783" y="8"/>
                    </a:cubicBezTo>
                    <a:cubicBezTo>
                      <a:pt x="783" y="13"/>
                      <a:pt x="779" y="16"/>
                      <a:pt x="775" y="16"/>
                    </a:cubicBezTo>
                    <a:lnTo>
                      <a:pt x="727" y="17"/>
                    </a:lnTo>
                    <a:cubicBezTo>
                      <a:pt x="723" y="17"/>
                      <a:pt x="719" y="14"/>
                      <a:pt x="719" y="9"/>
                    </a:cubicBezTo>
                    <a:cubicBezTo>
                      <a:pt x="719" y="5"/>
                      <a:pt x="722" y="1"/>
                      <a:pt x="727" y="1"/>
                    </a:cubicBezTo>
                    <a:close/>
                    <a:moveTo>
                      <a:pt x="824" y="0"/>
                    </a:moveTo>
                    <a:lnTo>
                      <a:pt x="871" y="8"/>
                    </a:lnTo>
                    <a:cubicBezTo>
                      <a:pt x="876" y="9"/>
                      <a:pt x="879" y="13"/>
                      <a:pt x="878" y="17"/>
                    </a:cubicBezTo>
                    <a:cubicBezTo>
                      <a:pt x="877" y="22"/>
                      <a:pt x="873" y="25"/>
                      <a:pt x="869" y="24"/>
                    </a:cubicBezTo>
                    <a:lnTo>
                      <a:pt x="822" y="16"/>
                    </a:lnTo>
                    <a:cubicBezTo>
                      <a:pt x="817" y="16"/>
                      <a:pt x="814" y="11"/>
                      <a:pt x="815" y="7"/>
                    </a:cubicBezTo>
                    <a:cubicBezTo>
                      <a:pt x="816" y="3"/>
                      <a:pt x="820" y="0"/>
                      <a:pt x="824" y="0"/>
                    </a:cubicBezTo>
                    <a:close/>
                    <a:moveTo>
                      <a:pt x="919" y="16"/>
                    </a:moveTo>
                    <a:lnTo>
                      <a:pt x="966" y="24"/>
                    </a:lnTo>
                    <a:cubicBezTo>
                      <a:pt x="971" y="25"/>
                      <a:pt x="973" y="29"/>
                      <a:pt x="973" y="33"/>
                    </a:cubicBezTo>
                    <a:cubicBezTo>
                      <a:pt x="972" y="37"/>
                      <a:pt x="968" y="40"/>
                      <a:pt x="964" y="40"/>
                    </a:cubicBezTo>
                    <a:lnTo>
                      <a:pt x="916" y="32"/>
                    </a:lnTo>
                    <a:cubicBezTo>
                      <a:pt x="912" y="31"/>
                      <a:pt x="909" y="27"/>
                      <a:pt x="910" y="23"/>
                    </a:cubicBezTo>
                    <a:cubicBezTo>
                      <a:pt x="910" y="18"/>
                      <a:pt x="914" y="15"/>
                      <a:pt x="919" y="16"/>
                    </a:cubicBezTo>
                    <a:close/>
                    <a:moveTo>
                      <a:pt x="1014" y="32"/>
                    </a:moveTo>
                    <a:lnTo>
                      <a:pt x="1021" y="33"/>
                    </a:lnTo>
                    <a:cubicBezTo>
                      <a:pt x="1021" y="33"/>
                      <a:pt x="1022" y="33"/>
                      <a:pt x="1022" y="33"/>
                    </a:cubicBezTo>
                    <a:lnTo>
                      <a:pt x="1061" y="47"/>
                    </a:lnTo>
                    <a:cubicBezTo>
                      <a:pt x="1065" y="48"/>
                      <a:pt x="1067" y="53"/>
                      <a:pt x="1065" y="57"/>
                    </a:cubicBezTo>
                    <a:cubicBezTo>
                      <a:pt x="1064" y="61"/>
                      <a:pt x="1059" y="63"/>
                      <a:pt x="1055" y="62"/>
                    </a:cubicBezTo>
                    <a:lnTo>
                      <a:pt x="1017" y="48"/>
                    </a:lnTo>
                    <a:lnTo>
                      <a:pt x="1018" y="49"/>
                    </a:lnTo>
                    <a:lnTo>
                      <a:pt x="1011" y="47"/>
                    </a:lnTo>
                    <a:cubicBezTo>
                      <a:pt x="1007" y="47"/>
                      <a:pt x="1004" y="43"/>
                      <a:pt x="1004" y="38"/>
                    </a:cubicBezTo>
                    <a:cubicBezTo>
                      <a:pt x="1005" y="34"/>
                      <a:pt x="1009" y="31"/>
                      <a:pt x="1014" y="32"/>
                    </a:cubicBezTo>
                    <a:close/>
                    <a:moveTo>
                      <a:pt x="1106" y="63"/>
                    </a:moveTo>
                    <a:lnTo>
                      <a:pt x="1151" y="78"/>
                    </a:lnTo>
                    <a:cubicBezTo>
                      <a:pt x="1155" y="80"/>
                      <a:pt x="1157" y="84"/>
                      <a:pt x="1156" y="89"/>
                    </a:cubicBezTo>
                    <a:cubicBezTo>
                      <a:pt x="1155" y="93"/>
                      <a:pt x="1150" y="95"/>
                      <a:pt x="1146" y="93"/>
                    </a:cubicBezTo>
                    <a:lnTo>
                      <a:pt x="1101" y="78"/>
                    </a:lnTo>
                    <a:cubicBezTo>
                      <a:pt x="1096" y="76"/>
                      <a:pt x="1094" y="72"/>
                      <a:pt x="1096" y="67"/>
                    </a:cubicBezTo>
                    <a:cubicBezTo>
                      <a:pt x="1097" y="63"/>
                      <a:pt x="1102" y="61"/>
                      <a:pt x="1106" y="63"/>
                    </a:cubicBezTo>
                    <a:close/>
                    <a:moveTo>
                      <a:pt x="1196" y="94"/>
                    </a:moveTo>
                    <a:lnTo>
                      <a:pt x="1224" y="104"/>
                    </a:lnTo>
                    <a:cubicBezTo>
                      <a:pt x="1224" y="104"/>
                      <a:pt x="1225" y="104"/>
                      <a:pt x="1225" y="104"/>
                    </a:cubicBezTo>
                    <a:lnTo>
                      <a:pt x="1242" y="113"/>
                    </a:lnTo>
                    <a:cubicBezTo>
                      <a:pt x="1246" y="115"/>
                      <a:pt x="1247" y="120"/>
                      <a:pt x="1245" y="124"/>
                    </a:cubicBezTo>
                    <a:cubicBezTo>
                      <a:pt x="1243" y="128"/>
                      <a:pt x="1238" y="129"/>
                      <a:pt x="1234" y="127"/>
                    </a:cubicBezTo>
                    <a:lnTo>
                      <a:pt x="1218" y="119"/>
                    </a:lnTo>
                    <a:lnTo>
                      <a:pt x="1219" y="119"/>
                    </a:lnTo>
                    <a:lnTo>
                      <a:pt x="1191" y="109"/>
                    </a:lnTo>
                    <a:cubicBezTo>
                      <a:pt x="1187" y="108"/>
                      <a:pt x="1185" y="103"/>
                      <a:pt x="1186" y="99"/>
                    </a:cubicBezTo>
                    <a:cubicBezTo>
                      <a:pt x="1188" y="95"/>
                      <a:pt x="1192" y="93"/>
                      <a:pt x="1196" y="94"/>
                    </a:cubicBezTo>
                    <a:close/>
                    <a:moveTo>
                      <a:pt x="1284" y="136"/>
                    </a:moveTo>
                    <a:lnTo>
                      <a:pt x="1326" y="159"/>
                    </a:lnTo>
                    <a:cubicBezTo>
                      <a:pt x="1330" y="161"/>
                      <a:pt x="1332" y="165"/>
                      <a:pt x="1330" y="169"/>
                    </a:cubicBezTo>
                    <a:cubicBezTo>
                      <a:pt x="1328" y="173"/>
                      <a:pt x="1323" y="175"/>
                      <a:pt x="1319" y="173"/>
                    </a:cubicBezTo>
                    <a:lnTo>
                      <a:pt x="1276" y="150"/>
                    </a:lnTo>
                    <a:cubicBezTo>
                      <a:pt x="1273" y="148"/>
                      <a:pt x="1271" y="143"/>
                      <a:pt x="1273" y="139"/>
                    </a:cubicBezTo>
                    <a:cubicBezTo>
                      <a:pt x="1275" y="135"/>
                      <a:pt x="1280" y="134"/>
                      <a:pt x="1284" y="136"/>
                    </a:cubicBezTo>
                    <a:close/>
                    <a:moveTo>
                      <a:pt x="1369" y="181"/>
                    </a:moveTo>
                    <a:lnTo>
                      <a:pt x="1411" y="204"/>
                    </a:lnTo>
                    <a:cubicBezTo>
                      <a:pt x="1415" y="206"/>
                      <a:pt x="1416" y="211"/>
                      <a:pt x="1414" y="215"/>
                    </a:cubicBezTo>
                    <a:cubicBezTo>
                      <a:pt x="1412" y="219"/>
                      <a:pt x="1407" y="220"/>
                      <a:pt x="1403" y="218"/>
                    </a:cubicBezTo>
                    <a:lnTo>
                      <a:pt x="1361" y="195"/>
                    </a:lnTo>
                    <a:cubicBezTo>
                      <a:pt x="1357" y="193"/>
                      <a:pt x="1356" y="188"/>
                      <a:pt x="1358" y="184"/>
                    </a:cubicBezTo>
                    <a:cubicBezTo>
                      <a:pt x="1360" y="181"/>
                      <a:pt x="1365" y="179"/>
                      <a:pt x="1369" y="181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21720" y="2844720"/>
                <a:ext cx="56520" cy="45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19" y="0"/>
                    </a:moveTo>
                    <a:lnTo>
                      <a:pt x="40" y="35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43640" y="2698200"/>
                <a:ext cx="1193400" cy="199080"/>
              </a:xfrm>
              <a:custGeom>
                <a:avLst/>
                <a:gdLst/>
                <a:ahLst/>
                <a:rect l="l" t="t" r="r" b="b"/>
                <a:pathLst>
                  <a:path w="1416" h="258">
                    <a:moveTo>
                      <a:pt x="5" y="242"/>
                    </a:moveTo>
                    <a:lnTo>
                      <a:pt x="46" y="218"/>
                    </a:lnTo>
                    <a:cubicBezTo>
                      <a:pt x="50" y="215"/>
                      <a:pt x="55" y="217"/>
                      <a:pt x="57" y="221"/>
                    </a:cubicBezTo>
                    <a:cubicBezTo>
                      <a:pt x="60" y="224"/>
                      <a:pt x="58" y="229"/>
                      <a:pt x="54" y="231"/>
                    </a:cubicBezTo>
                    <a:lnTo>
                      <a:pt x="13" y="255"/>
                    </a:lnTo>
                    <a:cubicBezTo>
                      <a:pt x="9" y="258"/>
                      <a:pt x="4" y="256"/>
                      <a:pt x="2" y="252"/>
                    </a:cubicBezTo>
                    <a:cubicBezTo>
                      <a:pt x="0" y="249"/>
                      <a:pt x="1" y="244"/>
                      <a:pt x="5" y="242"/>
                    </a:cubicBezTo>
                    <a:close/>
                    <a:moveTo>
                      <a:pt x="88" y="194"/>
                    </a:moveTo>
                    <a:lnTo>
                      <a:pt x="130" y="170"/>
                    </a:lnTo>
                    <a:cubicBezTo>
                      <a:pt x="133" y="167"/>
                      <a:pt x="138" y="169"/>
                      <a:pt x="140" y="173"/>
                    </a:cubicBezTo>
                    <a:cubicBezTo>
                      <a:pt x="143" y="176"/>
                      <a:pt x="141" y="181"/>
                      <a:pt x="138" y="184"/>
                    </a:cubicBezTo>
                    <a:lnTo>
                      <a:pt x="96" y="207"/>
                    </a:lnTo>
                    <a:cubicBezTo>
                      <a:pt x="92" y="210"/>
                      <a:pt x="87" y="208"/>
                      <a:pt x="85" y="205"/>
                    </a:cubicBezTo>
                    <a:cubicBezTo>
                      <a:pt x="83" y="201"/>
                      <a:pt x="84" y="196"/>
                      <a:pt x="88" y="194"/>
                    </a:cubicBezTo>
                    <a:close/>
                    <a:moveTo>
                      <a:pt x="171" y="146"/>
                    </a:moveTo>
                    <a:lnTo>
                      <a:pt x="207" y="125"/>
                    </a:lnTo>
                    <a:cubicBezTo>
                      <a:pt x="207" y="125"/>
                      <a:pt x="208" y="125"/>
                      <a:pt x="208" y="125"/>
                    </a:cubicBezTo>
                    <a:lnTo>
                      <a:pt x="214" y="122"/>
                    </a:lnTo>
                    <a:cubicBezTo>
                      <a:pt x="218" y="121"/>
                      <a:pt x="223" y="123"/>
                      <a:pt x="225" y="127"/>
                    </a:cubicBezTo>
                    <a:cubicBezTo>
                      <a:pt x="226" y="131"/>
                      <a:pt x="224" y="135"/>
                      <a:pt x="220" y="137"/>
                    </a:cubicBezTo>
                    <a:lnTo>
                      <a:pt x="214" y="140"/>
                    </a:lnTo>
                    <a:lnTo>
                      <a:pt x="215" y="139"/>
                    </a:lnTo>
                    <a:lnTo>
                      <a:pt x="179" y="160"/>
                    </a:lnTo>
                    <a:cubicBezTo>
                      <a:pt x="175" y="162"/>
                      <a:pt x="170" y="160"/>
                      <a:pt x="168" y="157"/>
                    </a:cubicBezTo>
                    <a:cubicBezTo>
                      <a:pt x="166" y="153"/>
                      <a:pt x="167" y="148"/>
                      <a:pt x="171" y="146"/>
                    </a:cubicBezTo>
                    <a:close/>
                    <a:moveTo>
                      <a:pt x="259" y="105"/>
                    </a:moveTo>
                    <a:lnTo>
                      <a:pt x="304" y="87"/>
                    </a:lnTo>
                    <a:cubicBezTo>
                      <a:pt x="308" y="86"/>
                      <a:pt x="312" y="88"/>
                      <a:pt x="314" y="92"/>
                    </a:cubicBezTo>
                    <a:cubicBezTo>
                      <a:pt x="316" y="96"/>
                      <a:pt x="314" y="100"/>
                      <a:pt x="310" y="102"/>
                    </a:cubicBezTo>
                    <a:lnTo>
                      <a:pt x="265" y="120"/>
                    </a:lnTo>
                    <a:cubicBezTo>
                      <a:pt x="261" y="121"/>
                      <a:pt x="256" y="119"/>
                      <a:pt x="254" y="115"/>
                    </a:cubicBezTo>
                    <a:cubicBezTo>
                      <a:pt x="253" y="111"/>
                      <a:pt x="255" y="106"/>
                      <a:pt x="259" y="105"/>
                    </a:cubicBezTo>
                    <a:close/>
                    <a:moveTo>
                      <a:pt x="348" y="70"/>
                    </a:moveTo>
                    <a:lnTo>
                      <a:pt x="393" y="52"/>
                    </a:lnTo>
                    <a:cubicBezTo>
                      <a:pt x="397" y="51"/>
                      <a:pt x="402" y="53"/>
                      <a:pt x="403" y="57"/>
                    </a:cubicBezTo>
                    <a:cubicBezTo>
                      <a:pt x="405" y="61"/>
                      <a:pt x="403" y="66"/>
                      <a:pt x="399" y="67"/>
                    </a:cubicBezTo>
                    <a:lnTo>
                      <a:pt x="354" y="85"/>
                    </a:lnTo>
                    <a:cubicBezTo>
                      <a:pt x="350" y="86"/>
                      <a:pt x="345" y="84"/>
                      <a:pt x="344" y="80"/>
                    </a:cubicBezTo>
                    <a:cubicBezTo>
                      <a:pt x="342" y="76"/>
                      <a:pt x="344" y="71"/>
                      <a:pt x="348" y="70"/>
                    </a:cubicBezTo>
                    <a:close/>
                    <a:moveTo>
                      <a:pt x="441" y="39"/>
                    </a:moveTo>
                    <a:lnTo>
                      <a:pt x="488" y="30"/>
                    </a:lnTo>
                    <a:cubicBezTo>
                      <a:pt x="492" y="29"/>
                      <a:pt x="496" y="31"/>
                      <a:pt x="497" y="36"/>
                    </a:cubicBezTo>
                    <a:cubicBezTo>
                      <a:pt x="498" y="40"/>
                      <a:pt x="495" y="44"/>
                      <a:pt x="491" y="45"/>
                    </a:cubicBezTo>
                    <a:lnTo>
                      <a:pt x="444" y="55"/>
                    </a:lnTo>
                    <a:cubicBezTo>
                      <a:pt x="439" y="56"/>
                      <a:pt x="435" y="53"/>
                      <a:pt x="434" y="49"/>
                    </a:cubicBezTo>
                    <a:cubicBezTo>
                      <a:pt x="433" y="44"/>
                      <a:pt x="436" y="40"/>
                      <a:pt x="441" y="39"/>
                    </a:cubicBezTo>
                    <a:close/>
                    <a:moveTo>
                      <a:pt x="535" y="20"/>
                    </a:moveTo>
                    <a:lnTo>
                      <a:pt x="582" y="10"/>
                    </a:lnTo>
                    <a:cubicBezTo>
                      <a:pt x="586" y="9"/>
                      <a:pt x="590" y="12"/>
                      <a:pt x="591" y="16"/>
                    </a:cubicBezTo>
                    <a:cubicBezTo>
                      <a:pt x="592" y="21"/>
                      <a:pt x="589" y="25"/>
                      <a:pt x="585" y="26"/>
                    </a:cubicBezTo>
                    <a:lnTo>
                      <a:pt x="538" y="36"/>
                    </a:lnTo>
                    <a:cubicBezTo>
                      <a:pt x="533" y="36"/>
                      <a:pt x="529" y="34"/>
                      <a:pt x="528" y="29"/>
                    </a:cubicBezTo>
                    <a:cubicBezTo>
                      <a:pt x="527" y="25"/>
                      <a:pt x="530" y="21"/>
                      <a:pt x="535" y="20"/>
                    </a:cubicBezTo>
                    <a:close/>
                    <a:moveTo>
                      <a:pt x="630" y="3"/>
                    </a:moveTo>
                    <a:lnTo>
                      <a:pt x="678" y="2"/>
                    </a:lnTo>
                    <a:cubicBezTo>
                      <a:pt x="683" y="2"/>
                      <a:pt x="686" y="6"/>
                      <a:pt x="687" y="10"/>
                    </a:cubicBezTo>
                    <a:cubicBezTo>
                      <a:pt x="687" y="15"/>
                      <a:pt x="683" y="18"/>
                      <a:pt x="679" y="18"/>
                    </a:cubicBezTo>
                    <a:lnTo>
                      <a:pt x="631" y="19"/>
                    </a:lnTo>
                    <a:cubicBezTo>
                      <a:pt x="626" y="19"/>
                      <a:pt x="623" y="16"/>
                      <a:pt x="623" y="11"/>
                    </a:cubicBezTo>
                    <a:cubicBezTo>
                      <a:pt x="622" y="7"/>
                      <a:pt x="626" y="3"/>
                      <a:pt x="630" y="3"/>
                    </a:cubicBezTo>
                    <a:close/>
                    <a:moveTo>
                      <a:pt x="726" y="1"/>
                    </a:moveTo>
                    <a:lnTo>
                      <a:pt x="774" y="0"/>
                    </a:lnTo>
                    <a:cubicBezTo>
                      <a:pt x="779" y="0"/>
                      <a:pt x="782" y="4"/>
                      <a:pt x="783" y="8"/>
                    </a:cubicBezTo>
                    <a:cubicBezTo>
                      <a:pt x="783" y="13"/>
                      <a:pt x="779" y="16"/>
                      <a:pt x="775" y="16"/>
                    </a:cubicBezTo>
                    <a:lnTo>
                      <a:pt x="727" y="17"/>
                    </a:lnTo>
                    <a:cubicBezTo>
                      <a:pt x="722" y="17"/>
                      <a:pt x="719" y="14"/>
                      <a:pt x="719" y="9"/>
                    </a:cubicBezTo>
                    <a:cubicBezTo>
                      <a:pt x="718" y="5"/>
                      <a:pt x="722" y="1"/>
                      <a:pt x="726" y="1"/>
                    </a:cubicBezTo>
                    <a:close/>
                    <a:moveTo>
                      <a:pt x="824" y="0"/>
                    </a:moveTo>
                    <a:lnTo>
                      <a:pt x="871" y="8"/>
                    </a:lnTo>
                    <a:cubicBezTo>
                      <a:pt x="875" y="9"/>
                      <a:pt x="878" y="13"/>
                      <a:pt x="878" y="17"/>
                    </a:cubicBezTo>
                    <a:cubicBezTo>
                      <a:pt x="877" y="22"/>
                      <a:pt x="873" y="25"/>
                      <a:pt x="869" y="24"/>
                    </a:cubicBezTo>
                    <a:lnTo>
                      <a:pt x="821" y="16"/>
                    </a:lnTo>
                    <a:cubicBezTo>
                      <a:pt x="817" y="16"/>
                      <a:pt x="814" y="11"/>
                      <a:pt x="815" y="7"/>
                    </a:cubicBezTo>
                    <a:cubicBezTo>
                      <a:pt x="815" y="3"/>
                      <a:pt x="819" y="0"/>
                      <a:pt x="824" y="0"/>
                    </a:cubicBezTo>
                    <a:close/>
                    <a:moveTo>
                      <a:pt x="918" y="16"/>
                    </a:moveTo>
                    <a:lnTo>
                      <a:pt x="966" y="24"/>
                    </a:lnTo>
                    <a:cubicBezTo>
                      <a:pt x="970" y="25"/>
                      <a:pt x="973" y="29"/>
                      <a:pt x="972" y="33"/>
                    </a:cubicBezTo>
                    <a:cubicBezTo>
                      <a:pt x="972" y="37"/>
                      <a:pt x="968" y="40"/>
                      <a:pt x="963" y="40"/>
                    </a:cubicBezTo>
                    <a:lnTo>
                      <a:pt x="916" y="32"/>
                    </a:lnTo>
                    <a:cubicBezTo>
                      <a:pt x="912" y="31"/>
                      <a:pt x="909" y="27"/>
                      <a:pt x="909" y="23"/>
                    </a:cubicBezTo>
                    <a:cubicBezTo>
                      <a:pt x="910" y="18"/>
                      <a:pt x="914" y="15"/>
                      <a:pt x="918" y="16"/>
                    </a:cubicBezTo>
                    <a:close/>
                    <a:moveTo>
                      <a:pt x="1013" y="32"/>
                    </a:moveTo>
                    <a:lnTo>
                      <a:pt x="1020" y="33"/>
                    </a:lnTo>
                    <a:cubicBezTo>
                      <a:pt x="1021" y="33"/>
                      <a:pt x="1021" y="33"/>
                      <a:pt x="1022" y="33"/>
                    </a:cubicBezTo>
                    <a:lnTo>
                      <a:pt x="1060" y="47"/>
                    </a:lnTo>
                    <a:cubicBezTo>
                      <a:pt x="1064" y="48"/>
                      <a:pt x="1067" y="53"/>
                      <a:pt x="1065" y="57"/>
                    </a:cubicBezTo>
                    <a:cubicBezTo>
                      <a:pt x="1064" y="61"/>
                      <a:pt x="1059" y="63"/>
                      <a:pt x="1055" y="62"/>
                    </a:cubicBezTo>
                    <a:lnTo>
                      <a:pt x="1016" y="48"/>
                    </a:lnTo>
                    <a:lnTo>
                      <a:pt x="1018" y="49"/>
                    </a:lnTo>
                    <a:lnTo>
                      <a:pt x="1011" y="47"/>
                    </a:lnTo>
                    <a:cubicBezTo>
                      <a:pt x="1006" y="47"/>
                      <a:pt x="1003" y="43"/>
                      <a:pt x="1004" y="38"/>
                    </a:cubicBezTo>
                    <a:cubicBezTo>
                      <a:pt x="1005" y="34"/>
                      <a:pt x="1009" y="31"/>
                      <a:pt x="1013" y="32"/>
                    </a:cubicBezTo>
                    <a:close/>
                    <a:moveTo>
                      <a:pt x="1105" y="63"/>
                    </a:moveTo>
                    <a:lnTo>
                      <a:pt x="1151" y="78"/>
                    </a:lnTo>
                    <a:cubicBezTo>
                      <a:pt x="1155" y="80"/>
                      <a:pt x="1157" y="84"/>
                      <a:pt x="1156" y="89"/>
                    </a:cubicBezTo>
                    <a:cubicBezTo>
                      <a:pt x="1154" y="93"/>
                      <a:pt x="1150" y="95"/>
                      <a:pt x="1145" y="93"/>
                    </a:cubicBezTo>
                    <a:lnTo>
                      <a:pt x="1100" y="78"/>
                    </a:lnTo>
                    <a:cubicBezTo>
                      <a:pt x="1096" y="76"/>
                      <a:pt x="1094" y="72"/>
                      <a:pt x="1095" y="67"/>
                    </a:cubicBezTo>
                    <a:cubicBezTo>
                      <a:pt x="1097" y="63"/>
                      <a:pt x="1101" y="61"/>
                      <a:pt x="1105" y="63"/>
                    </a:cubicBezTo>
                    <a:close/>
                    <a:moveTo>
                      <a:pt x="1196" y="94"/>
                    </a:moveTo>
                    <a:lnTo>
                      <a:pt x="1224" y="104"/>
                    </a:lnTo>
                    <a:cubicBezTo>
                      <a:pt x="1224" y="104"/>
                      <a:pt x="1224" y="104"/>
                      <a:pt x="1225" y="104"/>
                    </a:cubicBezTo>
                    <a:lnTo>
                      <a:pt x="1241" y="113"/>
                    </a:lnTo>
                    <a:cubicBezTo>
                      <a:pt x="1245" y="115"/>
                      <a:pt x="1247" y="120"/>
                      <a:pt x="1245" y="124"/>
                    </a:cubicBezTo>
                    <a:cubicBezTo>
                      <a:pt x="1243" y="128"/>
                      <a:pt x="1238" y="129"/>
                      <a:pt x="1234" y="127"/>
                    </a:cubicBezTo>
                    <a:lnTo>
                      <a:pt x="1217" y="119"/>
                    </a:lnTo>
                    <a:lnTo>
                      <a:pt x="1218" y="119"/>
                    </a:lnTo>
                    <a:lnTo>
                      <a:pt x="1191" y="109"/>
                    </a:lnTo>
                    <a:cubicBezTo>
                      <a:pt x="1187" y="108"/>
                      <a:pt x="1184" y="103"/>
                      <a:pt x="1186" y="99"/>
                    </a:cubicBezTo>
                    <a:cubicBezTo>
                      <a:pt x="1187" y="95"/>
                      <a:pt x="1192" y="93"/>
                      <a:pt x="1196" y="94"/>
                    </a:cubicBezTo>
                    <a:close/>
                    <a:moveTo>
                      <a:pt x="1284" y="136"/>
                    </a:moveTo>
                    <a:lnTo>
                      <a:pt x="1326" y="159"/>
                    </a:lnTo>
                    <a:cubicBezTo>
                      <a:pt x="1330" y="161"/>
                      <a:pt x="1331" y="165"/>
                      <a:pt x="1329" y="169"/>
                    </a:cubicBezTo>
                    <a:cubicBezTo>
                      <a:pt x="1327" y="173"/>
                      <a:pt x="1322" y="175"/>
                      <a:pt x="1318" y="173"/>
                    </a:cubicBezTo>
                    <a:lnTo>
                      <a:pt x="1276" y="150"/>
                    </a:lnTo>
                    <a:cubicBezTo>
                      <a:pt x="1272" y="148"/>
                      <a:pt x="1271" y="143"/>
                      <a:pt x="1273" y="139"/>
                    </a:cubicBezTo>
                    <a:cubicBezTo>
                      <a:pt x="1275" y="135"/>
                      <a:pt x="1280" y="134"/>
                      <a:pt x="1284" y="136"/>
                    </a:cubicBezTo>
                    <a:close/>
                    <a:moveTo>
                      <a:pt x="1368" y="181"/>
                    </a:moveTo>
                    <a:lnTo>
                      <a:pt x="1411" y="204"/>
                    </a:lnTo>
                    <a:cubicBezTo>
                      <a:pt x="1415" y="206"/>
                      <a:pt x="1416" y="211"/>
                      <a:pt x="1414" y="215"/>
                    </a:cubicBezTo>
                    <a:cubicBezTo>
                      <a:pt x="1412" y="219"/>
                      <a:pt x="1407" y="220"/>
                      <a:pt x="1403" y="218"/>
                    </a:cubicBezTo>
                    <a:lnTo>
                      <a:pt x="1361" y="195"/>
                    </a:lnTo>
                    <a:cubicBezTo>
                      <a:pt x="1357" y="193"/>
                      <a:pt x="1355" y="188"/>
                      <a:pt x="1357" y="184"/>
                    </a:cubicBezTo>
                    <a:cubicBezTo>
                      <a:pt x="1360" y="181"/>
                      <a:pt x="1364" y="179"/>
                      <a:pt x="1368" y="181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24080" y="2844720"/>
                <a:ext cx="56520" cy="45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19" y="0"/>
                    </a:moveTo>
                    <a:lnTo>
                      <a:pt x="40" y="35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101680" y="4004280"/>
                <a:ext cx="1108440" cy="198000"/>
              </a:xfrm>
              <a:custGeom>
                <a:avLst/>
                <a:gdLst/>
                <a:ahLst/>
                <a:rect l="l" t="t" r="r" b="b"/>
                <a:pathLst>
                  <a:path w="1315" h="258">
                    <a:moveTo>
                      <a:pt x="1310" y="16"/>
                    </a:moveTo>
                    <a:lnTo>
                      <a:pt x="1269" y="41"/>
                    </a:lnTo>
                    <a:cubicBezTo>
                      <a:pt x="1265" y="44"/>
                      <a:pt x="1260" y="43"/>
                      <a:pt x="1258" y="39"/>
                    </a:cubicBezTo>
                    <a:cubicBezTo>
                      <a:pt x="1256" y="35"/>
                      <a:pt x="1257" y="30"/>
                      <a:pt x="1261" y="28"/>
                    </a:cubicBezTo>
                    <a:lnTo>
                      <a:pt x="1301" y="3"/>
                    </a:lnTo>
                    <a:cubicBezTo>
                      <a:pt x="1305" y="0"/>
                      <a:pt x="1310" y="1"/>
                      <a:pt x="1312" y="5"/>
                    </a:cubicBezTo>
                    <a:cubicBezTo>
                      <a:pt x="1315" y="9"/>
                      <a:pt x="1314" y="14"/>
                      <a:pt x="1310" y="16"/>
                    </a:cubicBezTo>
                    <a:close/>
                    <a:moveTo>
                      <a:pt x="1228" y="67"/>
                    </a:moveTo>
                    <a:lnTo>
                      <a:pt x="1187" y="92"/>
                    </a:lnTo>
                    <a:cubicBezTo>
                      <a:pt x="1184" y="94"/>
                      <a:pt x="1179" y="93"/>
                      <a:pt x="1176" y="89"/>
                    </a:cubicBezTo>
                    <a:cubicBezTo>
                      <a:pt x="1174" y="86"/>
                      <a:pt x="1175" y="81"/>
                      <a:pt x="1179" y="78"/>
                    </a:cubicBezTo>
                    <a:lnTo>
                      <a:pt x="1220" y="53"/>
                    </a:lnTo>
                    <a:cubicBezTo>
                      <a:pt x="1224" y="51"/>
                      <a:pt x="1228" y="52"/>
                      <a:pt x="1231" y="56"/>
                    </a:cubicBezTo>
                    <a:cubicBezTo>
                      <a:pt x="1233" y="59"/>
                      <a:pt x="1232" y="64"/>
                      <a:pt x="1228" y="67"/>
                    </a:cubicBezTo>
                    <a:close/>
                    <a:moveTo>
                      <a:pt x="1147" y="117"/>
                    </a:moveTo>
                    <a:lnTo>
                      <a:pt x="1123" y="132"/>
                    </a:lnTo>
                    <a:cubicBezTo>
                      <a:pt x="1122" y="133"/>
                      <a:pt x="1122" y="133"/>
                      <a:pt x="1121" y="133"/>
                    </a:cubicBezTo>
                    <a:lnTo>
                      <a:pt x="1103" y="141"/>
                    </a:lnTo>
                    <a:cubicBezTo>
                      <a:pt x="1099" y="142"/>
                      <a:pt x="1095" y="140"/>
                      <a:pt x="1093" y="136"/>
                    </a:cubicBezTo>
                    <a:cubicBezTo>
                      <a:pt x="1091" y="132"/>
                      <a:pt x="1093" y="127"/>
                      <a:pt x="1097" y="126"/>
                    </a:cubicBezTo>
                    <a:lnTo>
                      <a:pt x="1115" y="118"/>
                    </a:lnTo>
                    <a:lnTo>
                      <a:pt x="1114" y="119"/>
                    </a:lnTo>
                    <a:lnTo>
                      <a:pt x="1138" y="104"/>
                    </a:lnTo>
                    <a:cubicBezTo>
                      <a:pt x="1142" y="101"/>
                      <a:pt x="1147" y="103"/>
                      <a:pt x="1149" y="106"/>
                    </a:cubicBezTo>
                    <a:cubicBezTo>
                      <a:pt x="1152" y="110"/>
                      <a:pt x="1150" y="115"/>
                      <a:pt x="1147" y="117"/>
                    </a:cubicBezTo>
                    <a:close/>
                    <a:moveTo>
                      <a:pt x="1059" y="159"/>
                    </a:moveTo>
                    <a:lnTo>
                      <a:pt x="1015" y="178"/>
                    </a:lnTo>
                    <a:cubicBezTo>
                      <a:pt x="1011" y="180"/>
                      <a:pt x="1006" y="178"/>
                      <a:pt x="1004" y="174"/>
                    </a:cubicBezTo>
                    <a:cubicBezTo>
                      <a:pt x="1003" y="169"/>
                      <a:pt x="1005" y="165"/>
                      <a:pt x="1009" y="163"/>
                    </a:cubicBezTo>
                    <a:lnTo>
                      <a:pt x="1053" y="144"/>
                    </a:lnTo>
                    <a:cubicBezTo>
                      <a:pt x="1057" y="143"/>
                      <a:pt x="1062" y="145"/>
                      <a:pt x="1063" y="149"/>
                    </a:cubicBezTo>
                    <a:cubicBezTo>
                      <a:pt x="1065" y="153"/>
                      <a:pt x="1063" y="157"/>
                      <a:pt x="1059" y="159"/>
                    </a:cubicBezTo>
                    <a:close/>
                    <a:moveTo>
                      <a:pt x="971" y="196"/>
                    </a:moveTo>
                    <a:lnTo>
                      <a:pt x="934" y="212"/>
                    </a:lnTo>
                    <a:cubicBezTo>
                      <a:pt x="934" y="212"/>
                      <a:pt x="933" y="212"/>
                      <a:pt x="933" y="212"/>
                    </a:cubicBezTo>
                    <a:lnTo>
                      <a:pt x="925" y="214"/>
                    </a:lnTo>
                    <a:cubicBezTo>
                      <a:pt x="920" y="215"/>
                      <a:pt x="916" y="212"/>
                      <a:pt x="915" y="208"/>
                    </a:cubicBezTo>
                    <a:cubicBezTo>
                      <a:pt x="914" y="204"/>
                      <a:pt x="917" y="199"/>
                      <a:pt x="921" y="198"/>
                    </a:cubicBezTo>
                    <a:lnTo>
                      <a:pt x="929" y="197"/>
                    </a:lnTo>
                    <a:lnTo>
                      <a:pt x="928" y="197"/>
                    </a:lnTo>
                    <a:lnTo>
                      <a:pt x="964" y="182"/>
                    </a:lnTo>
                    <a:cubicBezTo>
                      <a:pt x="969" y="180"/>
                      <a:pt x="973" y="182"/>
                      <a:pt x="975" y="186"/>
                    </a:cubicBezTo>
                    <a:cubicBezTo>
                      <a:pt x="977" y="190"/>
                      <a:pt x="975" y="195"/>
                      <a:pt x="971" y="196"/>
                    </a:cubicBezTo>
                    <a:close/>
                    <a:moveTo>
                      <a:pt x="878" y="224"/>
                    </a:moveTo>
                    <a:lnTo>
                      <a:pt x="831" y="235"/>
                    </a:lnTo>
                    <a:cubicBezTo>
                      <a:pt x="827" y="236"/>
                      <a:pt x="822" y="233"/>
                      <a:pt x="821" y="229"/>
                    </a:cubicBezTo>
                    <a:cubicBezTo>
                      <a:pt x="820" y="225"/>
                      <a:pt x="823" y="220"/>
                      <a:pt x="827" y="219"/>
                    </a:cubicBezTo>
                    <a:lnTo>
                      <a:pt x="874" y="209"/>
                    </a:lnTo>
                    <a:cubicBezTo>
                      <a:pt x="879" y="208"/>
                      <a:pt x="883" y="211"/>
                      <a:pt x="884" y="215"/>
                    </a:cubicBezTo>
                    <a:cubicBezTo>
                      <a:pt x="885" y="219"/>
                      <a:pt x="882" y="224"/>
                      <a:pt x="878" y="224"/>
                    </a:cubicBezTo>
                    <a:close/>
                    <a:moveTo>
                      <a:pt x="784" y="245"/>
                    </a:moveTo>
                    <a:lnTo>
                      <a:pt x="745" y="254"/>
                    </a:lnTo>
                    <a:cubicBezTo>
                      <a:pt x="745" y="254"/>
                      <a:pt x="744" y="254"/>
                      <a:pt x="744" y="254"/>
                    </a:cubicBezTo>
                    <a:lnTo>
                      <a:pt x="735" y="254"/>
                    </a:lnTo>
                    <a:cubicBezTo>
                      <a:pt x="731" y="254"/>
                      <a:pt x="727" y="251"/>
                      <a:pt x="727" y="246"/>
                    </a:cubicBezTo>
                    <a:cubicBezTo>
                      <a:pt x="727" y="242"/>
                      <a:pt x="731" y="238"/>
                      <a:pt x="735" y="238"/>
                    </a:cubicBezTo>
                    <a:lnTo>
                      <a:pt x="744" y="238"/>
                    </a:lnTo>
                    <a:lnTo>
                      <a:pt x="742" y="238"/>
                    </a:lnTo>
                    <a:lnTo>
                      <a:pt x="781" y="230"/>
                    </a:lnTo>
                    <a:cubicBezTo>
                      <a:pt x="785" y="229"/>
                      <a:pt x="789" y="231"/>
                      <a:pt x="790" y="236"/>
                    </a:cubicBezTo>
                    <a:cubicBezTo>
                      <a:pt x="791" y="240"/>
                      <a:pt x="788" y="244"/>
                      <a:pt x="784" y="245"/>
                    </a:cubicBezTo>
                    <a:close/>
                    <a:moveTo>
                      <a:pt x="687" y="255"/>
                    </a:moveTo>
                    <a:lnTo>
                      <a:pt x="639" y="257"/>
                    </a:lnTo>
                    <a:cubicBezTo>
                      <a:pt x="635" y="257"/>
                      <a:pt x="631" y="253"/>
                      <a:pt x="631" y="249"/>
                    </a:cubicBezTo>
                    <a:cubicBezTo>
                      <a:pt x="631" y="244"/>
                      <a:pt x="635" y="241"/>
                      <a:pt x="639" y="241"/>
                    </a:cubicBezTo>
                    <a:lnTo>
                      <a:pt x="687" y="239"/>
                    </a:lnTo>
                    <a:cubicBezTo>
                      <a:pt x="691" y="239"/>
                      <a:pt x="695" y="243"/>
                      <a:pt x="695" y="247"/>
                    </a:cubicBezTo>
                    <a:cubicBezTo>
                      <a:pt x="695" y="252"/>
                      <a:pt x="692" y="255"/>
                      <a:pt x="687" y="255"/>
                    </a:cubicBezTo>
                    <a:close/>
                    <a:moveTo>
                      <a:pt x="591" y="258"/>
                    </a:moveTo>
                    <a:lnTo>
                      <a:pt x="557" y="258"/>
                    </a:lnTo>
                    <a:cubicBezTo>
                      <a:pt x="556" y="258"/>
                      <a:pt x="556" y="258"/>
                      <a:pt x="555" y="258"/>
                    </a:cubicBezTo>
                    <a:lnTo>
                      <a:pt x="542" y="256"/>
                    </a:lnTo>
                    <a:cubicBezTo>
                      <a:pt x="538" y="255"/>
                      <a:pt x="535" y="251"/>
                      <a:pt x="536" y="247"/>
                    </a:cubicBezTo>
                    <a:cubicBezTo>
                      <a:pt x="536" y="242"/>
                      <a:pt x="541" y="240"/>
                      <a:pt x="545" y="240"/>
                    </a:cubicBezTo>
                    <a:lnTo>
                      <a:pt x="558" y="243"/>
                    </a:lnTo>
                    <a:lnTo>
                      <a:pt x="556" y="242"/>
                    </a:lnTo>
                    <a:lnTo>
                      <a:pt x="591" y="242"/>
                    </a:lnTo>
                    <a:cubicBezTo>
                      <a:pt x="596" y="242"/>
                      <a:pt x="599" y="245"/>
                      <a:pt x="599" y="249"/>
                    </a:cubicBezTo>
                    <a:cubicBezTo>
                      <a:pt x="599" y="254"/>
                      <a:pt x="596" y="258"/>
                      <a:pt x="591" y="258"/>
                    </a:cubicBezTo>
                    <a:close/>
                    <a:moveTo>
                      <a:pt x="495" y="248"/>
                    </a:moveTo>
                    <a:lnTo>
                      <a:pt x="448" y="239"/>
                    </a:lnTo>
                    <a:cubicBezTo>
                      <a:pt x="443" y="239"/>
                      <a:pt x="440" y="234"/>
                      <a:pt x="441" y="230"/>
                    </a:cubicBezTo>
                    <a:cubicBezTo>
                      <a:pt x="442" y="226"/>
                      <a:pt x="446" y="223"/>
                      <a:pt x="450" y="224"/>
                    </a:cubicBezTo>
                    <a:lnTo>
                      <a:pt x="498" y="232"/>
                    </a:lnTo>
                    <a:cubicBezTo>
                      <a:pt x="502" y="233"/>
                      <a:pt x="505" y="237"/>
                      <a:pt x="504" y="241"/>
                    </a:cubicBezTo>
                    <a:cubicBezTo>
                      <a:pt x="503" y="246"/>
                      <a:pt x="499" y="248"/>
                      <a:pt x="495" y="248"/>
                    </a:cubicBezTo>
                    <a:close/>
                    <a:moveTo>
                      <a:pt x="400" y="231"/>
                    </a:moveTo>
                    <a:lnTo>
                      <a:pt x="368" y="225"/>
                    </a:lnTo>
                    <a:cubicBezTo>
                      <a:pt x="367" y="225"/>
                      <a:pt x="367" y="225"/>
                      <a:pt x="366" y="225"/>
                    </a:cubicBezTo>
                    <a:lnTo>
                      <a:pt x="352" y="220"/>
                    </a:lnTo>
                    <a:cubicBezTo>
                      <a:pt x="348" y="218"/>
                      <a:pt x="346" y="214"/>
                      <a:pt x="348" y="209"/>
                    </a:cubicBezTo>
                    <a:cubicBezTo>
                      <a:pt x="349" y="205"/>
                      <a:pt x="354" y="203"/>
                      <a:pt x="358" y="205"/>
                    </a:cubicBezTo>
                    <a:lnTo>
                      <a:pt x="372" y="210"/>
                    </a:lnTo>
                    <a:lnTo>
                      <a:pt x="370" y="210"/>
                    </a:lnTo>
                    <a:lnTo>
                      <a:pt x="403" y="215"/>
                    </a:lnTo>
                    <a:cubicBezTo>
                      <a:pt x="407" y="216"/>
                      <a:pt x="410" y="220"/>
                      <a:pt x="410" y="225"/>
                    </a:cubicBezTo>
                    <a:cubicBezTo>
                      <a:pt x="409" y="229"/>
                      <a:pt x="405" y="232"/>
                      <a:pt x="400" y="231"/>
                    </a:cubicBezTo>
                    <a:close/>
                    <a:moveTo>
                      <a:pt x="307" y="203"/>
                    </a:moveTo>
                    <a:lnTo>
                      <a:pt x="262" y="186"/>
                    </a:lnTo>
                    <a:cubicBezTo>
                      <a:pt x="258" y="184"/>
                      <a:pt x="256" y="180"/>
                      <a:pt x="258" y="176"/>
                    </a:cubicBezTo>
                    <a:cubicBezTo>
                      <a:pt x="259" y="172"/>
                      <a:pt x="264" y="169"/>
                      <a:pt x="268" y="171"/>
                    </a:cubicBezTo>
                    <a:lnTo>
                      <a:pt x="313" y="188"/>
                    </a:lnTo>
                    <a:cubicBezTo>
                      <a:pt x="317" y="189"/>
                      <a:pt x="319" y="194"/>
                      <a:pt x="318" y="198"/>
                    </a:cubicBezTo>
                    <a:cubicBezTo>
                      <a:pt x="316" y="202"/>
                      <a:pt x="312" y="204"/>
                      <a:pt x="307" y="203"/>
                    </a:cubicBezTo>
                    <a:close/>
                    <a:moveTo>
                      <a:pt x="217" y="169"/>
                    </a:moveTo>
                    <a:lnTo>
                      <a:pt x="179" y="155"/>
                    </a:lnTo>
                    <a:cubicBezTo>
                      <a:pt x="179" y="155"/>
                      <a:pt x="178" y="154"/>
                      <a:pt x="178" y="154"/>
                    </a:cubicBezTo>
                    <a:lnTo>
                      <a:pt x="172" y="151"/>
                    </a:lnTo>
                    <a:cubicBezTo>
                      <a:pt x="168" y="149"/>
                      <a:pt x="167" y="144"/>
                      <a:pt x="169" y="140"/>
                    </a:cubicBezTo>
                    <a:cubicBezTo>
                      <a:pt x="171" y="136"/>
                      <a:pt x="176" y="135"/>
                      <a:pt x="180" y="137"/>
                    </a:cubicBezTo>
                    <a:lnTo>
                      <a:pt x="186" y="140"/>
                    </a:lnTo>
                    <a:lnTo>
                      <a:pt x="185" y="140"/>
                    </a:lnTo>
                    <a:lnTo>
                      <a:pt x="223" y="154"/>
                    </a:lnTo>
                    <a:cubicBezTo>
                      <a:pt x="227" y="156"/>
                      <a:pt x="229" y="160"/>
                      <a:pt x="228" y="164"/>
                    </a:cubicBezTo>
                    <a:cubicBezTo>
                      <a:pt x="226" y="169"/>
                      <a:pt x="222" y="171"/>
                      <a:pt x="217" y="169"/>
                    </a:cubicBezTo>
                    <a:close/>
                    <a:moveTo>
                      <a:pt x="130" y="127"/>
                    </a:moveTo>
                    <a:lnTo>
                      <a:pt x="89" y="103"/>
                    </a:lnTo>
                    <a:cubicBezTo>
                      <a:pt x="85" y="101"/>
                      <a:pt x="83" y="96"/>
                      <a:pt x="86" y="92"/>
                    </a:cubicBezTo>
                    <a:cubicBezTo>
                      <a:pt x="88" y="88"/>
                      <a:pt x="93" y="87"/>
                      <a:pt x="97" y="89"/>
                    </a:cubicBezTo>
                    <a:lnTo>
                      <a:pt x="138" y="113"/>
                    </a:lnTo>
                    <a:cubicBezTo>
                      <a:pt x="142" y="115"/>
                      <a:pt x="143" y="120"/>
                      <a:pt x="141" y="124"/>
                    </a:cubicBezTo>
                    <a:cubicBezTo>
                      <a:pt x="139" y="128"/>
                      <a:pt x="134" y="129"/>
                      <a:pt x="130" y="127"/>
                    </a:cubicBezTo>
                    <a:close/>
                    <a:moveTo>
                      <a:pt x="47" y="79"/>
                    </a:moveTo>
                    <a:lnTo>
                      <a:pt x="5" y="55"/>
                    </a:lnTo>
                    <a:cubicBezTo>
                      <a:pt x="2" y="53"/>
                      <a:pt x="0" y="48"/>
                      <a:pt x="2" y="44"/>
                    </a:cubicBezTo>
                    <a:cubicBezTo>
                      <a:pt x="5" y="40"/>
                      <a:pt x="9" y="39"/>
                      <a:pt x="13" y="41"/>
                    </a:cubicBezTo>
                    <a:lnTo>
                      <a:pt x="55" y="65"/>
                    </a:lnTo>
                    <a:cubicBezTo>
                      <a:pt x="59" y="67"/>
                      <a:pt x="60" y="72"/>
                      <a:pt x="58" y="76"/>
                    </a:cubicBezTo>
                    <a:cubicBezTo>
                      <a:pt x="56" y="80"/>
                      <a:pt x="51" y="81"/>
                      <a:pt x="47" y="79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59200" y="4012200"/>
                <a:ext cx="57600" cy="446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6"/>
                    </a:moveTo>
                    <a:lnTo>
                      <a:pt x="0" y="0"/>
                    </a:lnTo>
                    <a:lnTo>
                      <a:pt x="20" y="35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804040" y="4004280"/>
                <a:ext cx="1108440" cy="198000"/>
              </a:xfrm>
              <a:custGeom>
                <a:avLst/>
                <a:gdLst/>
                <a:ahLst/>
                <a:rect l="l" t="t" r="r" b="b"/>
                <a:pathLst>
                  <a:path w="1314" h="258">
                    <a:moveTo>
                      <a:pt x="1309" y="16"/>
                    </a:moveTo>
                    <a:lnTo>
                      <a:pt x="1269" y="41"/>
                    </a:lnTo>
                    <a:cubicBezTo>
                      <a:pt x="1265" y="44"/>
                      <a:pt x="1260" y="43"/>
                      <a:pt x="1258" y="39"/>
                    </a:cubicBezTo>
                    <a:cubicBezTo>
                      <a:pt x="1255" y="35"/>
                      <a:pt x="1256" y="30"/>
                      <a:pt x="1260" y="28"/>
                    </a:cubicBezTo>
                    <a:lnTo>
                      <a:pt x="1301" y="3"/>
                    </a:lnTo>
                    <a:cubicBezTo>
                      <a:pt x="1305" y="0"/>
                      <a:pt x="1310" y="1"/>
                      <a:pt x="1312" y="5"/>
                    </a:cubicBezTo>
                    <a:cubicBezTo>
                      <a:pt x="1314" y="9"/>
                      <a:pt x="1313" y="14"/>
                      <a:pt x="1309" y="16"/>
                    </a:cubicBezTo>
                    <a:close/>
                    <a:moveTo>
                      <a:pt x="1228" y="67"/>
                    </a:moveTo>
                    <a:lnTo>
                      <a:pt x="1187" y="92"/>
                    </a:lnTo>
                    <a:cubicBezTo>
                      <a:pt x="1183" y="94"/>
                      <a:pt x="1178" y="93"/>
                      <a:pt x="1176" y="89"/>
                    </a:cubicBezTo>
                    <a:cubicBezTo>
                      <a:pt x="1174" y="86"/>
                      <a:pt x="1175" y="81"/>
                      <a:pt x="1179" y="78"/>
                    </a:cubicBezTo>
                    <a:lnTo>
                      <a:pt x="1219" y="53"/>
                    </a:lnTo>
                    <a:cubicBezTo>
                      <a:pt x="1223" y="51"/>
                      <a:pt x="1228" y="52"/>
                      <a:pt x="1230" y="56"/>
                    </a:cubicBezTo>
                    <a:cubicBezTo>
                      <a:pt x="1233" y="59"/>
                      <a:pt x="1232" y="64"/>
                      <a:pt x="1228" y="67"/>
                    </a:cubicBezTo>
                    <a:close/>
                    <a:moveTo>
                      <a:pt x="1146" y="117"/>
                    </a:moveTo>
                    <a:lnTo>
                      <a:pt x="1122" y="132"/>
                    </a:lnTo>
                    <a:cubicBezTo>
                      <a:pt x="1122" y="133"/>
                      <a:pt x="1121" y="133"/>
                      <a:pt x="1121" y="133"/>
                    </a:cubicBezTo>
                    <a:lnTo>
                      <a:pt x="1103" y="141"/>
                    </a:lnTo>
                    <a:cubicBezTo>
                      <a:pt x="1099" y="142"/>
                      <a:pt x="1094" y="140"/>
                      <a:pt x="1093" y="136"/>
                    </a:cubicBezTo>
                    <a:cubicBezTo>
                      <a:pt x="1091" y="132"/>
                      <a:pt x="1093" y="127"/>
                      <a:pt x="1097" y="126"/>
                    </a:cubicBezTo>
                    <a:lnTo>
                      <a:pt x="1115" y="118"/>
                    </a:lnTo>
                    <a:lnTo>
                      <a:pt x="1114" y="119"/>
                    </a:lnTo>
                    <a:lnTo>
                      <a:pt x="1138" y="104"/>
                    </a:lnTo>
                    <a:cubicBezTo>
                      <a:pt x="1142" y="101"/>
                      <a:pt x="1147" y="103"/>
                      <a:pt x="1149" y="106"/>
                    </a:cubicBezTo>
                    <a:cubicBezTo>
                      <a:pt x="1151" y="110"/>
                      <a:pt x="1150" y="115"/>
                      <a:pt x="1146" y="117"/>
                    </a:cubicBezTo>
                    <a:close/>
                    <a:moveTo>
                      <a:pt x="1059" y="159"/>
                    </a:moveTo>
                    <a:lnTo>
                      <a:pt x="1015" y="178"/>
                    </a:lnTo>
                    <a:cubicBezTo>
                      <a:pt x="1010" y="180"/>
                      <a:pt x="1006" y="178"/>
                      <a:pt x="1004" y="174"/>
                    </a:cubicBezTo>
                    <a:cubicBezTo>
                      <a:pt x="1002" y="169"/>
                      <a:pt x="1004" y="165"/>
                      <a:pt x="1008" y="163"/>
                    </a:cubicBezTo>
                    <a:lnTo>
                      <a:pt x="1053" y="144"/>
                    </a:lnTo>
                    <a:cubicBezTo>
                      <a:pt x="1057" y="143"/>
                      <a:pt x="1061" y="145"/>
                      <a:pt x="1063" y="149"/>
                    </a:cubicBezTo>
                    <a:cubicBezTo>
                      <a:pt x="1065" y="153"/>
                      <a:pt x="1063" y="157"/>
                      <a:pt x="1059" y="159"/>
                    </a:cubicBezTo>
                    <a:close/>
                    <a:moveTo>
                      <a:pt x="970" y="196"/>
                    </a:moveTo>
                    <a:lnTo>
                      <a:pt x="934" y="212"/>
                    </a:lnTo>
                    <a:cubicBezTo>
                      <a:pt x="933" y="212"/>
                      <a:pt x="933" y="212"/>
                      <a:pt x="932" y="212"/>
                    </a:cubicBezTo>
                    <a:lnTo>
                      <a:pt x="924" y="214"/>
                    </a:lnTo>
                    <a:cubicBezTo>
                      <a:pt x="920" y="215"/>
                      <a:pt x="916" y="212"/>
                      <a:pt x="915" y="208"/>
                    </a:cubicBezTo>
                    <a:cubicBezTo>
                      <a:pt x="914" y="204"/>
                      <a:pt x="916" y="199"/>
                      <a:pt x="921" y="198"/>
                    </a:cubicBezTo>
                    <a:lnTo>
                      <a:pt x="929" y="197"/>
                    </a:lnTo>
                    <a:lnTo>
                      <a:pt x="928" y="197"/>
                    </a:lnTo>
                    <a:lnTo>
                      <a:pt x="964" y="182"/>
                    </a:lnTo>
                    <a:cubicBezTo>
                      <a:pt x="968" y="180"/>
                      <a:pt x="973" y="182"/>
                      <a:pt x="975" y="186"/>
                    </a:cubicBezTo>
                    <a:cubicBezTo>
                      <a:pt x="976" y="190"/>
                      <a:pt x="974" y="195"/>
                      <a:pt x="970" y="196"/>
                    </a:cubicBezTo>
                    <a:close/>
                    <a:moveTo>
                      <a:pt x="877" y="224"/>
                    </a:moveTo>
                    <a:lnTo>
                      <a:pt x="831" y="235"/>
                    </a:lnTo>
                    <a:cubicBezTo>
                      <a:pt x="826" y="236"/>
                      <a:pt x="822" y="233"/>
                      <a:pt x="821" y="229"/>
                    </a:cubicBezTo>
                    <a:cubicBezTo>
                      <a:pt x="820" y="225"/>
                      <a:pt x="823" y="220"/>
                      <a:pt x="827" y="219"/>
                    </a:cubicBezTo>
                    <a:lnTo>
                      <a:pt x="874" y="209"/>
                    </a:lnTo>
                    <a:cubicBezTo>
                      <a:pt x="878" y="208"/>
                      <a:pt x="883" y="211"/>
                      <a:pt x="883" y="215"/>
                    </a:cubicBezTo>
                    <a:cubicBezTo>
                      <a:pt x="884" y="219"/>
                      <a:pt x="882" y="224"/>
                      <a:pt x="877" y="224"/>
                    </a:cubicBezTo>
                    <a:close/>
                    <a:moveTo>
                      <a:pt x="784" y="245"/>
                    </a:moveTo>
                    <a:lnTo>
                      <a:pt x="745" y="254"/>
                    </a:lnTo>
                    <a:cubicBezTo>
                      <a:pt x="745" y="254"/>
                      <a:pt x="744" y="254"/>
                      <a:pt x="744" y="254"/>
                    </a:cubicBezTo>
                    <a:lnTo>
                      <a:pt x="735" y="254"/>
                    </a:lnTo>
                    <a:cubicBezTo>
                      <a:pt x="731" y="254"/>
                      <a:pt x="727" y="251"/>
                      <a:pt x="727" y="246"/>
                    </a:cubicBezTo>
                    <a:cubicBezTo>
                      <a:pt x="727" y="242"/>
                      <a:pt x="730" y="238"/>
                      <a:pt x="735" y="238"/>
                    </a:cubicBezTo>
                    <a:lnTo>
                      <a:pt x="743" y="238"/>
                    </a:lnTo>
                    <a:lnTo>
                      <a:pt x="742" y="238"/>
                    </a:lnTo>
                    <a:lnTo>
                      <a:pt x="780" y="230"/>
                    </a:lnTo>
                    <a:cubicBezTo>
                      <a:pt x="785" y="229"/>
                      <a:pt x="789" y="231"/>
                      <a:pt x="790" y="236"/>
                    </a:cubicBezTo>
                    <a:cubicBezTo>
                      <a:pt x="791" y="240"/>
                      <a:pt x="788" y="244"/>
                      <a:pt x="784" y="245"/>
                    </a:cubicBezTo>
                    <a:close/>
                    <a:moveTo>
                      <a:pt x="687" y="255"/>
                    </a:moveTo>
                    <a:lnTo>
                      <a:pt x="639" y="257"/>
                    </a:lnTo>
                    <a:cubicBezTo>
                      <a:pt x="635" y="257"/>
                      <a:pt x="631" y="253"/>
                      <a:pt x="631" y="249"/>
                    </a:cubicBezTo>
                    <a:cubicBezTo>
                      <a:pt x="631" y="244"/>
                      <a:pt x="634" y="241"/>
                      <a:pt x="639" y="241"/>
                    </a:cubicBezTo>
                    <a:lnTo>
                      <a:pt x="687" y="239"/>
                    </a:lnTo>
                    <a:cubicBezTo>
                      <a:pt x="691" y="239"/>
                      <a:pt x="695" y="243"/>
                      <a:pt x="695" y="247"/>
                    </a:cubicBezTo>
                    <a:cubicBezTo>
                      <a:pt x="695" y="252"/>
                      <a:pt x="692" y="255"/>
                      <a:pt x="687" y="255"/>
                    </a:cubicBezTo>
                    <a:close/>
                    <a:moveTo>
                      <a:pt x="591" y="258"/>
                    </a:moveTo>
                    <a:lnTo>
                      <a:pt x="556" y="258"/>
                    </a:lnTo>
                    <a:cubicBezTo>
                      <a:pt x="556" y="258"/>
                      <a:pt x="555" y="258"/>
                      <a:pt x="555" y="258"/>
                    </a:cubicBezTo>
                    <a:lnTo>
                      <a:pt x="542" y="256"/>
                    </a:lnTo>
                    <a:cubicBezTo>
                      <a:pt x="537" y="255"/>
                      <a:pt x="534" y="251"/>
                      <a:pt x="535" y="247"/>
                    </a:cubicBezTo>
                    <a:cubicBezTo>
                      <a:pt x="536" y="242"/>
                      <a:pt x="540" y="240"/>
                      <a:pt x="545" y="240"/>
                    </a:cubicBezTo>
                    <a:lnTo>
                      <a:pt x="557" y="243"/>
                    </a:lnTo>
                    <a:lnTo>
                      <a:pt x="556" y="242"/>
                    </a:lnTo>
                    <a:lnTo>
                      <a:pt x="591" y="242"/>
                    </a:lnTo>
                    <a:cubicBezTo>
                      <a:pt x="595" y="242"/>
                      <a:pt x="599" y="245"/>
                      <a:pt x="599" y="249"/>
                    </a:cubicBezTo>
                    <a:cubicBezTo>
                      <a:pt x="599" y="254"/>
                      <a:pt x="596" y="258"/>
                      <a:pt x="591" y="258"/>
                    </a:cubicBezTo>
                    <a:close/>
                    <a:moveTo>
                      <a:pt x="494" y="248"/>
                    </a:moveTo>
                    <a:lnTo>
                      <a:pt x="447" y="239"/>
                    </a:lnTo>
                    <a:cubicBezTo>
                      <a:pt x="443" y="239"/>
                      <a:pt x="440" y="234"/>
                      <a:pt x="441" y="230"/>
                    </a:cubicBezTo>
                    <a:cubicBezTo>
                      <a:pt x="441" y="226"/>
                      <a:pt x="446" y="223"/>
                      <a:pt x="450" y="224"/>
                    </a:cubicBezTo>
                    <a:lnTo>
                      <a:pt x="497" y="232"/>
                    </a:lnTo>
                    <a:cubicBezTo>
                      <a:pt x="502" y="233"/>
                      <a:pt x="505" y="237"/>
                      <a:pt x="504" y="241"/>
                    </a:cubicBezTo>
                    <a:cubicBezTo>
                      <a:pt x="503" y="246"/>
                      <a:pt x="499" y="248"/>
                      <a:pt x="494" y="248"/>
                    </a:cubicBezTo>
                    <a:close/>
                    <a:moveTo>
                      <a:pt x="400" y="231"/>
                    </a:moveTo>
                    <a:lnTo>
                      <a:pt x="367" y="225"/>
                    </a:lnTo>
                    <a:cubicBezTo>
                      <a:pt x="367" y="225"/>
                      <a:pt x="366" y="225"/>
                      <a:pt x="366" y="225"/>
                    </a:cubicBezTo>
                    <a:lnTo>
                      <a:pt x="352" y="220"/>
                    </a:lnTo>
                    <a:cubicBezTo>
                      <a:pt x="348" y="218"/>
                      <a:pt x="346" y="214"/>
                      <a:pt x="347" y="209"/>
                    </a:cubicBezTo>
                    <a:cubicBezTo>
                      <a:pt x="349" y="205"/>
                      <a:pt x="353" y="203"/>
                      <a:pt x="358" y="205"/>
                    </a:cubicBezTo>
                    <a:lnTo>
                      <a:pt x="372" y="210"/>
                    </a:lnTo>
                    <a:lnTo>
                      <a:pt x="370" y="210"/>
                    </a:lnTo>
                    <a:lnTo>
                      <a:pt x="403" y="215"/>
                    </a:lnTo>
                    <a:cubicBezTo>
                      <a:pt x="407" y="216"/>
                      <a:pt x="410" y="220"/>
                      <a:pt x="409" y="225"/>
                    </a:cubicBezTo>
                    <a:cubicBezTo>
                      <a:pt x="408" y="229"/>
                      <a:pt x="404" y="232"/>
                      <a:pt x="400" y="231"/>
                    </a:cubicBezTo>
                    <a:close/>
                    <a:moveTo>
                      <a:pt x="307" y="203"/>
                    </a:moveTo>
                    <a:lnTo>
                      <a:pt x="262" y="186"/>
                    </a:lnTo>
                    <a:cubicBezTo>
                      <a:pt x="258" y="184"/>
                      <a:pt x="256" y="180"/>
                      <a:pt x="257" y="176"/>
                    </a:cubicBezTo>
                    <a:cubicBezTo>
                      <a:pt x="259" y="172"/>
                      <a:pt x="264" y="169"/>
                      <a:pt x="268" y="171"/>
                    </a:cubicBezTo>
                    <a:lnTo>
                      <a:pt x="313" y="188"/>
                    </a:lnTo>
                    <a:cubicBezTo>
                      <a:pt x="317" y="189"/>
                      <a:pt x="319" y="194"/>
                      <a:pt x="317" y="198"/>
                    </a:cubicBezTo>
                    <a:cubicBezTo>
                      <a:pt x="316" y="202"/>
                      <a:pt x="311" y="204"/>
                      <a:pt x="307" y="203"/>
                    </a:cubicBezTo>
                    <a:close/>
                    <a:moveTo>
                      <a:pt x="217" y="169"/>
                    </a:moveTo>
                    <a:lnTo>
                      <a:pt x="179" y="155"/>
                    </a:lnTo>
                    <a:cubicBezTo>
                      <a:pt x="178" y="155"/>
                      <a:pt x="178" y="154"/>
                      <a:pt x="177" y="154"/>
                    </a:cubicBezTo>
                    <a:lnTo>
                      <a:pt x="171" y="151"/>
                    </a:lnTo>
                    <a:cubicBezTo>
                      <a:pt x="168" y="149"/>
                      <a:pt x="166" y="144"/>
                      <a:pt x="169" y="140"/>
                    </a:cubicBezTo>
                    <a:cubicBezTo>
                      <a:pt x="171" y="136"/>
                      <a:pt x="176" y="135"/>
                      <a:pt x="179" y="137"/>
                    </a:cubicBezTo>
                    <a:lnTo>
                      <a:pt x="185" y="140"/>
                    </a:lnTo>
                    <a:lnTo>
                      <a:pt x="184" y="140"/>
                    </a:lnTo>
                    <a:lnTo>
                      <a:pt x="223" y="154"/>
                    </a:lnTo>
                    <a:cubicBezTo>
                      <a:pt x="227" y="156"/>
                      <a:pt x="229" y="160"/>
                      <a:pt x="227" y="164"/>
                    </a:cubicBezTo>
                    <a:cubicBezTo>
                      <a:pt x="226" y="169"/>
                      <a:pt x="221" y="171"/>
                      <a:pt x="217" y="169"/>
                    </a:cubicBezTo>
                    <a:close/>
                    <a:moveTo>
                      <a:pt x="130" y="127"/>
                    </a:moveTo>
                    <a:lnTo>
                      <a:pt x="88" y="103"/>
                    </a:lnTo>
                    <a:cubicBezTo>
                      <a:pt x="84" y="101"/>
                      <a:pt x="83" y="96"/>
                      <a:pt x="85" y="92"/>
                    </a:cubicBezTo>
                    <a:cubicBezTo>
                      <a:pt x="87" y="88"/>
                      <a:pt x="92" y="87"/>
                      <a:pt x="96" y="89"/>
                    </a:cubicBezTo>
                    <a:lnTo>
                      <a:pt x="138" y="113"/>
                    </a:lnTo>
                    <a:cubicBezTo>
                      <a:pt x="142" y="115"/>
                      <a:pt x="143" y="120"/>
                      <a:pt x="141" y="124"/>
                    </a:cubicBezTo>
                    <a:cubicBezTo>
                      <a:pt x="139" y="128"/>
                      <a:pt x="134" y="129"/>
                      <a:pt x="130" y="127"/>
                    </a:cubicBezTo>
                    <a:close/>
                    <a:moveTo>
                      <a:pt x="47" y="79"/>
                    </a:moveTo>
                    <a:lnTo>
                      <a:pt x="5" y="55"/>
                    </a:lnTo>
                    <a:cubicBezTo>
                      <a:pt x="1" y="53"/>
                      <a:pt x="0" y="48"/>
                      <a:pt x="2" y="44"/>
                    </a:cubicBezTo>
                    <a:cubicBezTo>
                      <a:pt x="4" y="40"/>
                      <a:pt x="9" y="39"/>
                      <a:pt x="13" y="41"/>
                    </a:cubicBezTo>
                    <a:lnTo>
                      <a:pt x="55" y="65"/>
                    </a:lnTo>
                    <a:cubicBezTo>
                      <a:pt x="58" y="67"/>
                      <a:pt x="60" y="72"/>
                      <a:pt x="58" y="76"/>
                    </a:cubicBezTo>
                    <a:cubicBezTo>
                      <a:pt x="55" y="80"/>
                      <a:pt x="50" y="81"/>
                      <a:pt x="47" y="79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63360" y="4012200"/>
                <a:ext cx="56160" cy="4464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40" y="6"/>
                    </a:moveTo>
                    <a:lnTo>
                      <a:pt x="0" y="0"/>
                    </a:lnTo>
                    <a:lnTo>
                      <a:pt x="19" y="35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83320" y="1847880"/>
                <a:ext cx="70344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83320" y="1847880"/>
                <a:ext cx="70344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5300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0256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5300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0256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87120" y="184788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87120" y="184788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5464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0492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35464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0492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83320" y="3130560"/>
                <a:ext cx="70344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83320" y="3130560"/>
                <a:ext cx="70344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728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5300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0256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5300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0256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87120" y="31305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487120" y="31305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57784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464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0492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0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5464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0492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1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83320" y="2488680"/>
                <a:ext cx="70344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83320" y="2488680"/>
                <a:ext cx="70344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7728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5300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0256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5300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0256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87120" y="2488680"/>
                <a:ext cx="70236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87120" y="2488680"/>
                <a:ext cx="702360" cy="64188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57784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35464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70492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35464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0492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83320" y="3771360"/>
                <a:ext cx="70344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83320" y="3771360"/>
                <a:ext cx="70344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8056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ff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5300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0256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5300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0256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87120" y="37713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87120" y="37713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81480" y="270576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5464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492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2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5464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0492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3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89480" y="184788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89480" y="184788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5520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40548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05520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0548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92200" y="184788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92200" y="184788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5756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107480" y="23508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5756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07480" y="187200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89480" y="31305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89480" y="31305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8056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5520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0548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5520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0548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92200" y="31305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892200" y="31305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81480" y="334800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5756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107480" y="36298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5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5756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107480" y="31510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4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728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05520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0548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05520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0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0548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1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7784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5756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07480" y="299052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5756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2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07480" y="25088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3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89480" y="37713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89480" y="37713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28056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05520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0548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5520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4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0548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5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92200" y="3771360"/>
                <a:ext cx="702360" cy="64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892200" y="3771360"/>
                <a:ext cx="702360" cy="640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981480" y="3999240"/>
                <a:ext cx="54252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宋体"/>
                  </a:rPr>
                  <a:t>P</a:t>
                </a:r>
                <a:endParaRPr b="0" lang="en-US" sz="17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5756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107480" y="427068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7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5756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6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107480" y="3790440"/>
                <a:ext cx="659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(6,7)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15960" y="3432960"/>
                <a:ext cx="596880" cy="585360"/>
              </a:xfrm>
              <a:custGeom>
                <a:avLst/>
                <a:gdLst/>
                <a:ahLst/>
                <a:rect l="l" t="t" r="r" b="b"/>
                <a:pathLst>
                  <a:path w="709" h="761">
                    <a:moveTo>
                      <a:pt x="700" y="21"/>
                    </a:moveTo>
                    <a:lnTo>
                      <a:pt x="652" y="17"/>
                    </a:lnTo>
                    <a:cubicBezTo>
                      <a:pt x="648" y="16"/>
                      <a:pt x="644" y="12"/>
                      <a:pt x="645" y="8"/>
                    </a:cubicBezTo>
                    <a:cubicBezTo>
                      <a:pt x="645" y="4"/>
                      <a:pt x="649" y="0"/>
                      <a:pt x="653" y="1"/>
                    </a:cubicBezTo>
                    <a:lnTo>
                      <a:pt x="701" y="6"/>
                    </a:lnTo>
                    <a:cubicBezTo>
                      <a:pt x="706" y="6"/>
                      <a:pt x="709" y="10"/>
                      <a:pt x="708" y="14"/>
                    </a:cubicBezTo>
                    <a:cubicBezTo>
                      <a:pt x="708" y="19"/>
                      <a:pt x="704" y="22"/>
                      <a:pt x="700" y="21"/>
                    </a:cubicBezTo>
                    <a:close/>
                    <a:moveTo>
                      <a:pt x="605" y="16"/>
                    </a:moveTo>
                    <a:lnTo>
                      <a:pt x="578" y="16"/>
                    </a:lnTo>
                    <a:lnTo>
                      <a:pt x="558" y="20"/>
                    </a:lnTo>
                    <a:cubicBezTo>
                      <a:pt x="554" y="20"/>
                      <a:pt x="550" y="17"/>
                      <a:pt x="549" y="13"/>
                    </a:cubicBezTo>
                    <a:cubicBezTo>
                      <a:pt x="548" y="8"/>
                      <a:pt x="551" y="4"/>
                      <a:pt x="556" y="4"/>
                    </a:cubicBezTo>
                    <a:lnTo>
                      <a:pt x="577" y="0"/>
                    </a:lnTo>
                    <a:lnTo>
                      <a:pt x="605" y="0"/>
                    </a:lnTo>
                    <a:cubicBezTo>
                      <a:pt x="609" y="0"/>
                      <a:pt x="613" y="3"/>
                      <a:pt x="613" y="8"/>
                    </a:cubicBezTo>
                    <a:cubicBezTo>
                      <a:pt x="613" y="12"/>
                      <a:pt x="609" y="16"/>
                      <a:pt x="605" y="16"/>
                    </a:cubicBezTo>
                    <a:close/>
                    <a:moveTo>
                      <a:pt x="511" y="27"/>
                    </a:moveTo>
                    <a:lnTo>
                      <a:pt x="463" y="34"/>
                    </a:lnTo>
                    <a:cubicBezTo>
                      <a:pt x="459" y="35"/>
                      <a:pt x="455" y="32"/>
                      <a:pt x="454" y="27"/>
                    </a:cubicBezTo>
                    <a:cubicBezTo>
                      <a:pt x="454" y="23"/>
                      <a:pt x="457" y="19"/>
                      <a:pt x="461" y="18"/>
                    </a:cubicBezTo>
                    <a:lnTo>
                      <a:pt x="508" y="11"/>
                    </a:lnTo>
                    <a:cubicBezTo>
                      <a:pt x="513" y="10"/>
                      <a:pt x="517" y="13"/>
                      <a:pt x="517" y="18"/>
                    </a:cubicBezTo>
                    <a:cubicBezTo>
                      <a:pt x="518" y="22"/>
                      <a:pt x="515" y="26"/>
                      <a:pt x="511" y="27"/>
                    </a:cubicBezTo>
                    <a:close/>
                    <a:moveTo>
                      <a:pt x="420" y="50"/>
                    </a:moveTo>
                    <a:lnTo>
                      <a:pt x="375" y="67"/>
                    </a:lnTo>
                    <a:cubicBezTo>
                      <a:pt x="371" y="68"/>
                      <a:pt x="366" y="66"/>
                      <a:pt x="365" y="62"/>
                    </a:cubicBezTo>
                    <a:cubicBezTo>
                      <a:pt x="363" y="58"/>
                      <a:pt x="365" y="53"/>
                      <a:pt x="369" y="52"/>
                    </a:cubicBezTo>
                    <a:lnTo>
                      <a:pt x="414" y="35"/>
                    </a:lnTo>
                    <a:cubicBezTo>
                      <a:pt x="418" y="34"/>
                      <a:pt x="423" y="36"/>
                      <a:pt x="425" y="40"/>
                    </a:cubicBezTo>
                    <a:cubicBezTo>
                      <a:pt x="426" y="44"/>
                      <a:pt x="424" y="49"/>
                      <a:pt x="420" y="50"/>
                    </a:cubicBezTo>
                    <a:close/>
                    <a:moveTo>
                      <a:pt x="333" y="87"/>
                    </a:moveTo>
                    <a:lnTo>
                      <a:pt x="292" y="112"/>
                    </a:lnTo>
                    <a:cubicBezTo>
                      <a:pt x="288" y="114"/>
                      <a:pt x="283" y="113"/>
                      <a:pt x="281" y="109"/>
                    </a:cubicBezTo>
                    <a:cubicBezTo>
                      <a:pt x="279" y="105"/>
                      <a:pt x="280" y="100"/>
                      <a:pt x="284" y="98"/>
                    </a:cubicBezTo>
                    <a:lnTo>
                      <a:pt x="325" y="73"/>
                    </a:lnTo>
                    <a:cubicBezTo>
                      <a:pt x="329" y="71"/>
                      <a:pt x="334" y="72"/>
                      <a:pt x="336" y="76"/>
                    </a:cubicBezTo>
                    <a:cubicBezTo>
                      <a:pt x="338" y="80"/>
                      <a:pt x="337" y="85"/>
                      <a:pt x="333" y="87"/>
                    </a:cubicBezTo>
                    <a:close/>
                    <a:moveTo>
                      <a:pt x="253" y="136"/>
                    </a:moveTo>
                    <a:lnTo>
                      <a:pt x="217" y="169"/>
                    </a:lnTo>
                    <a:cubicBezTo>
                      <a:pt x="214" y="172"/>
                      <a:pt x="209" y="172"/>
                      <a:pt x="206" y="168"/>
                    </a:cubicBezTo>
                    <a:cubicBezTo>
                      <a:pt x="203" y="165"/>
                      <a:pt x="203" y="160"/>
                      <a:pt x="207" y="157"/>
                    </a:cubicBezTo>
                    <a:lnTo>
                      <a:pt x="242" y="124"/>
                    </a:lnTo>
                    <a:cubicBezTo>
                      <a:pt x="245" y="122"/>
                      <a:pt x="250" y="122"/>
                      <a:pt x="253" y="125"/>
                    </a:cubicBezTo>
                    <a:cubicBezTo>
                      <a:pt x="256" y="128"/>
                      <a:pt x="256" y="133"/>
                      <a:pt x="253" y="136"/>
                    </a:cubicBezTo>
                    <a:close/>
                    <a:moveTo>
                      <a:pt x="182" y="201"/>
                    </a:moveTo>
                    <a:lnTo>
                      <a:pt x="170" y="212"/>
                    </a:lnTo>
                    <a:lnTo>
                      <a:pt x="171" y="211"/>
                    </a:lnTo>
                    <a:lnTo>
                      <a:pt x="152" y="236"/>
                    </a:lnTo>
                    <a:cubicBezTo>
                      <a:pt x="149" y="240"/>
                      <a:pt x="144" y="241"/>
                      <a:pt x="141" y="238"/>
                    </a:cubicBezTo>
                    <a:cubicBezTo>
                      <a:pt x="137" y="235"/>
                      <a:pt x="136" y="230"/>
                      <a:pt x="139" y="227"/>
                    </a:cubicBezTo>
                    <a:lnTo>
                      <a:pt x="158" y="202"/>
                    </a:lnTo>
                    <a:cubicBezTo>
                      <a:pt x="158" y="201"/>
                      <a:pt x="159" y="201"/>
                      <a:pt x="159" y="201"/>
                    </a:cubicBezTo>
                    <a:lnTo>
                      <a:pt x="171" y="189"/>
                    </a:lnTo>
                    <a:cubicBezTo>
                      <a:pt x="174" y="186"/>
                      <a:pt x="179" y="187"/>
                      <a:pt x="182" y="190"/>
                    </a:cubicBezTo>
                    <a:cubicBezTo>
                      <a:pt x="185" y="193"/>
                      <a:pt x="185" y="198"/>
                      <a:pt x="182" y="201"/>
                    </a:cubicBezTo>
                    <a:close/>
                    <a:moveTo>
                      <a:pt x="123" y="275"/>
                    </a:moveTo>
                    <a:lnTo>
                      <a:pt x="101" y="304"/>
                    </a:lnTo>
                    <a:lnTo>
                      <a:pt x="102" y="303"/>
                    </a:lnTo>
                    <a:lnTo>
                      <a:pt x="97" y="313"/>
                    </a:lnTo>
                    <a:cubicBezTo>
                      <a:pt x="95" y="317"/>
                      <a:pt x="90" y="319"/>
                      <a:pt x="86" y="317"/>
                    </a:cubicBezTo>
                    <a:cubicBezTo>
                      <a:pt x="82" y="315"/>
                      <a:pt x="81" y="310"/>
                      <a:pt x="82" y="306"/>
                    </a:cubicBezTo>
                    <a:lnTo>
                      <a:pt x="87" y="296"/>
                    </a:lnTo>
                    <a:cubicBezTo>
                      <a:pt x="87" y="296"/>
                      <a:pt x="88" y="295"/>
                      <a:pt x="88" y="295"/>
                    </a:cubicBezTo>
                    <a:lnTo>
                      <a:pt x="110" y="265"/>
                    </a:lnTo>
                    <a:cubicBezTo>
                      <a:pt x="113" y="262"/>
                      <a:pt x="118" y="261"/>
                      <a:pt x="121" y="264"/>
                    </a:cubicBezTo>
                    <a:cubicBezTo>
                      <a:pt x="125" y="266"/>
                      <a:pt x="126" y="271"/>
                      <a:pt x="123" y="275"/>
                    </a:cubicBezTo>
                    <a:close/>
                    <a:moveTo>
                      <a:pt x="76" y="356"/>
                    </a:moveTo>
                    <a:lnTo>
                      <a:pt x="56" y="400"/>
                    </a:lnTo>
                    <a:cubicBezTo>
                      <a:pt x="54" y="404"/>
                      <a:pt x="49" y="405"/>
                      <a:pt x="45" y="404"/>
                    </a:cubicBezTo>
                    <a:cubicBezTo>
                      <a:pt x="41" y="402"/>
                      <a:pt x="40" y="397"/>
                      <a:pt x="41" y="393"/>
                    </a:cubicBezTo>
                    <a:lnTo>
                      <a:pt x="62" y="350"/>
                    </a:lnTo>
                    <a:cubicBezTo>
                      <a:pt x="64" y="346"/>
                      <a:pt x="69" y="344"/>
                      <a:pt x="73" y="346"/>
                    </a:cubicBezTo>
                    <a:cubicBezTo>
                      <a:pt x="77" y="348"/>
                      <a:pt x="78" y="352"/>
                      <a:pt x="76" y="356"/>
                    </a:cubicBezTo>
                    <a:close/>
                    <a:moveTo>
                      <a:pt x="41" y="444"/>
                    </a:moveTo>
                    <a:lnTo>
                      <a:pt x="33" y="468"/>
                    </a:lnTo>
                    <a:lnTo>
                      <a:pt x="29" y="490"/>
                    </a:lnTo>
                    <a:cubicBezTo>
                      <a:pt x="28" y="494"/>
                      <a:pt x="24" y="497"/>
                      <a:pt x="19" y="496"/>
                    </a:cubicBezTo>
                    <a:cubicBezTo>
                      <a:pt x="15" y="495"/>
                      <a:pt x="12" y="491"/>
                      <a:pt x="13" y="486"/>
                    </a:cubicBezTo>
                    <a:lnTo>
                      <a:pt x="18" y="463"/>
                    </a:lnTo>
                    <a:lnTo>
                      <a:pt x="25" y="439"/>
                    </a:lnTo>
                    <a:cubicBezTo>
                      <a:pt x="27" y="435"/>
                      <a:pt x="31" y="433"/>
                      <a:pt x="35" y="434"/>
                    </a:cubicBezTo>
                    <a:cubicBezTo>
                      <a:pt x="39" y="435"/>
                      <a:pt x="42" y="440"/>
                      <a:pt x="41" y="444"/>
                    </a:cubicBezTo>
                    <a:close/>
                    <a:moveTo>
                      <a:pt x="21" y="536"/>
                    </a:moveTo>
                    <a:lnTo>
                      <a:pt x="19" y="584"/>
                    </a:lnTo>
                    <a:cubicBezTo>
                      <a:pt x="19" y="588"/>
                      <a:pt x="15" y="591"/>
                      <a:pt x="11" y="591"/>
                    </a:cubicBezTo>
                    <a:cubicBezTo>
                      <a:pt x="6" y="591"/>
                      <a:pt x="3" y="587"/>
                      <a:pt x="3" y="583"/>
                    </a:cubicBezTo>
                    <a:lnTo>
                      <a:pt x="5" y="535"/>
                    </a:lnTo>
                    <a:cubicBezTo>
                      <a:pt x="5" y="530"/>
                      <a:pt x="9" y="527"/>
                      <a:pt x="13" y="527"/>
                    </a:cubicBezTo>
                    <a:cubicBezTo>
                      <a:pt x="18" y="527"/>
                      <a:pt x="21" y="531"/>
                      <a:pt x="21" y="536"/>
                    </a:cubicBezTo>
                    <a:close/>
                    <a:moveTo>
                      <a:pt x="17" y="632"/>
                    </a:moveTo>
                    <a:lnTo>
                      <a:pt x="16" y="641"/>
                    </a:lnTo>
                    <a:lnTo>
                      <a:pt x="16" y="639"/>
                    </a:lnTo>
                    <a:lnTo>
                      <a:pt x="22" y="678"/>
                    </a:lnTo>
                    <a:cubicBezTo>
                      <a:pt x="22" y="682"/>
                      <a:pt x="19" y="686"/>
                      <a:pt x="15" y="687"/>
                    </a:cubicBezTo>
                    <a:cubicBezTo>
                      <a:pt x="10" y="687"/>
                      <a:pt x="6" y="684"/>
                      <a:pt x="6" y="680"/>
                    </a:cubicBezTo>
                    <a:lnTo>
                      <a:pt x="1" y="642"/>
                    </a:lnTo>
                    <a:cubicBezTo>
                      <a:pt x="0" y="641"/>
                      <a:pt x="0" y="641"/>
                      <a:pt x="0" y="640"/>
                    </a:cubicBezTo>
                    <a:lnTo>
                      <a:pt x="1" y="631"/>
                    </a:lnTo>
                    <a:cubicBezTo>
                      <a:pt x="1" y="626"/>
                      <a:pt x="5" y="623"/>
                      <a:pt x="9" y="623"/>
                    </a:cubicBezTo>
                    <a:cubicBezTo>
                      <a:pt x="14" y="623"/>
                      <a:pt x="17" y="627"/>
                      <a:pt x="17" y="632"/>
                    </a:cubicBezTo>
                    <a:close/>
                    <a:moveTo>
                      <a:pt x="28" y="725"/>
                    </a:moveTo>
                    <a:lnTo>
                      <a:pt x="31" y="751"/>
                    </a:lnTo>
                    <a:cubicBezTo>
                      <a:pt x="32" y="756"/>
                      <a:pt x="29" y="760"/>
                      <a:pt x="25" y="760"/>
                    </a:cubicBezTo>
                    <a:cubicBezTo>
                      <a:pt x="20" y="761"/>
                      <a:pt x="16" y="758"/>
                      <a:pt x="16" y="754"/>
                    </a:cubicBezTo>
                    <a:lnTo>
                      <a:pt x="12" y="727"/>
                    </a:lnTo>
                    <a:cubicBezTo>
                      <a:pt x="11" y="723"/>
                      <a:pt x="15" y="719"/>
                      <a:pt x="19" y="718"/>
                    </a:cubicBezTo>
                    <a:cubicBezTo>
                      <a:pt x="23" y="718"/>
                      <a:pt x="27" y="721"/>
                      <a:pt x="28" y="72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94480" y="3418920"/>
                <a:ext cx="56520" cy="460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0" y="36"/>
                    </a:moveTo>
                    <a:lnTo>
                      <a:pt x="40" y="25"/>
                    </a:lnTo>
                    <a:lnTo>
                      <a:pt x="7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15960" y="2151360"/>
                <a:ext cx="596880" cy="585360"/>
              </a:xfrm>
              <a:custGeom>
                <a:avLst/>
                <a:gdLst/>
                <a:ahLst/>
                <a:rect l="l" t="t" r="r" b="b"/>
                <a:pathLst>
                  <a:path w="709" h="761">
                    <a:moveTo>
                      <a:pt x="700" y="21"/>
                    </a:moveTo>
                    <a:lnTo>
                      <a:pt x="652" y="17"/>
                    </a:lnTo>
                    <a:cubicBezTo>
                      <a:pt x="648" y="16"/>
                      <a:pt x="644" y="12"/>
                      <a:pt x="645" y="8"/>
                    </a:cubicBezTo>
                    <a:cubicBezTo>
                      <a:pt x="645" y="4"/>
                      <a:pt x="649" y="0"/>
                      <a:pt x="653" y="1"/>
                    </a:cubicBezTo>
                    <a:lnTo>
                      <a:pt x="701" y="6"/>
                    </a:lnTo>
                    <a:cubicBezTo>
                      <a:pt x="706" y="6"/>
                      <a:pt x="709" y="10"/>
                      <a:pt x="708" y="14"/>
                    </a:cubicBezTo>
                    <a:cubicBezTo>
                      <a:pt x="708" y="19"/>
                      <a:pt x="704" y="22"/>
                      <a:pt x="700" y="21"/>
                    </a:cubicBezTo>
                    <a:close/>
                    <a:moveTo>
                      <a:pt x="605" y="16"/>
                    </a:moveTo>
                    <a:lnTo>
                      <a:pt x="578" y="16"/>
                    </a:lnTo>
                    <a:lnTo>
                      <a:pt x="558" y="20"/>
                    </a:lnTo>
                    <a:cubicBezTo>
                      <a:pt x="554" y="20"/>
                      <a:pt x="550" y="17"/>
                      <a:pt x="549" y="13"/>
                    </a:cubicBezTo>
                    <a:cubicBezTo>
                      <a:pt x="548" y="8"/>
                      <a:pt x="551" y="4"/>
                      <a:pt x="556" y="4"/>
                    </a:cubicBezTo>
                    <a:lnTo>
                      <a:pt x="577" y="0"/>
                    </a:lnTo>
                    <a:lnTo>
                      <a:pt x="605" y="0"/>
                    </a:lnTo>
                    <a:cubicBezTo>
                      <a:pt x="609" y="0"/>
                      <a:pt x="613" y="3"/>
                      <a:pt x="613" y="8"/>
                    </a:cubicBezTo>
                    <a:cubicBezTo>
                      <a:pt x="613" y="12"/>
                      <a:pt x="609" y="16"/>
                      <a:pt x="605" y="16"/>
                    </a:cubicBezTo>
                    <a:close/>
                    <a:moveTo>
                      <a:pt x="511" y="27"/>
                    </a:moveTo>
                    <a:lnTo>
                      <a:pt x="463" y="34"/>
                    </a:lnTo>
                    <a:cubicBezTo>
                      <a:pt x="459" y="35"/>
                      <a:pt x="455" y="32"/>
                      <a:pt x="454" y="27"/>
                    </a:cubicBezTo>
                    <a:cubicBezTo>
                      <a:pt x="454" y="23"/>
                      <a:pt x="457" y="19"/>
                      <a:pt x="461" y="18"/>
                    </a:cubicBezTo>
                    <a:lnTo>
                      <a:pt x="508" y="11"/>
                    </a:lnTo>
                    <a:cubicBezTo>
                      <a:pt x="513" y="10"/>
                      <a:pt x="517" y="13"/>
                      <a:pt x="517" y="18"/>
                    </a:cubicBezTo>
                    <a:cubicBezTo>
                      <a:pt x="518" y="22"/>
                      <a:pt x="515" y="26"/>
                      <a:pt x="511" y="27"/>
                    </a:cubicBezTo>
                    <a:close/>
                    <a:moveTo>
                      <a:pt x="420" y="50"/>
                    </a:moveTo>
                    <a:lnTo>
                      <a:pt x="375" y="67"/>
                    </a:lnTo>
                    <a:cubicBezTo>
                      <a:pt x="371" y="68"/>
                      <a:pt x="366" y="66"/>
                      <a:pt x="365" y="62"/>
                    </a:cubicBezTo>
                    <a:cubicBezTo>
                      <a:pt x="363" y="58"/>
                      <a:pt x="365" y="53"/>
                      <a:pt x="369" y="52"/>
                    </a:cubicBezTo>
                    <a:lnTo>
                      <a:pt x="414" y="35"/>
                    </a:lnTo>
                    <a:cubicBezTo>
                      <a:pt x="418" y="34"/>
                      <a:pt x="423" y="36"/>
                      <a:pt x="425" y="40"/>
                    </a:cubicBezTo>
                    <a:cubicBezTo>
                      <a:pt x="426" y="44"/>
                      <a:pt x="424" y="49"/>
                      <a:pt x="420" y="50"/>
                    </a:cubicBezTo>
                    <a:close/>
                    <a:moveTo>
                      <a:pt x="333" y="87"/>
                    </a:moveTo>
                    <a:lnTo>
                      <a:pt x="292" y="112"/>
                    </a:lnTo>
                    <a:cubicBezTo>
                      <a:pt x="288" y="114"/>
                      <a:pt x="283" y="113"/>
                      <a:pt x="281" y="109"/>
                    </a:cubicBezTo>
                    <a:cubicBezTo>
                      <a:pt x="279" y="105"/>
                      <a:pt x="280" y="100"/>
                      <a:pt x="284" y="98"/>
                    </a:cubicBezTo>
                    <a:lnTo>
                      <a:pt x="325" y="73"/>
                    </a:lnTo>
                    <a:cubicBezTo>
                      <a:pt x="329" y="71"/>
                      <a:pt x="334" y="72"/>
                      <a:pt x="336" y="76"/>
                    </a:cubicBezTo>
                    <a:cubicBezTo>
                      <a:pt x="338" y="80"/>
                      <a:pt x="337" y="85"/>
                      <a:pt x="333" y="87"/>
                    </a:cubicBezTo>
                    <a:close/>
                    <a:moveTo>
                      <a:pt x="253" y="136"/>
                    </a:moveTo>
                    <a:lnTo>
                      <a:pt x="217" y="169"/>
                    </a:lnTo>
                    <a:cubicBezTo>
                      <a:pt x="214" y="172"/>
                      <a:pt x="209" y="172"/>
                      <a:pt x="206" y="168"/>
                    </a:cubicBezTo>
                    <a:cubicBezTo>
                      <a:pt x="203" y="165"/>
                      <a:pt x="203" y="160"/>
                      <a:pt x="207" y="157"/>
                    </a:cubicBezTo>
                    <a:lnTo>
                      <a:pt x="242" y="124"/>
                    </a:lnTo>
                    <a:cubicBezTo>
                      <a:pt x="245" y="122"/>
                      <a:pt x="250" y="122"/>
                      <a:pt x="253" y="125"/>
                    </a:cubicBezTo>
                    <a:cubicBezTo>
                      <a:pt x="256" y="128"/>
                      <a:pt x="256" y="133"/>
                      <a:pt x="253" y="136"/>
                    </a:cubicBezTo>
                    <a:close/>
                    <a:moveTo>
                      <a:pt x="182" y="201"/>
                    </a:moveTo>
                    <a:lnTo>
                      <a:pt x="170" y="212"/>
                    </a:lnTo>
                    <a:lnTo>
                      <a:pt x="171" y="211"/>
                    </a:lnTo>
                    <a:lnTo>
                      <a:pt x="152" y="236"/>
                    </a:lnTo>
                    <a:cubicBezTo>
                      <a:pt x="149" y="240"/>
                      <a:pt x="144" y="241"/>
                      <a:pt x="141" y="238"/>
                    </a:cubicBezTo>
                    <a:cubicBezTo>
                      <a:pt x="137" y="235"/>
                      <a:pt x="136" y="230"/>
                      <a:pt x="139" y="227"/>
                    </a:cubicBezTo>
                    <a:lnTo>
                      <a:pt x="158" y="202"/>
                    </a:lnTo>
                    <a:cubicBezTo>
                      <a:pt x="158" y="201"/>
                      <a:pt x="159" y="201"/>
                      <a:pt x="159" y="201"/>
                    </a:cubicBezTo>
                    <a:lnTo>
                      <a:pt x="171" y="189"/>
                    </a:lnTo>
                    <a:cubicBezTo>
                      <a:pt x="174" y="186"/>
                      <a:pt x="179" y="187"/>
                      <a:pt x="182" y="190"/>
                    </a:cubicBezTo>
                    <a:cubicBezTo>
                      <a:pt x="185" y="193"/>
                      <a:pt x="185" y="198"/>
                      <a:pt x="182" y="201"/>
                    </a:cubicBezTo>
                    <a:close/>
                    <a:moveTo>
                      <a:pt x="123" y="275"/>
                    </a:moveTo>
                    <a:lnTo>
                      <a:pt x="101" y="304"/>
                    </a:lnTo>
                    <a:lnTo>
                      <a:pt x="102" y="303"/>
                    </a:lnTo>
                    <a:lnTo>
                      <a:pt x="97" y="313"/>
                    </a:lnTo>
                    <a:cubicBezTo>
                      <a:pt x="95" y="317"/>
                      <a:pt x="90" y="319"/>
                      <a:pt x="86" y="317"/>
                    </a:cubicBezTo>
                    <a:cubicBezTo>
                      <a:pt x="82" y="315"/>
                      <a:pt x="81" y="310"/>
                      <a:pt x="82" y="306"/>
                    </a:cubicBezTo>
                    <a:lnTo>
                      <a:pt x="87" y="296"/>
                    </a:lnTo>
                    <a:cubicBezTo>
                      <a:pt x="87" y="296"/>
                      <a:pt x="88" y="295"/>
                      <a:pt x="88" y="295"/>
                    </a:cubicBezTo>
                    <a:lnTo>
                      <a:pt x="110" y="265"/>
                    </a:lnTo>
                    <a:cubicBezTo>
                      <a:pt x="113" y="262"/>
                      <a:pt x="118" y="261"/>
                      <a:pt x="121" y="264"/>
                    </a:cubicBezTo>
                    <a:cubicBezTo>
                      <a:pt x="125" y="266"/>
                      <a:pt x="126" y="271"/>
                      <a:pt x="123" y="275"/>
                    </a:cubicBezTo>
                    <a:close/>
                    <a:moveTo>
                      <a:pt x="76" y="356"/>
                    </a:moveTo>
                    <a:lnTo>
                      <a:pt x="56" y="400"/>
                    </a:lnTo>
                    <a:cubicBezTo>
                      <a:pt x="54" y="404"/>
                      <a:pt x="49" y="405"/>
                      <a:pt x="45" y="404"/>
                    </a:cubicBezTo>
                    <a:cubicBezTo>
                      <a:pt x="41" y="402"/>
                      <a:pt x="40" y="397"/>
                      <a:pt x="41" y="393"/>
                    </a:cubicBezTo>
                    <a:lnTo>
                      <a:pt x="62" y="350"/>
                    </a:lnTo>
                    <a:cubicBezTo>
                      <a:pt x="64" y="346"/>
                      <a:pt x="69" y="344"/>
                      <a:pt x="73" y="346"/>
                    </a:cubicBezTo>
                    <a:cubicBezTo>
                      <a:pt x="77" y="348"/>
                      <a:pt x="78" y="352"/>
                      <a:pt x="76" y="356"/>
                    </a:cubicBezTo>
                    <a:close/>
                    <a:moveTo>
                      <a:pt x="41" y="444"/>
                    </a:moveTo>
                    <a:lnTo>
                      <a:pt x="33" y="468"/>
                    </a:lnTo>
                    <a:lnTo>
                      <a:pt x="29" y="490"/>
                    </a:lnTo>
                    <a:cubicBezTo>
                      <a:pt x="28" y="494"/>
                      <a:pt x="24" y="497"/>
                      <a:pt x="19" y="496"/>
                    </a:cubicBezTo>
                    <a:cubicBezTo>
                      <a:pt x="15" y="495"/>
                      <a:pt x="12" y="491"/>
                      <a:pt x="13" y="486"/>
                    </a:cubicBezTo>
                    <a:lnTo>
                      <a:pt x="18" y="463"/>
                    </a:lnTo>
                    <a:lnTo>
                      <a:pt x="25" y="439"/>
                    </a:lnTo>
                    <a:cubicBezTo>
                      <a:pt x="27" y="435"/>
                      <a:pt x="31" y="433"/>
                      <a:pt x="35" y="434"/>
                    </a:cubicBezTo>
                    <a:cubicBezTo>
                      <a:pt x="39" y="435"/>
                      <a:pt x="42" y="440"/>
                      <a:pt x="41" y="444"/>
                    </a:cubicBezTo>
                    <a:close/>
                    <a:moveTo>
                      <a:pt x="21" y="536"/>
                    </a:moveTo>
                    <a:lnTo>
                      <a:pt x="19" y="584"/>
                    </a:lnTo>
                    <a:cubicBezTo>
                      <a:pt x="19" y="588"/>
                      <a:pt x="15" y="591"/>
                      <a:pt x="11" y="591"/>
                    </a:cubicBezTo>
                    <a:cubicBezTo>
                      <a:pt x="6" y="591"/>
                      <a:pt x="3" y="587"/>
                      <a:pt x="3" y="583"/>
                    </a:cubicBezTo>
                    <a:lnTo>
                      <a:pt x="5" y="535"/>
                    </a:lnTo>
                    <a:cubicBezTo>
                      <a:pt x="5" y="530"/>
                      <a:pt x="9" y="527"/>
                      <a:pt x="13" y="527"/>
                    </a:cubicBezTo>
                    <a:cubicBezTo>
                      <a:pt x="18" y="527"/>
                      <a:pt x="21" y="531"/>
                      <a:pt x="21" y="536"/>
                    </a:cubicBezTo>
                    <a:close/>
                    <a:moveTo>
                      <a:pt x="17" y="632"/>
                    </a:moveTo>
                    <a:lnTo>
                      <a:pt x="16" y="640"/>
                    </a:lnTo>
                    <a:lnTo>
                      <a:pt x="16" y="638"/>
                    </a:lnTo>
                    <a:lnTo>
                      <a:pt x="22" y="678"/>
                    </a:lnTo>
                    <a:cubicBezTo>
                      <a:pt x="22" y="682"/>
                      <a:pt x="19" y="686"/>
                      <a:pt x="15" y="687"/>
                    </a:cubicBezTo>
                    <a:cubicBezTo>
                      <a:pt x="10" y="687"/>
                      <a:pt x="6" y="684"/>
                      <a:pt x="6" y="680"/>
                    </a:cubicBezTo>
                    <a:lnTo>
                      <a:pt x="1" y="641"/>
                    </a:lnTo>
                    <a:cubicBezTo>
                      <a:pt x="0" y="640"/>
                      <a:pt x="0" y="640"/>
                      <a:pt x="0" y="639"/>
                    </a:cubicBezTo>
                    <a:lnTo>
                      <a:pt x="1" y="631"/>
                    </a:lnTo>
                    <a:cubicBezTo>
                      <a:pt x="1" y="626"/>
                      <a:pt x="5" y="623"/>
                      <a:pt x="9" y="623"/>
                    </a:cubicBezTo>
                    <a:cubicBezTo>
                      <a:pt x="14" y="623"/>
                      <a:pt x="17" y="627"/>
                      <a:pt x="17" y="632"/>
                    </a:cubicBezTo>
                    <a:close/>
                    <a:moveTo>
                      <a:pt x="28" y="725"/>
                    </a:moveTo>
                    <a:lnTo>
                      <a:pt x="31" y="751"/>
                    </a:lnTo>
                    <a:cubicBezTo>
                      <a:pt x="32" y="756"/>
                      <a:pt x="29" y="760"/>
                      <a:pt x="25" y="760"/>
                    </a:cubicBezTo>
                    <a:cubicBezTo>
                      <a:pt x="20" y="761"/>
                      <a:pt x="16" y="758"/>
                      <a:pt x="16" y="754"/>
                    </a:cubicBezTo>
                    <a:lnTo>
                      <a:pt x="12" y="727"/>
                    </a:lnTo>
                    <a:cubicBezTo>
                      <a:pt x="11" y="723"/>
                      <a:pt x="15" y="719"/>
                      <a:pt x="19" y="718"/>
                    </a:cubicBezTo>
                    <a:cubicBezTo>
                      <a:pt x="23" y="718"/>
                      <a:pt x="27" y="721"/>
                      <a:pt x="28" y="72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94480" y="2135880"/>
                <a:ext cx="56520" cy="460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0" y="36"/>
                    </a:moveTo>
                    <a:lnTo>
                      <a:pt x="40" y="26"/>
                    </a:lnTo>
                    <a:lnTo>
                      <a:pt x="7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64280" y="2241360"/>
                <a:ext cx="551520" cy="600840"/>
              </a:xfrm>
              <a:custGeom>
                <a:avLst/>
                <a:gdLst/>
                <a:ahLst/>
                <a:rect l="l" t="t" r="r" b="b"/>
                <a:pathLst>
                  <a:path w="654" h="781">
                    <a:moveTo>
                      <a:pt x="584" y="6"/>
                    </a:moveTo>
                    <a:lnTo>
                      <a:pt x="604" y="50"/>
                    </a:lnTo>
                    <a:cubicBezTo>
                      <a:pt x="606" y="54"/>
                      <a:pt x="604" y="58"/>
                      <a:pt x="600" y="60"/>
                    </a:cubicBezTo>
                    <a:cubicBezTo>
                      <a:pt x="596" y="62"/>
                      <a:pt x="591" y="60"/>
                      <a:pt x="589" y="56"/>
                    </a:cubicBezTo>
                    <a:lnTo>
                      <a:pt x="569" y="13"/>
                    </a:lnTo>
                    <a:cubicBezTo>
                      <a:pt x="567" y="9"/>
                      <a:pt x="569" y="4"/>
                      <a:pt x="573" y="2"/>
                    </a:cubicBezTo>
                    <a:cubicBezTo>
                      <a:pt x="577" y="0"/>
                      <a:pt x="582" y="2"/>
                      <a:pt x="584" y="6"/>
                    </a:cubicBezTo>
                    <a:close/>
                    <a:moveTo>
                      <a:pt x="624" y="93"/>
                    </a:moveTo>
                    <a:lnTo>
                      <a:pt x="627" y="99"/>
                    </a:lnTo>
                    <a:cubicBezTo>
                      <a:pt x="627" y="100"/>
                      <a:pt x="627" y="100"/>
                      <a:pt x="627" y="101"/>
                    </a:cubicBezTo>
                    <a:lnTo>
                      <a:pt x="637" y="141"/>
                    </a:lnTo>
                    <a:cubicBezTo>
                      <a:pt x="638" y="145"/>
                      <a:pt x="636" y="149"/>
                      <a:pt x="631" y="151"/>
                    </a:cubicBezTo>
                    <a:cubicBezTo>
                      <a:pt x="627" y="152"/>
                      <a:pt x="623" y="149"/>
                      <a:pt x="622" y="145"/>
                    </a:cubicBezTo>
                    <a:lnTo>
                      <a:pt x="612" y="104"/>
                    </a:lnTo>
                    <a:lnTo>
                      <a:pt x="612" y="106"/>
                    </a:lnTo>
                    <a:lnTo>
                      <a:pt x="609" y="100"/>
                    </a:lnTo>
                    <a:cubicBezTo>
                      <a:pt x="608" y="96"/>
                      <a:pt x="609" y="91"/>
                      <a:pt x="613" y="89"/>
                    </a:cubicBezTo>
                    <a:cubicBezTo>
                      <a:pt x="617" y="87"/>
                      <a:pt x="622" y="89"/>
                      <a:pt x="624" y="93"/>
                    </a:cubicBezTo>
                    <a:close/>
                    <a:moveTo>
                      <a:pt x="649" y="187"/>
                    </a:moveTo>
                    <a:lnTo>
                      <a:pt x="651" y="198"/>
                    </a:lnTo>
                    <a:cubicBezTo>
                      <a:pt x="651" y="198"/>
                      <a:pt x="651" y="199"/>
                      <a:pt x="651" y="199"/>
                    </a:cubicBezTo>
                    <a:lnTo>
                      <a:pt x="653" y="237"/>
                    </a:lnTo>
                    <a:cubicBezTo>
                      <a:pt x="653" y="241"/>
                      <a:pt x="649" y="245"/>
                      <a:pt x="645" y="245"/>
                    </a:cubicBezTo>
                    <a:cubicBezTo>
                      <a:pt x="640" y="245"/>
                      <a:pt x="637" y="242"/>
                      <a:pt x="637" y="237"/>
                    </a:cubicBezTo>
                    <a:lnTo>
                      <a:pt x="635" y="200"/>
                    </a:lnTo>
                    <a:lnTo>
                      <a:pt x="636" y="201"/>
                    </a:lnTo>
                    <a:lnTo>
                      <a:pt x="633" y="191"/>
                    </a:lnTo>
                    <a:cubicBezTo>
                      <a:pt x="632" y="187"/>
                      <a:pt x="635" y="183"/>
                      <a:pt x="639" y="182"/>
                    </a:cubicBezTo>
                    <a:cubicBezTo>
                      <a:pt x="643" y="181"/>
                      <a:pt x="648" y="183"/>
                      <a:pt x="649" y="187"/>
                    </a:cubicBezTo>
                    <a:close/>
                    <a:moveTo>
                      <a:pt x="654" y="285"/>
                    </a:moveTo>
                    <a:lnTo>
                      <a:pt x="654" y="297"/>
                    </a:lnTo>
                    <a:cubicBezTo>
                      <a:pt x="654" y="298"/>
                      <a:pt x="654" y="298"/>
                      <a:pt x="654" y="299"/>
                    </a:cubicBezTo>
                    <a:lnTo>
                      <a:pt x="649" y="334"/>
                    </a:lnTo>
                    <a:cubicBezTo>
                      <a:pt x="649" y="338"/>
                      <a:pt x="645" y="341"/>
                      <a:pt x="640" y="341"/>
                    </a:cubicBezTo>
                    <a:cubicBezTo>
                      <a:pt x="636" y="340"/>
                      <a:pt x="633" y="336"/>
                      <a:pt x="633" y="332"/>
                    </a:cubicBezTo>
                    <a:lnTo>
                      <a:pt x="639" y="296"/>
                    </a:lnTo>
                    <a:lnTo>
                      <a:pt x="638" y="298"/>
                    </a:lnTo>
                    <a:lnTo>
                      <a:pt x="638" y="285"/>
                    </a:lnTo>
                    <a:cubicBezTo>
                      <a:pt x="638" y="281"/>
                      <a:pt x="641" y="277"/>
                      <a:pt x="646" y="277"/>
                    </a:cubicBezTo>
                    <a:cubicBezTo>
                      <a:pt x="650" y="277"/>
                      <a:pt x="654" y="280"/>
                      <a:pt x="654" y="285"/>
                    </a:cubicBezTo>
                    <a:close/>
                    <a:moveTo>
                      <a:pt x="642" y="381"/>
                    </a:moveTo>
                    <a:lnTo>
                      <a:pt x="640" y="395"/>
                    </a:lnTo>
                    <a:cubicBezTo>
                      <a:pt x="640" y="395"/>
                      <a:pt x="640" y="396"/>
                      <a:pt x="640" y="396"/>
                    </a:cubicBezTo>
                    <a:lnTo>
                      <a:pt x="628" y="429"/>
                    </a:lnTo>
                    <a:cubicBezTo>
                      <a:pt x="627" y="433"/>
                      <a:pt x="622" y="435"/>
                      <a:pt x="618" y="434"/>
                    </a:cubicBezTo>
                    <a:cubicBezTo>
                      <a:pt x="614" y="432"/>
                      <a:pt x="612" y="427"/>
                      <a:pt x="613" y="423"/>
                    </a:cubicBezTo>
                    <a:lnTo>
                      <a:pt x="625" y="391"/>
                    </a:lnTo>
                    <a:lnTo>
                      <a:pt x="625" y="392"/>
                    </a:lnTo>
                    <a:lnTo>
                      <a:pt x="626" y="379"/>
                    </a:lnTo>
                    <a:cubicBezTo>
                      <a:pt x="627" y="375"/>
                      <a:pt x="631" y="372"/>
                      <a:pt x="636" y="372"/>
                    </a:cubicBezTo>
                    <a:cubicBezTo>
                      <a:pt x="640" y="373"/>
                      <a:pt x="643" y="377"/>
                      <a:pt x="642" y="381"/>
                    </a:cubicBezTo>
                    <a:close/>
                    <a:moveTo>
                      <a:pt x="612" y="474"/>
                    </a:moveTo>
                    <a:lnTo>
                      <a:pt x="607" y="488"/>
                    </a:lnTo>
                    <a:cubicBezTo>
                      <a:pt x="607" y="489"/>
                      <a:pt x="607" y="489"/>
                      <a:pt x="606" y="490"/>
                    </a:cubicBezTo>
                    <a:lnTo>
                      <a:pt x="589" y="518"/>
                    </a:lnTo>
                    <a:cubicBezTo>
                      <a:pt x="587" y="521"/>
                      <a:pt x="582" y="523"/>
                      <a:pt x="578" y="520"/>
                    </a:cubicBezTo>
                    <a:cubicBezTo>
                      <a:pt x="575" y="518"/>
                      <a:pt x="573" y="513"/>
                      <a:pt x="576" y="509"/>
                    </a:cubicBezTo>
                    <a:lnTo>
                      <a:pt x="593" y="481"/>
                    </a:lnTo>
                    <a:lnTo>
                      <a:pt x="592" y="483"/>
                    </a:lnTo>
                    <a:lnTo>
                      <a:pt x="597" y="468"/>
                    </a:lnTo>
                    <a:cubicBezTo>
                      <a:pt x="599" y="464"/>
                      <a:pt x="603" y="462"/>
                      <a:pt x="607" y="464"/>
                    </a:cubicBezTo>
                    <a:cubicBezTo>
                      <a:pt x="611" y="465"/>
                      <a:pt x="614" y="470"/>
                      <a:pt x="612" y="474"/>
                    </a:cubicBezTo>
                    <a:close/>
                    <a:moveTo>
                      <a:pt x="564" y="559"/>
                    </a:moveTo>
                    <a:lnTo>
                      <a:pt x="555" y="574"/>
                    </a:lnTo>
                    <a:cubicBezTo>
                      <a:pt x="555" y="574"/>
                      <a:pt x="555" y="574"/>
                      <a:pt x="554" y="575"/>
                    </a:cubicBezTo>
                    <a:lnTo>
                      <a:pt x="534" y="598"/>
                    </a:lnTo>
                    <a:cubicBezTo>
                      <a:pt x="531" y="601"/>
                      <a:pt x="526" y="601"/>
                      <a:pt x="523" y="598"/>
                    </a:cubicBezTo>
                    <a:cubicBezTo>
                      <a:pt x="520" y="595"/>
                      <a:pt x="519" y="590"/>
                      <a:pt x="522" y="587"/>
                    </a:cubicBezTo>
                    <a:lnTo>
                      <a:pt x="542" y="564"/>
                    </a:lnTo>
                    <a:lnTo>
                      <a:pt x="542" y="565"/>
                    </a:lnTo>
                    <a:lnTo>
                      <a:pt x="551" y="550"/>
                    </a:lnTo>
                    <a:cubicBezTo>
                      <a:pt x="553" y="547"/>
                      <a:pt x="558" y="545"/>
                      <a:pt x="562" y="548"/>
                    </a:cubicBezTo>
                    <a:cubicBezTo>
                      <a:pt x="565" y="550"/>
                      <a:pt x="567" y="555"/>
                      <a:pt x="564" y="559"/>
                    </a:cubicBezTo>
                    <a:close/>
                    <a:moveTo>
                      <a:pt x="502" y="633"/>
                    </a:moveTo>
                    <a:lnTo>
                      <a:pt x="488" y="649"/>
                    </a:lnTo>
                    <a:cubicBezTo>
                      <a:pt x="488" y="649"/>
                      <a:pt x="488" y="650"/>
                      <a:pt x="487" y="650"/>
                    </a:cubicBezTo>
                    <a:lnTo>
                      <a:pt x="465" y="666"/>
                    </a:lnTo>
                    <a:cubicBezTo>
                      <a:pt x="462" y="669"/>
                      <a:pt x="457" y="668"/>
                      <a:pt x="454" y="664"/>
                    </a:cubicBezTo>
                    <a:cubicBezTo>
                      <a:pt x="451" y="661"/>
                      <a:pt x="452" y="656"/>
                      <a:pt x="456" y="653"/>
                    </a:cubicBezTo>
                    <a:lnTo>
                      <a:pt x="478" y="637"/>
                    </a:lnTo>
                    <a:lnTo>
                      <a:pt x="476" y="638"/>
                    </a:lnTo>
                    <a:lnTo>
                      <a:pt x="490" y="623"/>
                    </a:lnTo>
                    <a:cubicBezTo>
                      <a:pt x="493" y="619"/>
                      <a:pt x="498" y="619"/>
                      <a:pt x="502" y="622"/>
                    </a:cubicBezTo>
                    <a:cubicBezTo>
                      <a:pt x="505" y="625"/>
                      <a:pt x="505" y="630"/>
                      <a:pt x="502" y="633"/>
                    </a:cubicBezTo>
                    <a:close/>
                    <a:moveTo>
                      <a:pt x="426" y="695"/>
                    </a:moveTo>
                    <a:lnTo>
                      <a:pt x="404" y="711"/>
                    </a:lnTo>
                    <a:cubicBezTo>
                      <a:pt x="404" y="711"/>
                      <a:pt x="403" y="712"/>
                      <a:pt x="403" y="712"/>
                    </a:cubicBezTo>
                    <a:lnTo>
                      <a:pt x="384" y="720"/>
                    </a:lnTo>
                    <a:cubicBezTo>
                      <a:pt x="380" y="722"/>
                      <a:pt x="375" y="720"/>
                      <a:pt x="374" y="716"/>
                    </a:cubicBezTo>
                    <a:cubicBezTo>
                      <a:pt x="372" y="712"/>
                      <a:pt x="374" y="708"/>
                      <a:pt x="378" y="706"/>
                    </a:cubicBezTo>
                    <a:lnTo>
                      <a:pt x="396" y="697"/>
                    </a:lnTo>
                    <a:lnTo>
                      <a:pt x="395" y="698"/>
                    </a:lnTo>
                    <a:lnTo>
                      <a:pt x="417" y="682"/>
                    </a:lnTo>
                    <a:cubicBezTo>
                      <a:pt x="421" y="679"/>
                      <a:pt x="426" y="680"/>
                      <a:pt x="428" y="683"/>
                    </a:cubicBezTo>
                    <a:cubicBezTo>
                      <a:pt x="431" y="687"/>
                      <a:pt x="430" y="692"/>
                      <a:pt x="426" y="695"/>
                    </a:cubicBezTo>
                    <a:close/>
                    <a:moveTo>
                      <a:pt x="341" y="740"/>
                    </a:moveTo>
                    <a:lnTo>
                      <a:pt x="309" y="755"/>
                    </a:lnTo>
                    <a:cubicBezTo>
                      <a:pt x="308" y="755"/>
                      <a:pt x="308" y="755"/>
                      <a:pt x="307" y="755"/>
                    </a:cubicBezTo>
                    <a:lnTo>
                      <a:pt x="295" y="758"/>
                    </a:lnTo>
                    <a:cubicBezTo>
                      <a:pt x="290" y="759"/>
                      <a:pt x="286" y="757"/>
                      <a:pt x="285" y="752"/>
                    </a:cubicBezTo>
                    <a:cubicBezTo>
                      <a:pt x="284" y="748"/>
                      <a:pt x="287" y="744"/>
                      <a:pt x="291" y="743"/>
                    </a:cubicBezTo>
                    <a:lnTo>
                      <a:pt x="304" y="740"/>
                    </a:lnTo>
                    <a:lnTo>
                      <a:pt x="302" y="740"/>
                    </a:lnTo>
                    <a:lnTo>
                      <a:pt x="334" y="726"/>
                    </a:lnTo>
                    <a:cubicBezTo>
                      <a:pt x="338" y="724"/>
                      <a:pt x="343" y="726"/>
                      <a:pt x="345" y="730"/>
                    </a:cubicBezTo>
                    <a:cubicBezTo>
                      <a:pt x="346" y="734"/>
                      <a:pt x="345" y="738"/>
                      <a:pt x="341" y="740"/>
                    </a:cubicBezTo>
                    <a:close/>
                    <a:moveTo>
                      <a:pt x="248" y="769"/>
                    </a:moveTo>
                    <a:lnTo>
                      <a:pt x="207" y="779"/>
                    </a:lnTo>
                    <a:cubicBezTo>
                      <a:pt x="207" y="779"/>
                      <a:pt x="206" y="779"/>
                      <a:pt x="206" y="779"/>
                    </a:cubicBezTo>
                    <a:lnTo>
                      <a:pt x="199" y="780"/>
                    </a:lnTo>
                    <a:cubicBezTo>
                      <a:pt x="195" y="780"/>
                      <a:pt x="191" y="776"/>
                      <a:pt x="191" y="772"/>
                    </a:cubicBezTo>
                    <a:cubicBezTo>
                      <a:pt x="191" y="767"/>
                      <a:pt x="195" y="764"/>
                      <a:pt x="199" y="764"/>
                    </a:cubicBezTo>
                    <a:lnTo>
                      <a:pt x="205" y="763"/>
                    </a:lnTo>
                    <a:lnTo>
                      <a:pt x="204" y="764"/>
                    </a:lnTo>
                    <a:lnTo>
                      <a:pt x="244" y="754"/>
                    </a:lnTo>
                    <a:cubicBezTo>
                      <a:pt x="249" y="753"/>
                      <a:pt x="253" y="756"/>
                      <a:pt x="254" y="760"/>
                    </a:cubicBezTo>
                    <a:cubicBezTo>
                      <a:pt x="255" y="764"/>
                      <a:pt x="252" y="768"/>
                      <a:pt x="248" y="769"/>
                    </a:cubicBezTo>
                    <a:close/>
                    <a:moveTo>
                      <a:pt x="151" y="781"/>
                    </a:moveTo>
                    <a:lnTo>
                      <a:pt x="104" y="781"/>
                    </a:lnTo>
                    <a:cubicBezTo>
                      <a:pt x="103" y="781"/>
                      <a:pt x="103" y="781"/>
                      <a:pt x="102" y="781"/>
                    </a:cubicBezTo>
                    <a:lnTo>
                      <a:pt x="102" y="781"/>
                    </a:lnTo>
                    <a:cubicBezTo>
                      <a:pt x="98" y="781"/>
                      <a:pt x="95" y="776"/>
                      <a:pt x="95" y="772"/>
                    </a:cubicBezTo>
                    <a:cubicBezTo>
                      <a:pt x="96" y="768"/>
                      <a:pt x="100" y="765"/>
                      <a:pt x="105" y="766"/>
                    </a:cubicBezTo>
                    <a:lnTo>
                      <a:pt x="105" y="766"/>
                    </a:lnTo>
                    <a:lnTo>
                      <a:pt x="103" y="765"/>
                    </a:lnTo>
                    <a:lnTo>
                      <a:pt x="151" y="765"/>
                    </a:lnTo>
                    <a:cubicBezTo>
                      <a:pt x="156" y="764"/>
                      <a:pt x="159" y="768"/>
                      <a:pt x="159" y="772"/>
                    </a:cubicBezTo>
                    <a:cubicBezTo>
                      <a:pt x="159" y="777"/>
                      <a:pt x="156" y="780"/>
                      <a:pt x="151" y="781"/>
                    </a:cubicBezTo>
                    <a:close/>
                    <a:moveTo>
                      <a:pt x="55" y="773"/>
                    </a:moveTo>
                    <a:lnTo>
                      <a:pt x="7" y="765"/>
                    </a:lnTo>
                    <a:cubicBezTo>
                      <a:pt x="3" y="764"/>
                      <a:pt x="0" y="760"/>
                      <a:pt x="1" y="755"/>
                    </a:cubicBezTo>
                    <a:cubicBezTo>
                      <a:pt x="2" y="751"/>
                      <a:pt x="6" y="748"/>
                      <a:pt x="10" y="749"/>
                    </a:cubicBezTo>
                    <a:lnTo>
                      <a:pt x="57" y="757"/>
                    </a:lnTo>
                    <a:cubicBezTo>
                      <a:pt x="62" y="758"/>
                      <a:pt x="65" y="762"/>
                      <a:pt x="64" y="766"/>
                    </a:cubicBezTo>
                    <a:cubicBezTo>
                      <a:pt x="63" y="771"/>
                      <a:pt x="59" y="774"/>
                      <a:pt x="55" y="773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23240" y="2802600"/>
                <a:ext cx="56520" cy="4464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40" y="0"/>
                    </a:moveTo>
                    <a:lnTo>
                      <a:pt x="0" y="5"/>
                    </a:lnTo>
                    <a:lnTo>
                      <a:pt x="28" y="3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521040" y="2151360"/>
                <a:ext cx="597960" cy="585360"/>
              </a:xfrm>
              <a:custGeom>
                <a:avLst/>
                <a:gdLst/>
                <a:ahLst/>
                <a:rect l="l" t="t" r="r" b="b"/>
                <a:pathLst>
                  <a:path w="710" h="761">
                    <a:moveTo>
                      <a:pt x="701" y="21"/>
                    </a:moveTo>
                    <a:lnTo>
                      <a:pt x="653" y="17"/>
                    </a:lnTo>
                    <a:cubicBezTo>
                      <a:pt x="649" y="16"/>
                      <a:pt x="645" y="12"/>
                      <a:pt x="646" y="8"/>
                    </a:cubicBezTo>
                    <a:cubicBezTo>
                      <a:pt x="646" y="4"/>
                      <a:pt x="650" y="0"/>
                      <a:pt x="654" y="1"/>
                    </a:cubicBezTo>
                    <a:lnTo>
                      <a:pt x="702" y="6"/>
                    </a:lnTo>
                    <a:cubicBezTo>
                      <a:pt x="707" y="6"/>
                      <a:pt x="710" y="10"/>
                      <a:pt x="709" y="14"/>
                    </a:cubicBezTo>
                    <a:cubicBezTo>
                      <a:pt x="709" y="19"/>
                      <a:pt x="705" y="22"/>
                      <a:pt x="701" y="21"/>
                    </a:cubicBezTo>
                    <a:close/>
                    <a:moveTo>
                      <a:pt x="606" y="16"/>
                    </a:moveTo>
                    <a:lnTo>
                      <a:pt x="579" y="16"/>
                    </a:lnTo>
                    <a:lnTo>
                      <a:pt x="559" y="19"/>
                    </a:lnTo>
                    <a:cubicBezTo>
                      <a:pt x="555" y="20"/>
                      <a:pt x="551" y="17"/>
                      <a:pt x="550" y="13"/>
                    </a:cubicBezTo>
                    <a:cubicBezTo>
                      <a:pt x="549" y="8"/>
                      <a:pt x="552" y="4"/>
                      <a:pt x="557" y="4"/>
                    </a:cubicBezTo>
                    <a:lnTo>
                      <a:pt x="578" y="0"/>
                    </a:lnTo>
                    <a:lnTo>
                      <a:pt x="606" y="0"/>
                    </a:lnTo>
                    <a:cubicBezTo>
                      <a:pt x="610" y="0"/>
                      <a:pt x="614" y="3"/>
                      <a:pt x="614" y="8"/>
                    </a:cubicBezTo>
                    <a:cubicBezTo>
                      <a:pt x="614" y="12"/>
                      <a:pt x="610" y="16"/>
                      <a:pt x="606" y="16"/>
                    </a:cubicBezTo>
                    <a:close/>
                    <a:moveTo>
                      <a:pt x="512" y="27"/>
                    </a:moveTo>
                    <a:lnTo>
                      <a:pt x="464" y="34"/>
                    </a:lnTo>
                    <a:cubicBezTo>
                      <a:pt x="460" y="35"/>
                      <a:pt x="456" y="32"/>
                      <a:pt x="455" y="27"/>
                    </a:cubicBezTo>
                    <a:cubicBezTo>
                      <a:pt x="455" y="23"/>
                      <a:pt x="458" y="19"/>
                      <a:pt x="462" y="18"/>
                    </a:cubicBezTo>
                    <a:lnTo>
                      <a:pt x="509" y="11"/>
                    </a:lnTo>
                    <a:cubicBezTo>
                      <a:pt x="514" y="10"/>
                      <a:pt x="518" y="13"/>
                      <a:pt x="518" y="18"/>
                    </a:cubicBezTo>
                    <a:cubicBezTo>
                      <a:pt x="519" y="22"/>
                      <a:pt x="516" y="26"/>
                      <a:pt x="512" y="27"/>
                    </a:cubicBezTo>
                    <a:close/>
                    <a:moveTo>
                      <a:pt x="421" y="50"/>
                    </a:moveTo>
                    <a:lnTo>
                      <a:pt x="376" y="67"/>
                    </a:lnTo>
                    <a:cubicBezTo>
                      <a:pt x="372" y="68"/>
                      <a:pt x="367" y="66"/>
                      <a:pt x="366" y="62"/>
                    </a:cubicBezTo>
                    <a:cubicBezTo>
                      <a:pt x="364" y="58"/>
                      <a:pt x="366" y="53"/>
                      <a:pt x="370" y="52"/>
                    </a:cubicBezTo>
                    <a:lnTo>
                      <a:pt x="415" y="35"/>
                    </a:lnTo>
                    <a:cubicBezTo>
                      <a:pt x="419" y="33"/>
                      <a:pt x="424" y="35"/>
                      <a:pt x="425" y="40"/>
                    </a:cubicBezTo>
                    <a:cubicBezTo>
                      <a:pt x="427" y="44"/>
                      <a:pt x="425" y="48"/>
                      <a:pt x="421" y="50"/>
                    </a:cubicBezTo>
                    <a:close/>
                    <a:moveTo>
                      <a:pt x="334" y="87"/>
                    </a:moveTo>
                    <a:lnTo>
                      <a:pt x="293" y="112"/>
                    </a:lnTo>
                    <a:cubicBezTo>
                      <a:pt x="289" y="114"/>
                      <a:pt x="284" y="113"/>
                      <a:pt x="282" y="109"/>
                    </a:cubicBezTo>
                    <a:cubicBezTo>
                      <a:pt x="280" y="105"/>
                      <a:pt x="281" y="100"/>
                      <a:pt x="285" y="98"/>
                    </a:cubicBezTo>
                    <a:lnTo>
                      <a:pt x="326" y="73"/>
                    </a:lnTo>
                    <a:cubicBezTo>
                      <a:pt x="330" y="71"/>
                      <a:pt x="335" y="72"/>
                      <a:pt x="337" y="76"/>
                    </a:cubicBezTo>
                    <a:cubicBezTo>
                      <a:pt x="339" y="80"/>
                      <a:pt x="338" y="84"/>
                      <a:pt x="334" y="87"/>
                    </a:cubicBezTo>
                    <a:close/>
                    <a:moveTo>
                      <a:pt x="254" y="136"/>
                    </a:moveTo>
                    <a:lnTo>
                      <a:pt x="218" y="168"/>
                    </a:lnTo>
                    <a:cubicBezTo>
                      <a:pt x="215" y="171"/>
                      <a:pt x="210" y="171"/>
                      <a:pt x="207" y="168"/>
                    </a:cubicBezTo>
                    <a:cubicBezTo>
                      <a:pt x="204" y="165"/>
                      <a:pt x="204" y="160"/>
                      <a:pt x="207" y="157"/>
                    </a:cubicBezTo>
                    <a:lnTo>
                      <a:pt x="243" y="124"/>
                    </a:lnTo>
                    <a:cubicBezTo>
                      <a:pt x="246" y="121"/>
                      <a:pt x="251" y="122"/>
                      <a:pt x="254" y="125"/>
                    </a:cubicBezTo>
                    <a:cubicBezTo>
                      <a:pt x="257" y="128"/>
                      <a:pt x="257" y="133"/>
                      <a:pt x="254" y="136"/>
                    </a:cubicBezTo>
                    <a:close/>
                    <a:moveTo>
                      <a:pt x="183" y="201"/>
                    </a:moveTo>
                    <a:lnTo>
                      <a:pt x="170" y="212"/>
                    </a:lnTo>
                    <a:lnTo>
                      <a:pt x="171" y="211"/>
                    </a:lnTo>
                    <a:lnTo>
                      <a:pt x="152" y="236"/>
                    </a:lnTo>
                    <a:cubicBezTo>
                      <a:pt x="150" y="239"/>
                      <a:pt x="145" y="240"/>
                      <a:pt x="141" y="237"/>
                    </a:cubicBezTo>
                    <a:cubicBezTo>
                      <a:pt x="138" y="235"/>
                      <a:pt x="137" y="230"/>
                      <a:pt x="140" y="226"/>
                    </a:cubicBezTo>
                    <a:lnTo>
                      <a:pt x="158" y="202"/>
                    </a:lnTo>
                    <a:cubicBezTo>
                      <a:pt x="158" y="201"/>
                      <a:pt x="159" y="201"/>
                      <a:pt x="159" y="201"/>
                    </a:cubicBezTo>
                    <a:lnTo>
                      <a:pt x="172" y="189"/>
                    </a:lnTo>
                    <a:cubicBezTo>
                      <a:pt x="175" y="186"/>
                      <a:pt x="180" y="186"/>
                      <a:pt x="183" y="189"/>
                    </a:cubicBezTo>
                    <a:cubicBezTo>
                      <a:pt x="186" y="193"/>
                      <a:pt x="186" y="198"/>
                      <a:pt x="183" y="201"/>
                    </a:cubicBezTo>
                    <a:close/>
                    <a:moveTo>
                      <a:pt x="124" y="274"/>
                    </a:moveTo>
                    <a:lnTo>
                      <a:pt x="101" y="304"/>
                    </a:lnTo>
                    <a:lnTo>
                      <a:pt x="102" y="303"/>
                    </a:lnTo>
                    <a:lnTo>
                      <a:pt x="97" y="312"/>
                    </a:lnTo>
                    <a:cubicBezTo>
                      <a:pt x="95" y="316"/>
                      <a:pt x="91" y="318"/>
                      <a:pt x="87" y="316"/>
                    </a:cubicBezTo>
                    <a:cubicBezTo>
                      <a:pt x="83" y="314"/>
                      <a:pt x="81" y="309"/>
                      <a:pt x="83" y="305"/>
                    </a:cubicBezTo>
                    <a:lnTo>
                      <a:pt x="87" y="296"/>
                    </a:lnTo>
                    <a:cubicBezTo>
                      <a:pt x="87" y="296"/>
                      <a:pt x="88" y="295"/>
                      <a:pt x="88" y="295"/>
                    </a:cubicBezTo>
                    <a:lnTo>
                      <a:pt x="111" y="265"/>
                    </a:lnTo>
                    <a:cubicBezTo>
                      <a:pt x="113" y="261"/>
                      <a:pt x="118" y="260"/>
                      <a:pt x="122" y="263"/>
                    </a:cubicBezTo>
                    <a:cubicBezTo>
                      <a:pt x="126" y="266"/>
                      <a:pt x="126" y="271"/>
                      <a:pt x="124" y="274"/>
                    </a:cubicBezTo>
                    <a:close/>
                    <a:moveTo>
                      <a:pt x="77" y="356"/>
                    </a:moveTo>
                    <a:lnTo>
                      <a:pt x="56" y="399"/>
                    </a:lnTo>
                    <a:cubicBezTo>
                      <a:pt x="54" y="403"/>
                      <a:pt x="50" y="405"/>
                      <a:pt x="46" y="403"/>
                    </a:cubicBezTo>
                    <a:cubicBezTo>
                      <a:pt x="42" y="401"/>
                      <a:pt x="40" y="396"/>
                      <a:pt x="42" y="392"/>
                    </a:cubicBezTo>
                    <a:lnTo>
                      <a:pt x="62" y="349"/>
                    </a:lnTo>
                    <a:cubicBezTo>
                      <a:pt x="64" y="345"/>
                      <a:pt x="69" y="343"/>
                      <a:pt x="73" y="345"/>
                    </a:cubicBezTo>
                    <a:cubicBezTo>
                      <a:pt x="77" y="347"/>
                      <a:pt x="79" y="352"/>
                      <a:pt x="77" y="356"/>
                    </a:cubicBezTo>
                    <a:close/>
                    <a:moveTo>
                      <a:pt x="41" y="443"/>
                    </a:moveTo>
                    <a:lnTo>
                      <a:pt x="34" y="468"/>
                    </a:lnTo>
                    <a:lnTo>
                      <a:pt x="30" y="489"/>
                    </a:lnTo>
                    <a:cubicBezTo>
                      <a:pt x="29" y="493"/>
                      <a:pt x="25" y="496"/>
                      <a:pt x="21" y="495"/>
                    </a:cubicBezTo>
                    <a:cubicBezTo>
                      <a:pt x="16" y="494"/>
                      <a:pt x="13" y="490"/>
                      <a:pt x="14" y="486"/>
                    </a:cubicBezTo>
                    <a:lnTo>
                      <a:pt x="19" y="463"/>
                    </a:lnTo>
                    <a:lnTo>
                      <a:pt x="26" y="439"/>
                    </a:lnTo>
                    <a:cubicBezTo>
                      <a:pt x="27" y="434"/>
                      <a:pt x="32" y="432"/>
                      <a:pt x="36" y="433"/>
                    </a:cubicBezTo>
                    <a:cubicBezTo>
                      <a:pt x="40" y="434"/>
                      <a:pt x="43" y="439"/>
                      <a:pt x="41" y="443"/>
                    </a:cubicBezTo>
                    <a:close/>
                    <a:moveTo>
                      <a:pt x="22" y="535"/>
                    </a:moveTo>
                    <a:lnTo>
                      <a:pt x="19" y="583"/>
                    </a:lnTo>
                    <a:cubicBezTo>
                      <a:pt x="19" y="587"/>
                      <a:pt x="15" y="591"/>
                      <a:pt x="11" y="591"/>
                    </a:cubicBezTo>
                    <a:cubicBezTo>
                      <a:pt x="7" y="590"/>
                      <a:pt x="3" y="587"/>
                      <a:pt x="3" y="582"/>
                    </a:cubicBezTo>
                    <a:lnTo>
                      <a:pt x="6" y="534"/>
                    </a:lnTo>
                    <a:cubicBezTo>
                      <a:pt x="6" y="530"/>
                      <a:pt x="10" y="526"/>
                      <a:pt x="14" y="527"/>
                    </a:cubicBezTo>
                    <a:cubicBezTo>
                      <a:pt x="19" y="527"/>
                      <a:pt x="22" y="531"/>
                      <a:pt x="22" y="535"/>
                    </a:cubicBezTo>
                    <a:close/>
                    <a:moveTo>
                      <a:pt x="17" y="631"/>
                    </a:moveTo>
                    <a:lnTo>
                      <a:pt x="16" y="640"/>
                    </a:lnTo>
                    <a:lnTo>
                      <a:pt x="16" y="638"/>
                    </a:lnTo>
                    <a:lnTo>
                      <a:pt x="22" y="677"/>
                    </a:lnTo>
                    <a:cubicBezTo>
                      <a:pt x="22" y="682"/>
                      <a:pt x="19" y="686"/>
                      <a:pt x="15" y="686"/>
                    </a:cubicBezTo>
                    <a:cubicBezTo>
                      <a:pt x="10" y="687"/>
                      <a:pt x="6" y="684"/>
                      <a:pt x="6" y="679"/>
                    </a:cubicBezTo>
                    <a:lnTo>
                      <a:pt x="1" y="641"/>
                    </a:lnTo>
                    <a:cubicBezTo>
                      <a:pt x="0" y="640"/>
                      <a:pt x="0" y="640"/>
                      <a:pt x="0" y="639"/>
                    </a:cubicBezTo>
                    <a:lnTo>
                      <a:pt x="1" y="630"/>
                    </a:lnTo>
                    <a:cubicBezTo>
                      <a:pt x="1" y="626"/>
                      <a:pt x="5" y="622"/>
                      <a:pt x="9" y="623"/>
                    </a:cubicBezTo>
                    <a:cubicBezTo>
                      <a:pt x="14" y="623"/>
                      <a:pt x="17" y="627"/>
                      <a:pt x="17" y="631"/>
                    </a:cubicBezTo>
                    <a:close/>
                    <a:moveTo>
                      <a:pt x="28" y="725"/>
                    </a:moveTo>
                    <a:lnTo>
                      <a:pt x="31" y="751"/>
                    </a:lnTo>
                    <a:cubicBezTo>
                      <a:pt x="32" y="756"/>
                      <a:pt x="29" y="760"/>
                      <a:pt x="25" y="760"/>
                    </a:cubicBezTo>
                    <a:cubicBezTo>
                      <a:pt x="20" y="761"/>
                      <a:pt x="16" y="758"/>
                      <a:pt x="16" y="754"/>
                    </a:cubicBezTo>
                    <a:lnTo>
                      <a:pt x="12" y="727"/>
                    </a:lnTo>
                    <a:cubicBezTo>
                      <a:pt x="11" y="722"/>
                      <a:pt x="14" y="718"/>
                      <a:pt x="19" y="718"/>
                    </a:cubicBezTo>
                    <a:cubicBezTo>
                      <a:pt x="23" y="717"/>
                      <a:pt x="27" y="720"/>
                      <a:pt x="28" y="72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101000" y="2135880"/>
                <a:ext cx="54720" cy="4608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0" y="36"/>
                    </a:moveTo>
                    <a:lnTo>
                      <a:pt x="39" y="26"/>
                    </a:lnTo>
                    <a:lnTo>
                      <a:pt x="7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040" y="3432960"/>
                <a:ext cx="597960" cy="585360"/>
              </a:xfrm>
              <a:custGeom>
                <a:avLst/>
                <a:gdLst/>
                <a:ahLst/>
                <a:rect l="l" t="t" r="r" b="b"/>
                <a:pathLst>
                  <a:path w="710" h="761">
                    <a:moveTo>
                      <a:pt x="701" y="21"/>
                    </a:moveTo>
                    <a:lnTo>
                      <a:pt x="653" y="17"/>
                    </a:lnTo>
                    <a:cubicBezTo>
                      <a:pt x="649" y="16"/>
                      <a:pt x="645" y="12"/>
                      <a:pt x="646" y="8"/>
                    </a:cubicBezTo>
                    <a:cubicBezTo>
                      <a:pt x="646" y="4"/>
                      <a:pt x="650" y="0"/>
                      <a:pt x="654" y="1"/>
                    </a:cubicBezTo>
                    <a:lnTo>
                      <a:pt x="702" y="6"/>
                    </a:lnTo>
                    <a:cubicBezTo>
                      <a:pt x="707" y="6"/>
                      <a:pt x="710" y="10"/>
                      <a:pt x="709" y="14"/>
                    </a:cubicBezTo>
                    <a:cubicBezTo>
                      <a:pt x="709" y="19"/>
                      <a:pt x="705" y="22"/>
                      <a:pt x="701" y="21"/>
                    </a:cubicBezTo>
                    <a:close/>
                    <a:moveTo>
                      <a:pt x="606" y="16"/>
                    </a:moveTo>
                    <a:lnTo>
                      <a:pt x="579" y="16"/>
                    </a:lnTo>
                    <a:lnTo>
                      <a:pt x="559" y="19"/>
                    </a:lnTo>
                    <a:cubicBezTo>
                      <a:pt x="555" y="20"/>
                      <a:pt x="551" y="17"/>
                      <a:pt x="550" y="13"/>
                    </a:cubicBezTo>
                    <a:cubicBezTo>
                      <a:pt x="549" y="8"/>
                      <a:pt x="552" y="4"/>
                      <a:pt x="557" y="4"/>
                    </a:cubicBezTo>
                    <a:lnTo>
                      <a:pt x="578" y="0"/>
                    </a:lnTo>
                    <a:lnTo>
                      <a:pt x="606" y="0"/>
                    </a:lnTo>
                    <a:cubicBezTo>
                      <a:pt x="610" y="0"/>
                      <a:pt x="614" y="3"/>
                      <a:pt x="614" y="8"/>
                    </a:cubicBezTo>
                    <a:cubicBezTo>
                      <a:pt x="614" y="12"/>
                      <a:pt x="610" y="16"/>
                      <a:pt x="606" y="16"/>
                    </a:cubicBezTo>
                    <a:close/>
                    <a:moveTo>
                      <a:pt x="512" y="27"/>
                    </a:moveTo>
                    <a:lnTo>
                      <a:pt x="464" y="34"/>
                    </a:lnTo>
                    <a:cubicBezTo>
                      <a:pt x="460" y="35"/>
                      <a:pt x="456" y="32"/>
                      <a:pt x="455" y="27"/>
                    </a:cubicBezTo>
                    <a:cubicBezTo>
                      <a:pt x="455" y="23"/>
                      <a:pt x="458" y="19"/>
                      <a:pt x="462" y="18"/>
                    </a:cubicBezTo>
                    <a:lnTo>
                      <a:pt x="509" y="11"/>
                    </a:lnTo>
                    <a:cubicBezTo>
                      <a:pt x="514" y="10"/>
                      <a:pt x="518" y="13"/>
                      <a:pt x="518" y="18"/>
                    </a:cubicBezTo>
                    <a:cubicBezTo>
                      <a:pt x="519" y="22"/>
                      <a:pt x="516" y="26"/>
                      <a:pt x="512" y="27"/>
                    </a:cubicBezTo>
                    <a:close/>
                    <a:moveTo>
                      <a:pt x="421" y="50"/>
                    </a:moveTo>
                    <a:lnTo>
                      <a:pt x="376" y="67"/>
                    </a:lnTo>
                    <a:cubicBezTo>
                      <a:pt x="372" y="68"/>
                      <a:pt x="367" y="66"/>
                      <a:pt x="366" y="62"/>
                    </a:cubicBezTo>
                    <a:cubicBezTo>
                      <a:pt x="364" y="58"/>
                      <a:pt x="366" y="53"/>
                      <a:pt x="370" y="52"/>
                    </a:cubicBezTo>
                    <a:lnTo>
                      <a:pt x="415" y="35"/>
                    </a:lnTo>
                    <a:cubicBezTo>
                      <a:pt x="419" y="33"/>
                      <a:pt x="424" y="35"/>
                      <a:pt x="425" y="40"/>
                    </a:cubicBezTo>
                    <a:cubicBezTo>
                      <a:pt x="427" y="44"/>
                      <a:pt x="425" y="48"/>
                      <a:pt x="421" y="50"/>
                    </a:cubicBezTo>
                    <a:close/>
                    <a:moveTo>
                      <a:pt x="334" y="87"/>
                    </a:moveTo>
                    <a:lnTo>
                      <a:pt x="293" y="112"/>
                    </a:lnTo>
                    <a:cubicBezTo>
                      <a:pt x="289" y="114"/>
                      <a:pt x="284" y="113"/>
                      <a:pt x="282" y="109"/>
                    </a:cubicBezTo>
                    <a:cubicBezTo>
                      <a:pt x="280" y="105"/>
                      <a:pt x="281" y="100"/>
                      <a:pt x="285" y="98"/>
                    </a:cubicBezTo>
                    <a:lnTo>
                      <a:pt x="326" y="73"/>
                    </a:lnTo>
                    <a:cubicBezTo>
                      <a:pt x="330" y="71"/>
                      <a:pt x="335" y="72"/>
                      <a:pt x="337" y="76"/>
                    </a:cubicBezTo>
                    <a:cubicBezTo>
                      <a:pt x="339" y="80"/>
                      <a:pt x="338" y="84"/>
                      <a:pt x="334" y="87"/>
                    </a:cubicBezTo>
                    <a:close/>
                    <a:moveTo>
                      <a:pt x="254" y="136"/>
                    </a:moveTo>
                    <a:lnTo>
                      <a:pt x="218" y="168"/>
                    </a:lnTo>
                    <a:cubicBezTo>
                      <a:pt x="215" y="171"/>
                      <a:pt x="210" y="171"/>
                      <a:pt x="207" y="168"/>
                    </a:cubicBezTo>
                    <a:cubicBezTo>
                      <a:pt x="204" y="165"/>
                      <a:pt x="204" y="160"/>
                      <a:pt x="207" y="157"/>
                    </a:cubicBezTo>
                    <a:lnTo>
                      <a:pt x="243" y="124"/>
                    </a:lnTo>
                    <a:cubicBezTo>
                      <a:pt x="246" y="121"/>
                      <a:pt x="251" y="122"/>
                      <a:pt x="254" y="125"/>
                    </a:cubicBezTo>
                    <a:cubicBezTo>
                      <a:pt x="257" y="128"/>
                      <a:pt x="257" y="133"/>
                      <a:pt x="254" y="136"/>
                    </a:cubicBezTo>
                    <a:close/>
                    <a:moveTo>
                      <a:pt x="183" y="201"/>
                    </a:moveTo>
                    <a:lnTo>
                      <a:pt x="170" y="212"/>
                    </a:lnTo>
                    <a:lnTo>
                      <a:pt x="171" y="211"/>
                    </a:lnTo>
                    <a:lnTo>
                      <a:pt x="152" y="236"/>
                    </a:lnTo>
                    <a:cubicBezTo>
                      <a:pt x="150" y="239"/>
                      <a:pt x="145" y="240"/>
                      <a:pt x="141" y="237"/>
                    </a:cubicBezTo>
                    <a:cubicBezTo>
                      <a:pt x="138" y="235"/>
                      <a:pt x="137" y="230"/>
                      <a:pt x="140" y="226"/>
                    </a:cubicBezTo>
                    <a:lnTo>
                      <a:pt x="158" y="202"/>
                    </a:lnTo>
                    <a:cubicBezTo>
                      <a:pt x="158" y="201"/>
                      <a:pt x="159" y="201"/>
                      <a:pt x="159" y="201"/>
                    </a:cubicBezTo>
                    <a:lnTo>
                      <a:pt x="172" y="189"/>
                    </a:lnTo>
                    <a:cubicBezTo>
                      <a:pt x="175" y="186"/>
                      <a:pt x="180" y="186"/>
                      <a:pt x="183" y="189"/>
                    </a:cubicBezTo>
                    <a:cubicBezTo>
                      <a:pt x="186" y="193"/>
                      <a:pt x="186" y="198"/>
                      <a:pt x="183" y="201"/>
                    </a:cubicBezTo>
                    <a:close/>
                    <a:moveTo>
                      <a:pt x="124" y="274"/>
                    </a:moveTo>
                    <a:lnTo>
                      <a:pt x="101" y="304"/>
                    </a:lnTo>
                    <a:lnTo>
                      <a:pt x="102" y="303"/>
                    </a:lnTo>
                    <a:lnTo>
                      <a:pt x="97" y="312"/>
                    </a:lnTo>
                    <a:cubicBezTo>
                      <a:pt x="95" y="316"/>
                      <a:pt x="91" y="318"/>
                      <a:pt x="87" y="316"/>
                    </a:cubicBezTo>
                    <a:cubicBezTo>
                      <a:pt x="83" y="314"/>
                      <a:pt x="81" y="309"/>
                      <a:pt x="83" y="305"/>
                    </a:cubicBezTo>
                    <a:lnTo>
                      <a:pt x="87" y="296"/>
                    </a:lnTo>
                    <a:cubicBezTo>
                      <a:pt x="87" y="296"/>
                      <a:pt x="88" y="295"/>
                      <a:pt x="88" y="295"/>
                    </a:cubicBezTo>
                    <a:lnTo>
                      <a:pt x="111" y="265"/>
                    </a:lnTo>
                    <a:cubicBezTo>
                      <a:pt x="113" y="261"/>
                      <a:pt x="118" y="260"/>
                      <a:pt x="122" y="263"/>
                    </a:cubicBezTo>
                    <a:cubicBezTo>
                      <a:pt x="126" y="266"/>
                      <a:pt x="126" y="271"/>
                      <a:pt x="124" y="274"/>
                    </a:cubicBezTo>
                    <a:close/>
                    <a:moveTo>
                      <a:pt x="77" y="356"/>
                    </a:moveTo>
                    <a:lnTo>
                      <a:pt x="56" y="399"/>
                    </a:lnTo>
                    <a:cubicBezTo>
                      <a:pt x="54" y="403"/>
                      <a:pt x="50" y="405"/>
                      <a:pt x="46" y="403"/>
                    </a:cubicBezTo>
                    <a:cubicBezTo>
                      <a:pt x="42" y="401"/>
                      <a:pt x="40" y="396"/>
                      <a:pt x="42" y="392"/>
                    </a:cubicBezTo>
                    <a:lnTo>
                      <a:pt x="62" y="349"/>
                    </a:lnTo>
                    <a:cubicBezTo>
                      <a:pt x="64" y="345"/>
                      <a:pt x="69" y="343"/>
                      <a:pt x="73" y="345"/>
                    </a:cubicBezTo>
                    <a:cubicBezTo>
                      <a:pt x="77" y="347"/>
                      <a:pt x="79" y="352"/>
                      <a:pt x="77" y="356"/>
                    </a:cubicBezTo>
                    <a:close/>
                    <a:moveTo>
                      <a:pt x="41" y="443"/>
                    </a:moveTo>
                    <a:lnTo>
                      <a:pt x="34" y="468"/>
                    </a:lnTo>
                    <a:lnTo>
                      <a:pt x="30" y="489"/>
                    </a:lnTo>
                    <a:cubicBezTo>
                      <a:pt x="29" y="493"/>
                      <a:pt x="25" y="496"/>
                      <a:pt x="21" y="495"/>
                    </a:cubicBezTo>
                    <a:cubicBezTo>
                      <a:pt x="16" y="494"/>
                      <a:pt x="13" y="490"/>
                      <a:pt x="14" y="486"/>
                    </a:cubicBezTo>
                    <a:lnTo>
                      <a:pt x="19" y="463"/>
                    </a:lnTo>
                    <a:lnTo>
                      <a:pt x="26" y="439"/>
                    </a:lnTo>
                    <a:cubicBezTo>
                      <a:pt x="27" y="434"/>
                      <a:pt x="32" y="432"/>
                      <a:pt x="36" y="433"/>
                    </a:cubicBezTo>
                    <a:cubicBezTo>
                      <a:pt x="40" y="434"/>
                      <a:pt x="43" y="439"/>
                      <a:pt x="41" y="443"/>
                    </a:cubicBezTo>
                    <a:close/>
                    <a:moveTo>
                      <a:pt x="22" y="535"/>
                    </a:moveTo>
                    <a:lnTo>
                      <a:pt x="20" y="583"/>
                    </a:lnTo>
                    <a:cubicBezTo>
                      <a:pt x="19" y="587"/>
                      <a:pt x="16" y="591"/>
                      <a:pt x="11" y="591"/>
                    </a:cubicBezTo>
                    <a:cubicBezTo>
                      <a:pt x="7" y="590"/>
                      <a:pt x="3" y="587"/>
                      <a:pt x="4" y="582"/>
                    </a:cubicBezTo>
                    <a:lnTo>
                      <a:pt x="6" y="534"/>
                    </a:lnTo>
                    <a:cubicBezTo>
                      <a:pt x="6" y="530"/>
                      <a:pt x="10" y="526"/>
                      <a:pt x="14" y="527"/>
                    </a:cubicBezTo>
                    <a:cubicBezTo>
                      <a:pt x="19" y="527"/>
                      <a:pt x="22" y="531"/>
                      <a:pt x="22" y="535"/>
                    </a:cubicBezTo>
                    <a:close/>
                    <a:moveTo>
                      <a:pt x="17" y="631"/>
                    </a:moveTo>
                    <a:lnTo>
                      <a:pt x="16" y="641"/>
                    </a:lnTo>
                    <a:lnTo>
                      <a:pt x="16" y="639"/>
                    </a:lnTo>
                    <a:lnTo>
                      <a:pt x="21" y="677"/>
                    </a:lnTo>
                    <a:cubicBezTo>
                      <a:pt x="22" y="682"/>
                      <a:pt x="19" y="686"/>
                      <a:pt x="15" y="686"/>
                    </a:cubicBezTo>
                    <a:cubicBezTo>
                      <a:pt x="10" y="687"/>
                      <a:pt x="6" y="684"/>
                      <a:pt x="6" y="679"/>
                    </a:cubicBezTo>
                    <a:lnTo>
                      <a:pt x="1" y="642"/>
                    </a:lnTo>
                    <a:cubicBezTo>
                      <a:pt x="0" y="641"/>
                      <a:pt x="0" y="641"/>
                      <a:pt x="0" y="640"/>
                    </a:cubicBezTo>
                    <a:lnTo>
                      <a:pt x="1" y="630"/>
                    </a:lnTo>
                    <a:cubicBezTo>
                      <a:pt x="1" y="626"/>
                      <a:pt x="5" y="622"/>
                      <a:pt x="9" y="623"/>
                    </a:cubicBezTo>
                    <a:cubicBezTo>
                      <a:pt x="14" y="623"/>
                      <a:pt x="17" y="627"/>
                      <a:pt x="17" y="631"/>
                    </a:cubicBezTo>
                    <a:close/>
                    <a:moveTo>
                      <a:pt x="28" y="725"/>
                    </a:moveTo>
                    <a:lnTo>
                      <a:pt x="31" y="751"/>
                    </a:lnTo>
                    <a:cubicBezTo>
                      <a:pt x="32" y="756"/>
                      <a:pt x="29" y="760"/>
                      <a:pt x="25" y="760"/>
                    </a:cubicBezTo>
                    <a:cubicBezTo>
                      <a:pt x="20" y="761"/>
                      <a:pt x="16" y="758"/>
                      <a:pt x="16" y="754"/>
                    </a:cubicBezTo>
                    <a:lnTo>
                      <a:pt x="12" y="727"/>
                    </a:lnTo>
                    <a:cubicBezTo>
                      <a:pt x="11" y="722"/>
                      <a:pt x="14" y="718"/>
                      <a:pt x="19" y="718"/>
                    </a:cubicBezTo>
                    <a:cubicBezTo>
                      <a:pt x="23" y="717"/>
                      <a:pt x="27" y="720"/>
                      <a:pt x="28" y="725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101000" y="3418920"/>
                <a:ext cx="54720" cy="4608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0" y="36"/>
                    </a:moveTo>
                    <a:lnTo>
                      <a:pt x="39" y="25"/>
                    </a:lnTo>
                    <a:lnTo>
                      <a:pt x="7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22320" y="3524400"/>
                <a:ext cx="441360" cy="592920"/>
              </a:xfrm>
              <a:custGeom>
                <a:avLst/>
                <a:gdLst/>
                <a:ahLst/>
                <a:rect l="l" t="t" r="r" b="b"/>
                <a:pathLst>
                  <a:path w="524" h="772">
                    <a:moveTo>
                      <a:pt x="397" y="5"/>
                    </a:moveTo>
                    <a:lnTo>
                      <a:pt x="426" y="42"/>
                    </a:lnTo>
                    <a:cubicBezTo>
                      <a:pt x="429" y="46"/>
                      <a:pt x="429" y="51"/>
                      <a:pt x="425" y="53"/>
                    </a:cubicBezTo>
                    <a:cubicBezTo>
                      <a:pt x="422" y="56"/>
                      <a:pt x="417" y="56"/>
                      <a:pt x="414" y="52"/>
                    </a:cubicBezTo>
                    <a:lnTo>
                      <a:pt x="384" y="14"/>
                    </a:lnTo>
                    <a:cubicBezTo>
                      <a:pt x="381" y="11"/>
                      <a:pt x="382" y="6"/>
                      <a:pt x="386" y="3"/>
                    </a:cubicBezTo>
                    <a:cubicBezTo>
                      <a:pt x="389" y="0"/>
                      <a:pt x="394" y="1"/>
                      <a:pt x="397" y="5"/>
                    </a:cubicBezTo>
                    <a:close/>
                    <a:moveTo>
                      <a:pt x="456" y="82"/>
                    </a:moveTo>
                    <a:lnTo>
                      <a:pt x="478" y="125"/>
                    </a:lnTo>
                    <a:cubicBezTo>
                      <a:pt x="480" y="129"/>
                      <a:pt x="478" y="133"/>
                      <a:pt x="474" y="135"/>
                    </a:cubicBezTo>
                    <a:cubicBezTo>
                      <a:pt x="470" y="137"/>
                      <a:pt x="466" y="136"/>
                      <a:pt x="464" y="132"/>
                    </a:cubicBezTo>
                    <a:lnTo>
                      <a:pt x="442" y="89"/>
                    </a:lnTo>
                    <a:cubicBezTo>
                      <a:pt x="440" y="85"/>
                      <a:pt x="441" y="80"/>
                      <a:pt x="445" y="78"/>
                    </a:cubicBezTo>
                    <a:cubicBezTo>
                      <a:pt x="449" y="76"/>
                      <a:pt x="454" y="78"/>
                      <a:pt x="456" y="82"/>
                    </a:cubicBezTo>
                    <a:close/>
                    <a:moveTo>
                      <a:pt x="497" y="170"/>
                    </a:moveTo>
                    <a:lnTo>
                      <a:pt x="511" y="216"/>
                    </a:lnTo>
                    <a:cubicBezTo>
                      <a:pt x="512" y="220"/>
                      <a:pt x="510" y="225"/>
                      <a:pt x="505" y="226"/>
                    </a:cubicBezTo>
                    <a:cubicBezTo>
                      <a:pt x="501" y="227"/>
                      <a:pt x="497" y="225"/>
                      <a:pt x="495" y="220"/>
                    </a:cubicBezTo>
                    <a:lnTo>
                      <a:pt x="482" y="174"/>
                    </a:lnTo>
                    <a:cubicBezTo>
                      <a:pt x="481" y="170"/>
                      <a:pt x="483" y="166"/>
                      <a:pt x="487" y="164"/>
                    </a:cubicBezTo>
                    <a:cubicBezTo>
                      <a:pt x="492" y="163"/>
                      <a:pt x="496" y="166"/>
                      <a:pt x="497" y="170"/>
                    </a:cubicBezTo>
                    <a:close/>
                    <a:moveTo>
                      <a:pt x="519" y="265"/>
                    </a:moveTo>
                    <a:lnTo>
                      <a:pt x="523" y="312"/>
                    </a:lnTo>
                    <a:cubicBezTo>
                      <a:pt x="524" y="317"/>
                      <a:pt x="521" y="321"/>
                      <a:pt x="516" y="321"/>
                    </a:cubicBezTo>
                    <a:cubicBezTo>
                      <a:pt x="512" y="321"/>
                      <a:pt x="508" y="318"/>
                      <a:pt x="507" y="314"/>
                    </a:cubicBezTo>
                    <a:lnTo>
                      <a:pt x="504" y="266"/>
                    </a:lnTo>
                    <a:cubicBezTo>
                      <a:pt x="503" y="261"/>
                      <a:pt x="506" y="258"/>
                      <a:pt x="511" y="257"/>
                    </a:cubicBezTo>
                    <a:cubicBezTo>
                      <a:pt x="515" y="257"/>
                      <a:pt x="519" y="260"/>
                      <a:pt x="519" y="265"/>
                    </a:cubicBezTo>
                    <a:close/>
                    <a:moveTo>
                      <a:pt x="520" y="362"/>
                    </a:moveTo>
                    <a:lnTo>
                      <a:pt x="515" y="409"/>
                    </a:lnTo>
                    <a:cubicBezTo>
                      <a:pt x="514" y="414"/>
                      <a:pt x="510" y="417"/>
                      <a:pt x="506" y="416"/>
                    </a:cubicBezTo>
                    <a:cubicBezTo>
                      <a:pt x="501" y="416"/>
                      <a:pt x="498" y="412"/>
                      <a:pt x="499" y="408"/>
                    </a:cubicBezTo>
                    <a:lnTo>
                      <a:pt x="504" y="360"/>
                    </a:lnTo>
                    <a:cubicBezTo>
                      <a:pt x="505" y="355"/>
                      <a:pt x="509" y="352"/>
                      <a:pt x="513" y="353"/>
                    </a:cubicBezTo>
                    <a:cubicBezTo>
                      <a:pt x="518" y="353"/>
                      <a:pt x="521" y="357"/>
                      <a:pt x="520" y="362"/>
                    </a:cubicBezTo>
                    <a:close/>
                    <a:moveTo>
                      <a:pt x="501" y="457"/>
                    </a:moveTo>
                    <a:lnTo>
                      <a:pt x="489" y="495"/>
                    </a:lnTo>
                    <a:cubicBezTo>
                      <a:pt x="489" y="495"/>
                      <a:pt x="489" y="496"/>
                      <a:pt x="488" y="496"/>
                    </a:cubicBezTo>
                    <a:lnTo>
                      <a:pt x="485" y="504"/>
                    </a:lnTo>
                    <a:cubicBezTo>
                      <a:pt x="482" y="507"/>
                      <a:pt x="478" y="509"/>
                      <a:pt x="474" y="507"/>
                    </a:cubicBezTo>
                    <a:cubicBezTo>
                      <a:pt x="470" y="505"/>
                      <a:pt x="468" y="500"/>
                      <a:pt x="470" y="496"/>
                    </a:cubicBezTo>
                    <a:lnTo>
                      <a:pt x="474" y="489"/>
                    </a:lnTo>
                    <a:lnTo>
                      <a:pt x="474" y="490"/>
                    </a:lnTo>
                    <a:lnTo>
                      <a:pt x="485" y="452"/>
                    </a:lnTo>
                    <a:cubicBezTo>
                      <a:pt x="487" y="448"/>
                      <a:pt x="491" y="446"/>
                      <a:pt x="495" y="447"/>
                    </a:cubicBezTo>
                    <a:cubicBezTo>
                      <a:pt x="500" y="448"/>
                      <a:pt x="502" y="453"/>
                      <a:pt x="501" y="457"/>
                    </a:cubicBezTo>
                    <a:close/>
                    <a:moveTo>
                      <a:pt x="462" y="546"/>
                    </a:moveTo>
                    <a:lnTo>
                      <a:pt x="446" y="573"/>
                    </a:lnTo>
                    <a:cubicBezTo>
                      <a:pt x="446" y="574"/>
                      <a:pt x="446" y="574"/>
                      <a:pt x="446" y="575"/>
                    </a:cubicBezTo>
                    <a:lnTo>
                      <a:pt x="435" y="587"/>
                    </a:lnTo>
                    <a:cubicBezTo>
                      <a:pt x="432" y="591"/>
                      <a:pt x="427" y="591"/>
                      <a:pt x="424" y="588"/>
                    </a:cubicBezTo>
                    <a:cubicBezTo>
                      <a:pt x="420" y="585"/>
                      <a:pt x="420" y="580"/>
                      <a:pt x="423" y="577"/>
                    </a:cubicBezTo>
                    <a:lnTo>
                      <a:pt x="433" y="564"/>
                    </a:lnTo>
                    <a:lnTo>
                      <a:pt x="432" y="566"/>
                    </a:lnTo>
                    <a:lnTo>
                      <a:pt x="448" y="538"/>
                    </a:lnTo>
                    <a:cubicBezTo>
                      <a:pt x="450" y="534"/>
                      <a:pt x="454" y="533"/>
                      <a:pt x="458" y="535"/>
                    </a:cubicBezTo>
                    <a:cubicBezTo>
                      <a:pt x="462" y="537"/>
                      <a:pt x="464" y="542"/>
                      <a:pt x="462" y="546"/>
                    </a:cubicBezTo>
                    <a:close/>
                    <a:moveTo>
                      <a:pt x="404" y="624"/>
                    </a:moveTo>
                    <a:lnTo>
                      <a:pt x="388" y="644"/>
                    </a:lnTo>
                    <a:cubicBezTo>
                      <a:pt x="387" y="644"/>
                      <a:pt x="387" y="644"/>
                      <a:pt x="387" y="645"/>
                    </a:cubicBezTo>
                    <a:lnTo>
                      <a:pt x="370" y="659"/>
                    </a:lnTo>
                    <a:cubicBezTo>
                      <a:pt x="366" y="662"/>
                      <a:pt x="361" y="662"/>
                      <a:pt x="358" y="658"/>
                    </a:cubicBezTo>
                    <a:cubicBezTo>
                      <a:pt x="356" y="655"/>
                      <a:pt x="356" y="650"/>
                      <a:pt x="359" y="647"/>
                    </a:cubicBezTo>
                    <a:lnTo>
                      <a:pt x="376" y="632"/>
                    </a:lnTo>
                    <a:lnTo>
                      <a:pt x="375" y="633"/>
                    </a:lnTo>
                    <a:lnTo>
                      <a:pt x="392" y="614"/>
                    </a:lnTo>
                    <a:cubicBezTo>
                      <a:pt x="395" y="610"/>
                      <a:pt x="400" y="610"/>
                      <a:pt x="403" y="613"/>
                    </a:cubicBezTo>
                    <a:cubicBezTo>
                      <a:pt x="406" y="616"/>
                      <a:pt x="407" y="621"/>
                      <a:pt x="404" y="624"/>
                    </a:cubicBezTo>
                    <a:close/>
                    <a:moveTo>
                      <a:pt x="331" y="690"/>
                    </a:moveTo>
                    <a:lnTo>
                      <a:pt x="297" y="712"/>
                    </a:lnTo>
                    <a:lnTo>
                      <a:pt x="290" y="716"/>
                    </a:lnTo>
                    <a:cubicBezTo>
                      <a:pt x="286" y="718"/>
                      <a:pt x="281" y="716"/>
                      <a:pt x="279" y="712"/>
                    </a:cubicBezTo>
                    <a:cubicBezTo>
                      <a:pt x="277" y="708"/>
                      <a:pt x="279" y="703"/>
                      <a:pt x="283" y="701"/>
                    </a:cubicBezTo>
                    <a:lnTo>
                      <a:pt x="288" y="699"/>
                    </a:lnTo>
                    <a:lnTo>
                      <a:pt x="323" y="676"/>
                    </a:lnTo>
                    <a:cubicBezTo>
                      <a:pt x="326" y="674"/>
                      <a:pt x="331" y="675"/>
                      <a:pt x="334" y="679"/>
                    </a:cubicBezTo>
                    <a:cubicBezTo>
                      <a:pt x="336" y="682"/>
                      <a:pt x="335" y="687"/>
                      <a:pt x="331" y="690"/>
                    </a:cubicBezTo>
                    <a:close/>
                    <a:moveTo>
                      <a:pt x="247" y="737"/>
                    </a:moveTo>
                    <a:lnTo>
                      <a:pt x="247" y="738"/>
                    </a:lnTo>
                    <a:lnTo>
                      <a:pt x="201" y="754"/>
                    </a:lnTo>
                    <a:cubicBezTo>
                      <a:pt x="197" y="755"/>
                      <a:pt x="192" y="753"/>
                      <a:pt x="191" y="749"/>
                    </a:cubicBezTo>
                    <a:cubicBezTo>
                      <a:pt x="189" y="745"/>
                      <a:pt x="192" y="740"/>
                      <a:pt x="196" y="739"/>
                    </a:cubicBezTo>
                    <a:lnTo>
                      <a:pt x="240" y="723"/>
                    </a:lnTo>
                    <a:lnTo>
                      <a:pt x="240" y="723"/>
                    </a:lnTo>
                    <a:cubicBezTo>
                      <a:pt x="244" y="721"/>
                      <a:pt x="249" y="723"/>
                      <a:pt x="251" y="727"/>
                    </a:cubicBezTo>
                    <a:cubicBezTo>
                      <a:pt x="253" y="731"/>
                      <a:pt x="251" y="735"/>
                      <a:pt x="247" y="737"/>
                    </a:cubicBezTo>
                    <a:close/>
                    <a:moveTo>
                      <a:pt x="154" y="765"/>
                    </a:moveTo>
                    <a:lnTo>
                      <a:pt x="140" y="768"/>
                    </a:lnTo>
                    <a:cubicBezTo>
                      <a:pt x="140" y="768"/>
                      <a:pt x="139" y="768"/>
                      <a:pt x="139" y="768"/>
                    </a:cubicBezTo>
                    <a:lnTo>
                      <a:pt x="105" y="771"/>
                    </a:lnTo>
                    <a:cubicBezTo>
                      <a:pt x="100" y="771"/>
                      <a:pt x="97" y="768"/>
                      <a:pt x="96" y="764"/>
                    </a:cubicBezTo>
                    <a:cubicBezTo>
                      <a:pt x="96" y="759"/>
                      <a:pt x="99" y="755"/>
                      <a:pt x="104" y="755"/>
                    </a:cubicBezTo>
                    <a:lnTo>
                      <a:pt x="138" y="752"/>
                    </a:lnTo>
                    <a:lnTo>
                      <a:pt x="137" y="753"/>
                    </a:lnTo>
                    <a:lnTo>
                      <a:pt x="150" y="750"/>
                    </a:lnTo>
                    <a:cubicBezTo>
                      <a:pt x="154" y="749"/>
                      <a:pt x="159" y="751"/>
                      <a:pt x="160" y="756"/>
                    </a:cubicBezTo>
                    <a:cubicBezTo>
                      <a:pt x="161" y="760"/>
                      <a:pt x="158" y="764"/>
                      <a:pt x="154" y="765"/>
                    </a:cubicBezTo>
                    <a:close/>
                    <a:moveTo>
                      <a:pt x="56" y="771"/>
                    </a:moveTo>
                    <a:lnTo>
                      <a:pt x="27" y="770"/>
                    </a:lnTo>
                    <a:lnTo>
                      <a:pt x="7" y="767"/>
                    </a:lnTo>
                    <a:cubicBezTo>
                      <a:pt x="3" y="767"/>
                      <a:pt x="0" y="762"/>
                      <a:pt x="1" y="758"/>
                    </a:cubicBezTo>
                    <a:cubicBezTo>
                      <a:pt x="1" y="754"/>
                      <a:pt x="5" y="751"/>
                      <a:pt x="10" y="751"/>
                    </a:cubicBezTo>
                    <a:lnTo>
                      <a:pt x="28" y="754"/>
                    </a:lnTo>
                    <a:lnTo>
                      <a:pt x="57" y="756"/>
                    </a:lnTo>
                    <a:cubicBezTo>
                      <a:pt x="61" y="756"/>
                      <a:pt x="64" y="759"/>
                      <a:pt x="64" y="764"/>
                    </a:cubicBezTo>
                    <a:cubicBezTo>
                      <a:pt x="64" y="768"/>
                      <a:pt x="60" y="772"/>
                      <a:pt x="56" y="771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54640" y="4082760"/>
                <a:ext cx="56160" cy="45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40" y="0"/>
                    </a:moveTo>
                    <a:lnTo>
                      <a:pt x="0" y="7"/>
                    </a:lnTo>
                    <a:lnTo>
                      <a:pt x="30" y="3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773760" y="2241360"/>
                <a:ext cx="428400" cy="574920"/>
              </a:xfrm>
              <a:custGeom>
                <a:avLst/>
                <a:gdLst/>
                <a:ahLst/>
                <a:rect l="l" t="t" r="r" b="b"/>
                <a:pathLst>
                  <a:path w="508" h="747">
                    <a:moveTo>
                      <a:pt x="461" y="7"/>
                    </a:moveTo>
                    <a:lnTo>
                      <a:pt x="477" y="52"/>
                    </a:lnTo>
                    <a:cubicBezTo>
                      <a:pt x="478" y="56"/>
                      <a:pt x="476" y="61"/>
                      <a:pt x="472" y="62"/>
                    </a:cubicBezTo>
                    <a:cubicBezTo>
                      <a:pt x="467" y="64"/>
                      <a:pt x="463" y="62"/>
                      <a:pt x="461" y="57"/>
                    </a:cubicBezTo>
                    <a:lnTo>
                      <a:pt x="446" y="12"/>
                    </a:lnTo>
                    <a:cubicBezTo>
                      <a:pt x="444" y="8"/>
                      <a:pt x="447" y="3"/>
                      <a:pt x="451" y="2"/>
                    </a:cubicBezTo>
                    <a:cubicBezTo>
                      <a:pt x="455" y="0"/>
                      <a:pt x="460" y="3"/>
                      <a:pt x="461" y="7"/>
                    </a:cubicBezTo>
                    <a:close/>
                    <a:moveTo>
                      <a:pt x="492" y="98"/>
                    </a:moveTo>
                    <a:lnTo>
                      <a:pt x="495" y="106"/>
                    </a:lnTo>
                    <a:cubicBezTo>
                      <a:pt x="495" y="106"/>
                      <a:pt x="495" y="107"/>
                      <a:pt x="495" y="107"/>
                    </a:cubicBezTo>
                    <a:lnTo>
                      <a:pt x="500" y="146"/>
                    </a:lnTo>
                    <a:cubicBezTo>
                      <a:pt x="501" y="151"/>
                      <a:pt x="498" y="155"/>
                      <a:pt x="494" y="155"/>
                    </a:cubicBezTo>
                    <a:cubicBezTo>
                      <a:pt x="489" y="156"/>
                      <a:pt x="485" y="153"/>
                      <a:pt x="485" y="148"/>
                    </a:cubicBezTo>
                    <a:lnTo>
                      <a:pt x="480" y="110"/>
                    </a:lnTo>
                    <a:lnTo>
                      <a:pt x="480" y="111"/>
                    </a:lnTo>
                    <a:lnTo>
                      <a:pt x="477" y="103"/>
                    </a:lnTo>
                    <a:cubicBezTo>
                      <a:pt x="476" y="99"/>
                      <a:pt x="478" y="94"/>
                      <a:pt x="482" y="93"/>
                    </a:cubicBezTo>
                    <a:cubicBezTo>
                      <a:pt x="486" y="91"/>
                      <a:pt x="491" y="93"/>
                      <a:pt x="492" y="98"/>
                    </a:cubicBezTo>
                    <a:close/>
                    <a:moveTo>
                      <a:pt x="507" y="194"/>
                    </a:moveTo>
                    <a:lnTo>
                      <a:pt x="508" y="207"/>
                    </a:lnTo>
                    <a:cubicBezTo>
                      <a:pt x="508" y="208"/>
                      <a:pt x="508" y="208"/>
                      <a:pt x="508" y="209"/>
                    </a:cubicBezTo>
                    <a:lnTo>
                      <a:pt x="506" y="243"/>
                    </a:lnTo>
                    <a:cubicBezTo>
                      <a:pt x="506" y="248"/>
                      <a:pt x="502" y="251"/>
                      <a:pt x="498" y="251"/>
                    </a:cubicBezTo>
                    <a:cubicBezTo>
                      <a:pt x="494" y="251"/>
                      <a:pt x="490" y="247"/>
                      <a:pt x="490" y="242"/>
                    </a:cubicBezTo>
                    <a:lnTo>
                      <a:pt x="492" y="208"/>
                    </a:lnTo>
                    <a:lnTo>
                      <a:pt x="493" y="210"/>
                    </a:lnTo>
                    <a:lnTo>
                      <a:pt x="491" y="196"/>
                    </a:lnTo>
                    <a:cubicBezTo>
                      <a:pt x="490" y="192"/>
                      <a:pt x="493" y="188"/>
                      <a:pt x="498" y="187"/>
                    </a:cubicBezTo>
                    <a:cubicBezTo>
                      <a:pt x="502" y="187"/>
                      <a:pt x="506" y="190"/>
                      <a:pt x="507" y="194"/>
                    </a:cubicBezTo>
                    <a:close/>
                    <a:moveTo>
                      <a:pt x="504" y="291"/>
                    </a:moveTo>
                    <a:lnTo>
                      <a:pt x="502" y="309"/>
                    </a:lnTo>
                    <a:cubicBezTo>
                      <a:pt x="502" y="309"/>
                      <a:pt x="502" y="310"/>
                      <a:pt x="502" y="311"/>
                    </a:cubicBezTo>
                    <a:lnTo>
                      <a:pt x="494" y="340"/>
                    </a:lnTo>
                    <a:cubicBezTo>
                      <a:pt x="493" y="344"/>
                      <a:pt x="489" y="347"/>
                      <a:pt x="484" y="345"/>
                    </a:cubicBezTo>
                    <a:cubicBezTo>
                      <a:pt x="480" y="344"/>
                      <a:pt x="478" y="340"/>
                      <a:pt x="479" y="336"/>
                    </a:cubicBezTo>
                    <a:lnTo>
                      <a:pt x="487" y="306"/>
                    </a:lnTo>
                    <a:lnTo>
                      <a:pt x="486" y="308"/>
                    </a:lnTo>
                    <a:lnTo>
                      <a:pt x="488" y="290"/>
                    </a:lnTo>
                    <a:cubicBezTo>
                      <a:pt x="488" y="286"/>
                      <a:pt x="492" y="283"/>
                      <a:pt x="496" y="283"/>
                    </a:cubicBezTo>
                    <a:cubicBezTo>
                      <a:pt x="500" y="283"/>
                      <a:pt x="504" y="287"/>
                      <a:pt x="504" y="291"/>
                    </a:cubicBezTo>
                    <a:close/>
                    <a:moveTo>
                      <a:pt x="482" y="386"/>
                    </a:moveTo>
                    <a:lnTo>
                      <a:pt x="476" y="407"/>
                    </a:lnTo>
                    <a:cubicBezTo>
                      <a:pt x="476" y="407"/>
                      <a:pt x="476" y="408"/>
                      <a:pt x="476" y="408"/>
                    </a:cubicBezTo>
                    <a:lnTo>
                      <a:pt x="464" y="432"/>
                    </a:lnTo>
                    <a:cubicBezTo>
                      <a:pt x="462" y="436"/>
                      <a:pt x="457" y="438"/>
                      <a:pt x="453" y="436"/>
                    </a:cubicBezTo>
                    <a:cubicBezTo>
                      <a:pt x="449" y="434"/>
                      <a:pt x="448" y="429"/>
                      <a:pt x="450" y="425"/>
                    </a:cubicBezTo>
                    <a:lnTo>
                      <a:pt x="461" y="401"/>
                    </a:lnTo>
                    <a:lnTo>
                      <a:pt x="461" y="402"/>
                    </a:lnTo>
                    <a:lnTo>
                      <a:pt x="466" y="382"/>
                    </a:lnTo>
                    <a:cubicBezTo>
                      <a:pt x="467" y="378"/>
                      <a:pt x="472" y="375"/>
                      <a:pt x="476" y="376"/>
                    </a:cubicBezTo>
                    <a:cubicBezTo>
                      <a:pt x="480" y="377"/>
                      <a:pt x="483" y="382"/>
                      <a:pt x="482" y="386"/>
                    </a:cubicBezTo>
                    <a:close/>
                    <a:moveTo>
                      <a:pt x="443" y="475"/>
                    </a:moveTo>
                    <a:lnTo>
                      <a:pt x="433" y="497"/>
                    </a:lnTo>
                    <a:cubicBezTo>
                      <a:pt x="432" y="497"/>
                      <a:pt x="432" y="498"/>
                      <a:pt x="432" y="498"/>
                    </a:cubicBezTo>
                    <a:lnTo>
                      <a:pt x="418" y="518"/>
                    </a:lnTo>
                    <a:cubicBezTo>
                      <a:pt x="415" y="521"/>
                      <a:pt x="410" y="522"/>
                      <a:pt x="406" y="519"/>
                    </a:cubicBezTo>
                    <a:cubicBezTo>
                      <a:pt x="403" y="517"/>
                      <a:pt x="402" y="512"/>
                      <a:pt x="405" y="508"/>
                    </a:cubicBezTo>
                    <a:lnTo>
                      <a:pt x="419" y="489"/>
                    </a:lnTo>
                    <a:lnTo>
                      <a:pt x="418" y="490"/>
                    </a:lnTo>
                    <a:lnTo>
                      <a:pt x="429" y="468"/>
                    </a:lnTo>
                    <a:cubicBezTo>
                      <a:pt x="431" y="464"/>
                      <a:pt x="435" y="463"/>
                      <a:pt x="439" y="465"/>
                    </a:cubicBezTo>
                    <a:cubicBezTo>
                      <a:pt x="443" y="467"/>
                      <a:pt x="445" y="471"/>
                      <a:pt x="443" y="475"/>
                    </a:cubicBezTo>
                    <a:close/>
                    <a:moveTo>
                      <a:pt x="389" y="556"/>
                    </a:moveTo>
                    <a:lnTo>
                      <a:pt x="373" y="578"/>
                    </a:lnTo>
                    <a:cubicBezTo>
                      <a:pt x="373" y="579"/>
                      <a:pt x="372" y="579"/>
                      <a:pt x="372" y="579"/>
                    </a:cubicBezTo>
                    <a:lnTo>
                      <a:pt x="356" y="593"/>
                    </a:lnTo>
                    <a:cubicBezTo>
                      <a:pt x="353" y="596"/>
                      <a:pt x="348" y="596"/>
                      <a:pt x="345" y="593"/>
                    </a:cubicBezTo>
                    <a:cubicBezTo>
                      <a:pt x="342" y="589"/>
                      <a:pt x="342" y="584"/>
                      <a:pt x="346" y="581"/>
                    </a:cubicBezTo>
                    <a:lnTo>
                      <a:pt x="361" y="568"/>
                    </a:lnTo>
                    <a:lnTo>
                      <a:pt x="360" y="569"/>
                    </a:lnTo>
                    <a:lnTo>
                      <a:pt x="376" y="547"/>
                    </a:lnTo>
                    <a:cubicBezTo>
                      <a:pt x="379" y="543"/>
                      <a:pt x="384" y="542"/>
                      <a:pt x="387" y="545"/>
                    </a:cubicBezTo>
                    <a:cubicBezTo>
                      <a:pt x="391" y="548"/>
                      <a:pt x="392" y="553"/>
                      <a:pt x="389" y="556"/>
                    </a:cubicBezTo>
                    <a:close/>
                    <a:moveTo>
                      <a:pt x="321" y="625"/>
                    </a:moveTo>
                    <a:lnTo>
                      <a:pt x="296" y="647"/>
                    </a:lnTo>
                    <a:cubicBezTo>
                      <a:pt x="295" y="648"/>
                      <a:pt x="295" y="648"/>
                      <a:pt x="295" y="648"/>
                    </a:cubicBezTo>
                    <a:lnTo>
                      <a:pt x="282" y="656"/>
                    </a:lnTo>
                    <a:cubicBezTo>
                      <a:pt x="278" y="658"/>
                      <a:pt x="273" y="657"/>
                      <a:pt x="271" y="653"/>
                    </a:cubicBezTo>
                    <a:cubicBezTo>
                      <a:pt x="269" y="649"/>
                      <a:pt x="270" y="644"/>
                      <a:pt x="274" y="642"/>
                    </a:cubicBezTo>
                    <a:lnTo>
                      <a:pt x="286" y="635"/>
                    </a:lnTo>
                    <a:lnTo>
                      <a:pt x="285" y="636"/>
                    </a:lnTo>
                    <a:lnTo>
                      <a:pt x="310" y="613"/>
                    </a:lnTo>
                    <a:cubicBezTo>
                      <a:pt x="313" y="610"/>
                      <a:pt x="318" y="611"/>
                      <a:pt x="321" y="614"/>
                    </a:cubicBezTo>
                    <a:cubicBezTo>
                      <a:pt x="324" y="617"/>
                      <a:pt x="324" y="622"/>
                      <a:pt x="321" y="625"/>
                    </a:cubicBezTo>
                    <a:close/>
                    <a:moveTo>
                      <a:pt x="241" y="680"/>
                    </a:moveTo>
                    <a:lnTo>
                      <a:pt x="205" y="701"/>
                    </a:lnTo>
                    <a:cubicBezTo>
                      <a:pt x="204" y="702"/>
                      <a:pt x="204" y="702"/>
                      <a:pt x="203" y="702"/>
                    </a:cubicBezTo>
                    <a:lnTo>
                      <a:pt x="197" y="704"/>
                    </a:lnTo>
                    <a:cubicBezTo>
                      <a:pt x="193" y="705"/>
                      <a:pt x="188" y="703"/>
                      <a:pt x="187" y="699"/>
                    </a:cubicBezTo>
                    <a:cubicBezTo>
                      <a:pt x="186" y="695"/>
                      <a:pt x="188" y="690"/>
                      <a:pt x="192" y="689"/>
                    </a:cubicBezTo>
                    <a:lnTo>
                      <a:pt x="198" y="687"/>
                    </a:lnTo>
                    <a:lnTo>
                      <a:pt x="196" y="688"/>
                    </a:lnTo>
                    <a:lnTo>
                      <a:pt x="232" y="666"/>
                    </a:lnTo>
                    <a:cubicBezTo>
                      <a:pt x="236" y="664"/>
                      <a:pt x="241" y="665"/>
                      <a:pt x="243" y="669"/>
                    </a:cubicBezTo>
                    <a:cubicBezTo>
                      <a:pt x="246" y="673"/>
                      <a:pt x="244" y="678"/>
                      <a:pt x="241" y="680"/>
                    </a:cubicBezTo>
                    <a:close/>
                    <a:moveTo>
                      <a:pt x="152" y="719"/>
                    </a:moveTo>
                    <a:lnTo>
                      <a:pt x="106" y="734"/>
                    </a:lnTo>
                    <a:cubicBezTo>
                      <a:pt x="102" y="736"/>
                      <a:pt x="97" y="733"/>
                      <a:pt x="96" y="729"/>
                    </a:cubicBezTo>
                    <a:cubicBezTo>
                      <a:pt x="95" y="725"/>
                      <a:pt x="97" y="721"/>
                      <a:pt x="101" y="719"/>
                    </a:cubicBezTo>
                    <a:lnTo>
                      <a:pt x="147" y="704"/>
                    </a:lnTo>
                    <a:cubicBezTo>
                      <a:pt x="151" y="703"/>
                      <a:pt x="155" y="705"/>
                      <a:pt x="157" y="709"/>
                    </a:cubicBezTo>
                    <a:cubicBezTo>
                      <a:pt x="158" y="713"/>
                      <a:pt x="156" y="718"/>
                      <a:pt x="152" y="719"/>
                    </a:cubicBezTo>
                    <a:close/>
                    <a:moveTo>
                      <a:pt x="57" y="742"/>
                    </a:moveTo>
                    <a:lnTo>
                      <a:pt x="9" y="747"/>
                    </a:lnTo>
                    <a:cubicBezTo>
                      <a:pt x="5" y="747"/>
                      <a:pt x="1" y="744"/>
                      <a:pt x="1" y="740"/>
                    </a:cubicBezTo>
                    <a:cubicBezTo>
                      <a:pt x="0" y="735"/>
                      <a:pt x="3" y="731"/>
                      <a:pt x="8" y="731"/>
                    </a:cubicBezTo>
                    <a:lnTo>
                      <a:pt x="55" y="726"/>
                    </a:lnTo>
                    <a:cubicBezTo>
                      <a:pt x="60" y="725"/>
                      <a:pt x="64" y="728"/>
                      <a:pt x="64" y="733"/>
                    </a:cubicBezTo>
                    <a:cubicBezTo>
                      <a:pt x="65" y="737"/>
                      <a:pt x="61" y="741"/>
                      <a:pt x="57" y="74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17240" y="278820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7" y="0"/>
                    </a:moveTo>
                    <a:lnTo>
                      <a:pt x="0" y="16"/>
                    </a:lnTo>
                    <a:lnTo>
                      <a:pt x="35" y="3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73760" y="3524400"/>
                <a:ext cx="428400" cy="573480"/>
              </a:xfrm>
              <a:custGeom>
                <a:avLst/>
                <a:gdLst/>
                <a:ahLst/>
                <a:rect l="l" t="t" r="r" b="b"/>
                <a:pathLst>
                  <a:path w="508" h="747">
                    <a:moveTo>
                      <a:pt x="461" y="7"/>
                    </a:moveTo>
                    <a:lnTo>
                      <a:pt x="477" y="52"/>
                    </a:lnTo>
                    <a:cubicBezTo>
                      <a:pt x="478" y="56"/>
                      <a:pt x="476" y="61"/>
                      <a:pt x="472" y="62"/>
                    </a:cubicBezTo>
                    <a:cubicBezTo>
                      <a:pt x="467" y="64"/>
                      <a:pt x="463" y="62"/>
                      <a:pt x="461" y="57"/>
                    </a:cubicBezTo>
                    <a:lnTo>
                      <a:pt x="446" y="12"/>
                    </a:lnTo>
                    <a:cubicBezTo>
                      <a:pt x="444" y="8"/>
                      <a:pt x="447" y="3"/>
                      <a:pt x="451" y="2"/>
                    </a:cubicBezTo>
                    <a:cubicBezTo>
                      <a:pt x="455" y="0"/>
                      <a:pt x="460" y="3"/>
                      <a:pt x="461" y="7"/>
                    </a:cubicBezTo>
                    <a:close/>
                    <a:moveTo>
                      <a:pt x="492" y="98"/>
                    </a:moveTo>
                    <a:lnTo>
                      <a:pt x="495" y="106"/>
                    </a:lnTo>
                    <a:cubicBezTo>
                      <a:pt x="495" y="106"/>
                      <a:pt x="495" y="107"/>
                      <a:pt x="495" y="107"/>
                    </a:cubicBezTo>
                    <a:lnTo>
                      <a:pt x="500" y="146"/>
                    </a:lnTo>
                    <a:cubicBezTo>
                      <a:pt x="501" y="151"/>
                      <a:pt x="498" y="155"/>
                      <a:pt x="494" y="155"/>
                    </a:cubicBezTo>
                    <a:cubicBezTo>
                      <a:pt x="489" y="156"/>
                      <a:pt x="485" y="153"/>
                      <a:pt x="485" y="148"/>
                    </a:cubicBezTo>
                    <a:lnTo>
                      <a:pt x="480" y="109"/>
                    </a:lnTo>
                    <a:lnTo>
                      <a:pt x="480" y="111"/>
                    </a:lnTo>
                    <a:lnTo>
                      <a:pt x="477" y="103"/>
                    </a:lnTo>
                    <a:cubicBezTo>
                      <a:pt x="476" y="99"/>
                      <a:pt x="478" y="94"/>
                      <a:pt x="482" y="93"/>
                    </a:cubicBezTo>
                    <a:cubicBezTo>
                      <a:pt x="486" y="91"/>
                      <a:pt x="491" y="93"/>
                      <a:pt x="492" y="98"/>
                    </a:cubicBezTo>
                    <a:close/>
                    <a:moveTo>
                      <a:pt x="507" y="194"/>
                    </a:moveTo>
                    <a:lnTo>
                      <a:pt x="508" y="208"/>
                    </a:lnTo>
                    <a:cubicBezTo>
                      <a:pt x="508" y="209"/>
                      <a:pt x="508" y="209"/>
                      <a:pt x="508" y="210"/>
                    </a:cubicBezTo>
                    <a:lnTo>
                      <a:pt x="506" y="243"/>
                    </a:lnTo>
                    <a:cubicBezTo>
                      <a:pt x="506" y="248"/>
                      <a:pt x="502" y="251"/>
                      <a:pt x="498" y="251"/>
                    </a:cubicBezTo>
                    <a:cubicBezTo>
                      <a:pt x="494" y="251"/>
                      <a:pt x="490" y="247"/>
                      <a:pt x="490" y="242"/>
                    </a:cubicBezTo>
                    <a:lnTo>
                      <a:pt x="492" y="209"/>
                    </a:lnTo>
                    <a:lnTo>
                      <a:pt x="493" y="210"/>
                    </a:lnTo>
                    <a:lnTo>
                      <a:pt x="491" y="196"/>
                    </a:lnTo>
                    <a:cubicBezTo>
                      <a:pt x="490" y="192"/>
                      <a:pt x="493" y="188"/>
                      <a:pt x="498" y="187"/>
                    </a:cubicBezTo>
                    <a:cubicBezTo>
                      <a:pt x="502" y="187"/>
                      <a:pt x="506" y="190"/>
                      <a:pt x="507" y="194"/>
                    </a:cubicBezTo>
                    <a:close/>
                    <a:moveTo>
                      <a:pt x="504" y="291"/>
                    </a:moveTo>
                    <a:lnTo>
                      <a:pt x="502" y="309"/>
                    </a:lnTo>
                    <a:cubicBezTo>
                      <a:pt x="502" y="309"/>
                      <a:pt x="502" y="310"/>
                      <a:pt x="502" y="311"/>
                    </a:cubicBezTo>
                    <a:lnTo>
                      <a:pt x="494" y="340"/>
                    </a:lnTo>
                    <a:cubicBezTo>
                      <a:pt x="493" y="344"/>
                      <a:pt x="489" y="347"/>
                      <a:pt x="484" y="345"/>
                    </a:cubicBezTo>
                    <a:cubicBezTo>
                      <a:pt x="480" y="344"/>
                      <a:pt x="478" y="340"/>
                      <a:pt x="479" y="336"/>
                    </a:cubicBezTo>
                    <a:lnTo>
                      <a:pt x="487" y="306"/>
                    </a:lnTo>
                    <a:lnTo>
                      <a:pt x="486" y="308"/>
                    </a:lnTo>
                    <a:lnTo>
                      <a:pt x="488" y="290"/>
                    </a:lnTo>
                    <a:cubicBezTo>
                      <a:pt x="488" y="286"/>
                      <a:pt x="492" y="283"/>
                      <a:pt x="496" y="283"/>
                    </a:cubicBezTo>
                    <a:cubicBezTo>
                      <a:pt x="500" y="283"/>
                      <a:pt x="504" y="287"/>
                      <a:pt x="504" y="291"/>
                    </a:cubicBezTo>
                    <a:close/>
                    <a:moveTo>
                      <a:pt x="482" y="386"/>
                    </a:moveTo>
                    <a:lnTo>
                      <a:pt x="476" y="407"/>
                    </a:lnTo>
                    <a:cubicBezTo>
                      <a:pt x="476" y="407"/>
                      <a:pt x="476" y="408"/>
                      <a:pt x="476" y="408"/>
                    </a:cubicBezTo>
                    <a:lnTo>
                      <a:pt x="464" y="432"/>
                    </a:lnTo>
                    <a:cubicBezTo>
                      <a:pt x="462" y="436"/>
                      <a:pt x="457" y="438"/>
                      <a:pt x="453" y="436"/>
                    </a:cubicBezTo>
                    <a:cubicBezTo>
                      <a:pt x="449" y="434"/>
                      <a:pt x="448" y="429"/>
                      <a:pt x="450" y="425"/>
                    </a:cubicBezTo>
                    <a:lnTo>
                      <a:pt x="461" y="401"/>
                    </a:lnTo>
                    <a:lnTo>
                      <a:pt x="461" y="402"/>
                    </a:lnTo>
                    <a:lnTo>
                      <a:pt x="466" y="382"/>
                    </a:lnTo>
                    <a:cubicBezTo>
                      <a:pt x="467" y="378"/>
                      <a:pt x="472" y="375"/>
                      <a:pt x="476" y="376"/>
                    </a:cubicBezTo>
                    <a:cubicBezTo>
                      <a:pt x="480" y="377"/>
                      <a:pt x="483" y="382"/>
                      <a:pt x="482" y="386"/>
                    </a:cubicBezTo>
                    <a:close/>
                    <a:moveTo>
                      <a:pt x="443" y="475"/>
                    </a:moveTo>
                    <a:lnTo>
                      <a:pt x="433" y="497"/>
                    </a:lnTo>
                    <a:cubicBezTo>
                      <a:pt x="432" y="497"/>
                      <a:pt x="432" y="498"/>
                      <a:pt x="432" y="498"/>
                    </a:cubicBezTo>
                    <a:lnTo>
                      <a:pt x="418" y="518"/>
                    </a:lnTo>
                    <a:cubicBezTo>
                      <a:pt x="415" y="521"/>
                      <a:pt x="410" y="522"/>
                      <a:pt x="406" y="519"/>
                    </a:cubicBezTo>
                    <a:cubicBezTo>
                      <a:pt x="403" y="517"/>
                      <a:pt x="402" y="512"/>
                      <a:pt x="405" y="508"/>
                    </a:cubicBezTo>
                    <a:lnTo>
                      <a:pt x="419" y="489"/>
                    </a:lnTo>
                    <a:lnTo>
                      <a:pt x="418" y="490"/>
                    </a:lnTo>
                    <a:lnTo>
                      <a:pt x="429" y="468"/>
                    </a:lnTo>
                    <a:cubicBezTo>
                      <a:pt x="431" y="464"/>
                      <a:pt x="435" y="463"/>
                      <a:pt x="439" y="465"/>
                    </a:cubicBezTo>
                    <a:cubicBezTo>
                      <a:pt x="443" y="467"/>
                      <a:pt x="445" y="471"/>
                      <a:pt x="443" y="475"/>
                    </a:cubicBezTo>
                    <a:close/>
                    <a:moveTo>
                      <a:pt x="389" y="556"/>
                    </a:moveTo>
                    <a:lnTo>
                      <a:pt x="373" y="578"/>
                    </a:lnTo>
                    <a:cubicBezTo>
                      <a:pt x="373" y="579"/>
                      <a:pt x="372" y="579"/>
                      <a:pt x="372" y="579"/>
                    </a:cubicBezTo>
                    <a:lnTo>
                      <a:pt x="356" y="593"/>
                    </a:lnTo>
                    <a:cubicBezTo>
                      <a:pt x="353" y="596"/>
                      <a:pt x="348" y="596"/>
                      <a:pt x="345" y="593"/>
                    </a:cubicBezTo>
                    <a:cubicBezTo>
                      <a:pt x="342" y="589"/>
                      <a:pt x="342" y="584"/>
                      <a:pt x="346" y="581"/>
                    </a:cubicBezTo>
                    <a:lnTo>
                      <a:pt x="361" y="568"/>
                    </a:lnTo>
                    <a:lnTo>
                      <a:pt x="360" y="569"/>
                    </a:lnTo>
                    <a:lnTo>
                      <a:pt x="376" y="547"/>
                    </a:lnTo>
                    <a:cubicBezTo>
                      <a:pt x="379" y="543"/>
                      <a:pt x="384" y="542"/>
                      <a:pt x="387" y="545"/>
                    </a:cubicBezTo>
                    <a:cubicBezTo>
                      <a:pt x="391" y="548"/>
                      <a:pt x="392" y="553"/>
                      <a:pt x="389" y="556"/>
                    </a:cubicBezTo>
                    <a:close/>
                    <a:moveTo>
                      <a:pt x="321" y="625"/>
                    </a:moveTo>
                    <a:lnTo>
                      <a:pt x="296" y="647"/>
                    </a:lnTo>
                    <a:cubicBezTo>
                      <a:pt x="295" y="648"/>
                      <a:pt x="295" y="648"/>
                      <a:pt x="295" y="648"/>
                    </a:cubicBezTo>
                    <a:lnTo>
                      <a:pt x="282" y="656"/>
                    </a:lnTo>
                    <a:cubicBezTo>
                      <a:pt x="278" y="658"/>
                      <a:pt x="273" y="657"/>
                      <a:pt x="271" y="653"/>
                    </a:cubicBezTo>
                    <a:cubicBezTo>
                      <a:pt x="269" y="649"/>
                      <a:pt x="270" y="644"/>
                      <a:pt x="274" y="642"/>
                    </a:cubicBezTo>
                    <a:lnTo>
                      <a:pt x="286" y="635"/>
                    </a:lnTo>
                    <a:lnTo>
                      <a:pt x="285" y="636"/>
                    </a:lnTo>
                    <a:lnTo>
                      <a:pt x="310" y="613"/>
                    </a:lnTo>
                    <a:cubicBezTo>
                      <a:pt x="313" y="610"/>
                      <a:pt x="318" y="611"/>
                      <a:pt x="321" y="614"/>
                    </a:cubicBezTo>
                    <a:cubicBezTo>
                      <a:pt x="324" y="617"/>
                      <a:pt x="324" y="622"/>
                      <a:pt x="321" y="625"/>
                    </a:cubicBezTo>
                    <a:close/>
                    <a:moveTo>
                      <a:pt x="241" y="680"/>
                    </a:moveTo>
                    <a:lnTo>
                      <a:pt x="205" y="701"/>
                    </a:lnTo>
                    <a:cubicBezTo>
                      <a:pt x="204" y="702"/>
                      <a:pt x="204" y="702"/>
                      <a:pt x="203" y="702"/>
                    </a:cubicBezTo>
                    <a:lnTo>
                      <a:pt x="197" y="704"/>
                    </a:lnTo>
                    <a:cubicBezTo>
                      <a:pt x="193" y="705"/>
                      <a:pt x="188" y="703"/>
                      <a:pt x="187" y="699"/>
                    </a:cubicBezTo>
                    <a:cubicBezTo>
                      <a:pt x="186" y="695"/>
                      <a:pt x="188" y="690"/>
                      <a:pt x="192" y="689"/>
                    </a:cubicBezTo>
                    <a:lnTo>
                      <a:pt x="198" y="687"/>
                    </a:lnTo>
                    <a:lnTo>
                      <a:pt x="196" y="688"/>
                    </a:lnTo>
                    <a:lnTo>
                      <a:pt x="232" y="666"/>
                    </a:lnTo>
                    <a:cubicBezTo>
                      <a:pt x="236" y="664"/>
                      <a:pt x="241" y="665"/>
                      <a:pt x="243" y="669"/>
                    </a:cubicBezTo>
                    <a:cubicBezTo>
                      <a:pt x="246" y="673"/>
                      <a:pt x="244" y="678"/>
                      <a:pt x="241" y="680"/>
                    </a:cubicBezTo>
                    <a:close/>
                    <a:moveTo>
                      <a:pt x="152" y="719"/>
                    </a:moveTo>
                    <a:lnTo>
                      <a:pt x="106" y="734"/>
                    </a:lnTo>
                    <a:cubicBezTo>
                      <a:pt x="102" y="736"/>
                      <a:pt x="97" y="734"/>
                      <a:pt x="96" y="729"/>
                    </a:cubicBezTo>
                    <a:cubicBezTo>
                      <a:pt x="95" y="725"/>
                      <a:pt x="97" y="721"/>
                      <a:pt x="101" y="719"/>
                    </a:cubicBezTo>
                    <a:lnTo>
                      <a:pt x="147" y="704"/>
                    </a:lnTo>
                    <a:cubicBezTo>
                      <a:pt x="151" y="703"/>
                      <a:pt x="155" y="705"/>
                      <a:pt x="157" y="709"/>
                    </a:cubicBezTo>
                    <a:cubicBezTo>
                      <a:pt x="158" y="713"/>
                      <a:pt x="156" y="718"/>
                      <a:pt x="152" y="719"/>
                    </a:cubicBezTo>
                    <a:close/>
                    <a:moveTo>
                      <a:pt x="57" y="742"/>
                    </a:moveTo>
                    <a:lnTo>
                      <a:pt x="9" y="747"/>
                    </a:lnTo>
                    <a:cubicBezTo>
                      <a:pt x="5" y="747"/>
                      <a:pt x="1" y="744"/>
                      <a:pt x="1" y="740"/>
                    </a:cubicBezTo>
                    <a:cubicBezTo>
                      <a:pt x="0" y="735"/>
                      <a:pt x="3" y="731"/>
                      <a:pt x="8" y="731"/>
                    </a:cubicBezTo>
                    <a:lnTo>
                      <a:pt x="55" y="726"/>
                    </a:lnTo>
                    <a:cubicBezTo>
                      <a:pt x="60" y="725"/>
                      <a:pt x="64" y="728"/>
                      <a:pt x="64" y="733"/>
                    </a:cubicBezTo>
                    <a:cubicBezTo>
                      <a:pt x="65" y="737"/>
                      <a:pt x="61" y="741"/>
                      <a:pt x="57" y="742"/>
                    </a:cubicBezTo>
                    <a:close/>
                  </a:path>
                </a:pathLst>
              </a:custGeom>
              <a:solidFill>
                <a:srgbClr val="000000"/>
              </a:solidFill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17240" y="407124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6"/>
                    </a:lnTo>
                    <a:lnTo>
                      <a:pt x="35" y="3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83480" y="4516200"/>
                <a:ext cx="592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9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宋体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716920" y="4516200"/>
                <a:ext cx="58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9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宋体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96760" y="215388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96760" y="279360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ff"/>
                    </a:solidFill>
                    <a:latin typeface="宋体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96760" y="343548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820520" y="4072320"/>
                <a:ext cx="5500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宋体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512080" y="215388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512080" y="279360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12080" y="343548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00400" y="214236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ff"/>
                    </a:solidFill>
                    <a:latin typeface="宋体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0400" y="2783160"/>
                <a:ext cx="478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ff"/>
                    </a:solidFill>
                    <a:latin typeface="宋体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23080" y="3420000"/>
                <a:ext cx="5500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03040" indent="-203040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223080" y="406080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01320" y="21538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01320" y="279360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24360" y="343548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24360" y="407232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66560" y="21538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66560" y="34354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66560" y="279360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90320" y="407232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68920" y="21538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68920" y="34354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68920" y="279360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91600" y="407232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9840" y="279360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宋体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69840" y="21538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92880" y="343548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92880" y="407232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71120" y="279360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71120" y="2153880"/>
              <a:ext cx="478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93800" y="343548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3800" y="407232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5620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5620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5620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5620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5620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5620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5620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5620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0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7308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7308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7308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7308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7308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7308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7308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7308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1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88560" y="2247840"/>
              <a:ext cx="287280" cy="1104120"/>
            </a:xfrm>
            <a:custGeom>
              <a:avLst/>
              <a:gdLst/>
              <a:ahLst/>
              <a:rect l="l" t="t" r="r" b="b"/>
              <a:pathLst>
                <a:path w="342" h="1436">
                  <a:moveTo>
                    <a:pt x="327" y="1432"/>
                  </a:moveTo>
                  <a:lnTo>
                    <a:pt x="297" y="1395"/>
                  </a:lnTo>
                  <a:cubicBezTo>
                    <a:pt x="294" y="1391"/>
                    <a:pt x="295" y="1386"/>
                    <a:pt x="299" y="1383"/>
                  </a:cubicBezTo>
                  <a:cubicBezTo>
                    <a:pt x="302" y="1381"/>
                    <a:pt x="307" y="1381"/>
                    <a:pt x="310" y="1385"/>
                  </a:cubicBezTo>
                  <a:lnTo>
                    <a:pt x="339" y="1422"/>
                  </a:lnTo>
                  <a:cubicBezTo>
                    <a:pt x="342" y="1426"/>
                    <a:pt x="342" y="1431"/>
                    <a:pt x="338" y="1434"/>
                  </a:cubicBezTo>
                  <a:cubicBezTo>
                    <a:pt x="335" y="1436"/>
                    <a:pt x="330" y="1436"/>
                    <a:pt x="327" y="1432"/>
                  </a:cubicBezTo>
                  <a:close/>
                  <a:moveTo>
                    <a:pt x="267" y="1357"/>
                  </a:moveTo>
                  <a:lnTo>
                    <a:pt x="238" y="1319"/>
                  </a:lnTo>
                  <a:cubicBezTo>
                    <a:pt x="235" y="1316"/>
                    <a:pt x="236" y="1311"/>
                    <a:pt x="239" y="1308"/>
                  </a:cubicBezTo>
                  <a:cubicBezTo>
                    <a:pt x="243" y="1305"/>
                    <a:pt x="248" y="1306"/>
                    <a:pt x="250" y="1309"/>
                  </a:cubicBezTo>
                  <a:lnTo>
                    <a:pt x="280" y="1347"/>
                  </a:lnTo>
                  <a:cubicBezTo>
                    <a:pt x="283" y="1350"/>
                    <a:pt x="282" y="1355"/>
                    <a:pt x="279" y="1358"/>
                  </a:cubicBezTo>
                  <a:cubicBezTo>
                    <a:pt x="275" y="1361"/>
                    <a:pt x="270" y="1360"/>
                    <a:pt x="267" y="1357"/>
                  </a:cubicBezTo>
                  <a:close/>
                  <a:moveTo>
                    <a:pt x="208" y="1281"/>
                  </a:moveTo>
                  <a:lnTo>
                    <a:pt x="188" y="1256"/>
                  </a:lnTo>
                  <a:cubicBezTo>
                    <a:pt x="188" y="1256"/>
                    <a:pt x="188" y="1255"/>
                    <a:pt x="187" y="1255"/>
                  </a:cubicBezTo>
                  <a:lnTo>
                    <a:pt x="180" y="1241"/>
                  </a:lnTo>
                  <a:cubicBezTo>
                    <a:pt x="178" y="1238"/>
                    <a:pt x="179" y="1233"/>
                    <a:pt x="183" y="1231"/>
                  </a:cubicBezTo>
                  <a:cubicBezTo>
                    <a:pt x="187" y="1228"/>
                    <a:pt x="191" y="1230"/>
                    <a:pt x="194" y="1234"/>
                  </a:cubicBezTo>
                  <a:lnTo>
                    <a:pt x="201" y="1247"/>
                  </a:lnTo>
                  <a:lnTo>
                    <a:pt x="201" y="1246"/>
                  </a:lnTo>
                  <a:lnTo>
                    <a:pt x="221" y="1272"/>
                  </a:lnTo>
                  <a:cubicBezTo>
                    <a:pt x="223" y="1275"/>
                    <a:pt x="223" y="1280"/>
                    <a:pt x="219" y="1283"/>
                  </a:cubicBezTo>
                  <a:cubicBezTo>
                    <a:pt x="216" y="1285"/>
                    <a:pt x="211" y="1285"/>
                    <a:pt x="208" y="1281"/>
                  </a:cubicBezTo>
                  <a:close/>
                  <a:moveTo>
                    <a:pt x="156" y="1200"/>
                  </a:moveTo>
                  <a:lnTo>
                    <a:pt x="132" y="1158"/>
                  </a:lnTo>
                  <a:cubicBezTo>
                    <a:pt x="130" y="1154"/>
                    <a:pt x="131" y="1149"/>
                    <a:pt x="135" y="1147"/>
                  </a:cubicBezTo>
                  <a:cubicBezTo>
                    <a:pt x="139" y="1145"/>
                    <a:pt x="144" y="1146"/>
                    <a:pt x="146" y="1150"/>
                  </a:cubicBezTo>
                  <a:lnTo>
                    <a:pt x="170" y="1192"/>
                  </a:lnTo>
                  <a:cubicBezTo>
                    <a:pt x="172" y="1196"/>
                    <a:pt x="171" y="1200"/>
                    <a:pt x="167" y="1203"/>
                  </a:cubicBezTo>
                  <a:cubicBezTo>
                    <a:pt x="163" y="1205"/>
                    <a:pt x="158" y="1204"/>
                    <a:pt x="156" y="1200"/>
                  </a:cubicBezTo>
                  <a:close/>
                  <a:moveTo>
                    <a:pt x="109" y="1116"/>
                  </a:moveTo>
                  <a:lnTo>
                    <a:pt x="87" y="1078"/>
                  </a:lnTo>
                  <a:cubicBezTo>
                    <a:pt x="87" y="1078"/>
                    <a:pt x="86" y="1077"/>
                    <a:pt x="86" y="1077"/>
                  </a:cubicBezTo>
                  <a:lnTo>
                    <a:pt x="85" y="1073"/>
                  </a:lnTo>
                  <a:cubicBezTo>
                    <a:pt x="83" y="1069"/>
                    <a:pt x="86" y="1064"/>
                    <a:pt x="90" y="1063"/>
                  </a:cubicBezTo>
                  <a:cubicBezTo>
                    <a:pt x="94" y="1061"/>
                    <a:pt x="99" y="1063"/>
                    <a:pt x="100" y="1068"/>
                  </a:cubicBezTo>
                  <a:lnTo>
                    <a:pt x="101" y="1072"/>
                  </a:lnTo>
                  <a:lnTo>
                    <a:pt x="101" y="1070"/>
                  </a:lnTo>
                  <a:lnTo>
                    <a:pt x="122" y="1108"/>
                  </a:lnTo>
                  <a:cubicBezTo>
                    <a:pt x="125" y="1112"/>
                    <a:pt x="123" y="1117"/>
                    <a:pt x="119" y="1119"/>
                  </a:cubicBezTo>
                  <a:cubicBezTo>
                    <a:pt x="116" y="1121"/>
                    <a:pt x="111" y="1120"/>
                    <a:pt x="109" y="1116"/>
                  </a:cubicBezTo>
                  <a:close/>
                  <a:moveTo>
                    <a:pt x="69" y="1028"/>
                  </a:moveTo>
                  <a:lnTo>
                    <a:pt x="53" y="982"/>
                  </a:lnTo>
                  <a:cubicBezTo>
                    <a:pt x="52" y="978"/>
                    <a:pt x="54" y="974"/>
                    <a:pt x="58" y="972"/>
                  </a:cubicBezTo>
                  <a:cubicBezTo>
                    <a:pt x="62" y="971"/>
                    <a:pt x="67" y="973"/>
                    <a:pt x="68" y="977"/>
                  </a:cubicBezTo>
                  <a:lnTo>
                    <a:pt x="84" y="1022"/>
                  </a:lnTo>
                  <a:cubicBezTo>
                    <a:pt x="86" y="1026"/>
                    <a:pt x="83" y="1031"/>
                    <a:pt x="79" y="1032"/>
                  </a:cubicBezTo>
                  <a:cubicBezTo>
                    <a:pt x="75" y="1034"/>
                    <a:pt x="70" y="1032"/>
                    <a:pt x="69" y="1028"/>
                  </a:cubicBezTo>
                  <a:close/>
                  <a:moveTo>
                    <a:pt x="37" y="937"/>
                  </a:moveTo>
                  <a:lnTo>
                    <a:pt x="24" y="900"/>
                  </a:lnTo>
                  <a:cubicBezTo>
                    <a:pt x="24" y="899"/>
                    <a:pt x="24" y="899"/>
                    <a:pt x="24" y="898"/>
                  </a:cubicBezTo>
                  <a:lnTo>
                    <a:pt x="23" y="890"/>
                  </a:lnTo>
                  <a:cubicBezTo>
                    <a:pt x="22" y="885"/>
                    <a:pt x="25" y="881"/>
                    <a:pt x="30" y="881"/>
                  </a:cubicBezTo>
                  <a:cubicBezTo>
                    <a:pt x="34" y="880"/>
                    <a:pt x="38" y="883"/>
                    <a:pt x="39" y="888"/>
                  </a:cubicBezTo>
                  <a:lnTo>
                    <a:pt x="40" y="896"/>
                  </a:lnTo>
                  <a:lnTo>
                    <a:pt x="39" y="895"/>
                  </a:lnTo>
                  <a:lnTo>
                    <a:pt x="52" y="932"/>
                  </a:lnTo>
                  <a:cubicBezTo>
                    <a:pt x="54" y="936"/>
                    <a:pt x="52" y="940"/>
                    <a:pt x="47" y="942"/>
                  </a:cubicBezTo>
                  <a:cubicBezTo>
                    <a:pt x="43" y="943"/>
                    <a:pt x="39" y="941"/>
                    <a:pt x="37" y="937"/>
                  </a:cubicBezTo>
                  <a:close/>
                  <a:moveTo>
                    <a:pt x="16" y="842"/>
                  </a:moveTo>
                  <a:lnTo>
                    <a:pt x="10" y="795"/>
                  </a:lnTo>
                  <a:cubicBezTo>
                    <a:pt x="10" y="790"/>
                    <a:pt x="13" y="786"/>
                    <a:pt x="17" y="786"/>
                  </a:cubicBezTo>
                  <a:cubicBezTo>
                    <a:pt x="21" y="785"/>
                    <a:pt x="25" y="788"/>
                    <a:pt x="26" y="792"/>
                  </a:cubicBezTo>
                  <a:lnTo>
                    <a:pt x="32" y="840"/>
                  </a:lnTo>
                  <a:cubicBezTo>
                    <a:pt x="33" y="844"/>
                    <a:pt x="30" y="848"/>
                    <a:pt x="25" y="849"/>
                  </a:cubicBezTo>
                  <a:cubicBezTo>
                    <a:pt x="21" y="850"/>
                    <a:pt x="17" y="846"/>
                    <a:pt x="16" y="842"/>
                  </a:cubicBezTo>
                  <a:close/>
                  <a:moveTo>
                    <a:pt x="4" y="747"/>
                  </a:moveTo>
                  <a:lnTo>
                    <a:pt x="0" y="721"/>
                  </a:lnTo>
                  <a:cubicBezTo>
                    <a:pt x="0" y="720"/>
                    <a:pt x="0" y="720"/>
                    <a:pt x="0" y="719"/>
                  </a:cubicBezTo>
                  <a:lnTo>
                    <a:pt x="2" y="698"/>
                  </a:lnTo>
                  <a:cubicBezTo>
                    <a:pt x="3" y="693"/>
                    <a:pt x="6" y="690"/>
                    <a:pt x="11" y="690"/>
                  </a:cubicBezTo>
                  <a:cubicBezTo>
                    <a:pt x="15" y="691"/>
                    <a:pt x="18" y="694"/>
                    <a:pt x="18" y="699"/>
                  </a:cubicBezTo>
                  <a:lnTo>
                    <a:pt x="16" y="721"/>
                  </a:lnTo>
                  <a:lnTo>
                    <a:pt x="16" y="719"/>
                  </a:lnTo>
                  <a:lnTo>
                    <a:pt x="20" y="745"/>
                  </a:lnTo>
                  <a:cubicBezTo>
                    <a:pt x="20" y="749"/>
                    <a:pt x="17" y="753"/>
                    <a:pt x="13" y="754"/>
                  </a:cubicBezTo>
                  <a:cubicBezTo>
                    <a:pt x="8" y="754"/>
                    <a:pt x="4" y="751"/>
                    <a:pt x="4" y="747"/>
                  </a:cubicBezTo>
                  <a:close/>
                  <a:moveTo>
                    <a:pt x="6" y="650"/>
                  </a:moveTo>
                  <a:lnTo>
                    <a:pt x="10" y="602"/>
                  </a:lnTo>
                  <a:cubicBezTo>
                    <a:pt x="11" y="597"/>
                    <a:pt x="14" y="594"/>
                    <a:pt x="19" y="595"/>
                  </a:cubicBezTo>
                  <a:cubicBezTo>
                    <a:pt x="23" y="595"/>
                    <a:pt x="26" y="599"/>
                    <a:pt x="26" y="603"/>
                  </a:cubicBezTo>
                  <a:lnTo>
                    <a:pt x="22" y="651"/>
                  </a:lnTo>
                  <a:cubicBezTo>
                    <a:pt x="22" y="655"/>
                    <a:pt x="18" y="659"/>
                    <a:pt x="13" y="658"/>
                  </a:cubicBezTo>
                  <a:cubicBezTo>
                    <a:pt x="9" y="658"/>
                    <a:pt x="6" y="654"/>
                    <a:pt x="6" y="650"/>
                  </a:cubicBezTo>
                  <a:close/>
                  <a:moveTo>
                    <a:pt x="14" y="554"/>
                  </a:moveTo>
                  <a:lnTo>
                    <a:pt x="15" y="542"/>
                  </a:lnTo>
                  <a:cubicBezTo>
                    <a:pt x="15" y="541"/>
                    <a:pt x="15" y="541"/>
                    <a:pt x="16" y="540"/>
                  </a:cubicBezTo>
                  <a:lnTo>
                    <a:pt x="26" y="506"/>
                  </a:lnTo>
                  <a:cubicBezTo>
                    <a:pt x="27" y="502"/>
                    <a:pt x="32" y="499"/>
                    <a:pt x="36" y="501"/>
                  </a:cubicBezTo>
                  <a:cubicBezTo>
                    <a:pt x="40" y="502"/>
                    <a:pt x="42" y="506"/>
                    <a:pt x="41" y="511"/>
                  </a:cubicBezTo>
                  <a:lnTo>
                    <a:pt x="31" y="545"/>
                  </a:lnTo>
                  <a:lnTo>
                    <a:pt x="31" y="543"/>
                  </a:lnTo>
                  <a:lnTo>
                    <a:pt x="30" y="555"/>
                  </a:lnTo>
                  <a:cubicBezTo>
                    <a:pt x="30" y="560"/>
                    <a:pt x="26" y="563"/>
                    <a:pt x="21" y="563"/>
                  </a:cubicBezTo>
                  <a:cubicBezTo>
                    <a:pt x="17" y="562"/>
                    <a:pt x="14" y="558"/>
                    <a:pt x="14" y="554"/>
                  </a:cubicBezTo>
                  <a:close/>
                  <a:moveTo>
                    <a:pt x="40" y="460"/>
                  </a:moveTo>
                  <a:lnTo>
                    <a:pt x="53" y="414"/>
                  </a:lnTo>
                  <a:cubicBezTo>
                    <a:pt x="55" y="410"/>
                    <a:pt x="59" y="407"/>
                    <a:pt x="63" y="409"/>
                  </a:cubicBezTo>
                  <a:cubicBezTo>
                    <a:pt x="68" y="410"/>
                    <a:pt x="70" y="414"/>
                    <a:pt x="69" y="419"/>
                  </a:cubicBezTo>
                  <a:lnTo>
                    <a:pt x="55" y="465"/>
                  </a:lnTo>
                  <a:cubicBezTo>
                    <a:pt x="54" y="469"/>
                    <a:pt x="49" y="471"/>
                    <a:pt x="45" y="470"/>
                  </a:cubicBezTo>
                  <a:cubicBezTo>
                    <a:pt x="41" y="469"/>
                    <a:pt x="38" y="464"/>
                    <a:pt x="40" y="460"/>
                  </a:cubicBezTo>
                  <a:close/>
                  <a:moveTo>
                    <a:pt x="67" y="368"/>
                  </a:moveTo>
                  <a:lnTo>
                    <a:pt x="69" y="363"/>
                  </a:lnTo>
                  <a:cubicBezTo>
                    <a:pt x="69" y="362"/>
                    <a:pt x="69" y="362"/>
                    <a:pt x="69" y="361"/>
                  </a:cubicBezTo>
                  <a:lnTo>
                    <a:pt x="89" y="324"/>
                  </a:lnTo>
                  <a:cubicBezTo>
                    <a:pt x="91" y="320"/>
                    <a:pt x="96" y="318"/>
                    <a:pt x="100" y="320"/>
                  </a:cubicBezTo>
                  <a:cubicBezTo>
                    <a:pt x="103" y="322"/>
                    <a:pt x="105" y="327"/>
                    <a:pt x="103" y="331"/>
                  </a:cubicBezTo>
                  <a:lnTo>
                    <a:pt x="84" y="369"/>
                  </a:lnTo>
                  <a:lnTo>
                    <a:pt x="84" y="367"/>
                  </a:lnTo>
                  <a:lnTo>
                    <a:pt x="83" y="373"/>
                  </a:lnTo>
                  <a:cubicBezTo>
                    <a:pt x="81" y="377"/>
                    <a:pt x="77" y="379"/>
                    <a:pt x="73" y="378"/>
                  </a:cubicBezTo>
                  <a:cubicBezTo>
                    <a:pt x="68" y="377"/>
                    <a:pt x="66" y="372"/>
                    <a:pt x="67" y="368"/>
                  </a:cubicBezTo>
                  <a:close/>
                  <a:moveTo>
                    <a:pt x="111" y="281"/>
                  </a:moveTo>
                  <a:lnTo>
                    <a:pt x="133" y="238"/>
                  </a:lnTo>
                  <a:cubicBezTo>
                    <a:pt x="135" y="234"/>
                    <a:pt x="140" y="233"/>
                    <a:pt x="144" y="235"/>
                  </a:cubicBezTo>
                  <a:cubicBezTo>
                    <a:pt x="147" y="237"/>
                    <a:pt x="149" y="242"/>
                    <a:pt x="147" y="246"/>
                  </a:cubicBezTo>
                  <a:lnTo>
                    <a:pt x="125" y="288"/>
                  </a:lnTo>
                  <a:cubicBezTo>
                    <a:pt x="123" y="292"/>
                    <a:pt x="118" y="294"/>
                    <a:pt x="114" y="292"/>
                  </a:cubicBezTo>
                  <a:cubicBezTo>
                    <a:pt x="110" y="290"/>
                    <a:pt x="109" y="285"/>
                    <a:pt x="111" y="281"/>
                  </a:cubicBezTo>
                  <a:close/>
                  <a:moveTo>
                    <a:pt x="155" y="196"/>
                  </a:moveTo>
                  <a:lnTo>
                    <a:pt x="161" y="183"/>
                  </a:lnTo>
                  <a:cubicBezTo>
                    <a:pt x="161" y="183"/>
                    <a:pt x="162" y="182"/>
                    <a:pt x="162" y="182"/>
                  </a:cubicBezTo>
                  <a:lnTo>
                    <a:pt x="182" y="155"/>
                  </a:lnTo>
                  <a:cubicBezTo>
                    <a:pt x="185" y="151"/>
                    <a:pt x="190" y="150"/>
                    <a:pt x="193" y="153"/>
                  </a:cubicBezTo>
                  <a:cubicBezTo>
                    <a:pt x="197" y="156"/>
                    <a:pt x="197" y="161"/>
                    <a:pt x="195" y="164"/>
                  </a:cubicBezTo>
                  <a:lnTo>
                    <a:pt x="175" y="192"/>
                  </a:lnTo>
                  <a:lnTo>
                    <a:pt x="175" y="191"/>
                  </a:lnTo>
                  <a:lnTo>
                    <a:pt x="169" y="203"/>
                  </a:lnTo>
                  <a:cubicBezTo>
                    <a:pt x="167" y="207"/>
                    <a:pt x="162" y="208"/>
                    <a:pt x="158" y="206"/>
                  </a:cubicBezTo>
                  <a:cubicBezTo>
                    <a:pt x="154" y="204"/>
                    <a:pt x="153" y="200"/>
                    <a:pt x="155" y="196"/>
                  </a:cubicBezTo>
                  <a:close/>
                  <a:moveTo>
                    <a:pt x="210" y="116"/>
                  </a:moveTo>
                  <a:lnTo>
                    <a:pt x="239" y="77"/>
                  </a:lnTo>
                  <a:cubicBezTo>
                    <a:pt x="241" y="74"/>
                    <a:pt x="246" y="73"/>
                    <a:pt x="250" y="75"/>
                  </a:cubicBezTo>
                  <a:cubicBezTo>
                    <a:pt x="253" y="78"/>
                    <a:pt x="254" y="83"/>
                    <a:pt x="251" y="87"/>
                  </a:cubicBezTo>
                  <a:lnTo>
                    <a:pt x="223" y="125"/>
                  </a:lnTo>
                  <a:cubicBezTo>
                    <a:pt x="221" y="129"/>
                    <a:pt x="216" y="130"/>
                    <a:pt x="212" y="127"/>
                  </a:cubicBezTo>
                  <a:cubicBezTo>
                    <a:pt x="208" y="124"/>
                    <a:pt x="208" y="119"/>
                    <a:pt x="210" y="116"/>
                  </a:cubicBezTo>
                  <a:close/>
                  <a:moveTo>
                    <a:pt x="267" y="38"/>
                  </a:moveTo>
                  <a:lnTo>
                    <a:pt x="292" y="4"/>
                  </a:lnTo>
                  <a:cubicBezTo>
                    <a:pt x="295" y="0"/>
                    <a:pt x="300" y="0"/>
                    <a:pt x="303" y="2"/>
                  </a:cubicBezTo>
                  <a:cubicBezTo>
                    <a:pt x="307" y="5"/>
                    <a:pt x="308" y="10"/>
                    <a:pt x="305" y="13"/>
                  </a:cubicBezTo>
                  <a:lnTo>
                    <a:pt x="280" y="48"/>
                  </a:lnTo>
                  <a:cubicBezTo>
                    <a:pt x="277" y="51"/>
                    <a:pt x="272" y="52"/>
                    <a:pt x="269" y="50"/>
                  </a:cubicBezTo>
                  <a:cubicBezTo>
                    <a:pt x="265" y="47"/>
                    <a:pt x="264" y="42"/>
                    <a:pt x="267" y="38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17160" y="2221920"/>
              <a:ext cx="51840" cy="511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0" y="17"/>
                  </a:moveTo>
                  <a:lnTo>
                    <a:pt x="37" y="0"/>
                  </a:lnTo>
                  <a:lnTo>
                    <a:pt x="27" y="4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8560" y="2903040"/>
              <a:ext cx="287280" cy="1105200"/>
            </a:xfrm>
            <a:custGeom>
              <a:avLst/>
              <a:gdLst/>
              <a:ahLst/>
              <a:rect l="l" t="t" r="r" b="b"/>
              <a:pathLst>
                <a:path w="342" h="1437">
                  <a:moveTo>
                    <a:pt x="327" y="1433"/>
                  </a:moveTo>
                  <a:lnTo>
                    <a:pt x="297" y="1395"/>
                  </a:lnTo>
                  <a:cubicBezTo>
                    <a:pt x="294" y="1392"/>
                    <a:pt x="295" y="1387"/>
                    <a:pt x="299" y="1384"/>
                  </a:cubicBezTo>
                  <a:cubicBezTo>
                    <a:pt x="302" y="1381"/>
                    <a:pt x="307" y="1382"/>
                    <a:pt x="310" y="1385"/>
                  </a:cubicBezTo>
                  <a:lnTo>
                    <a:pt x="339" y="1423"/>
                  </a:lnTo>
                  <a:cubicBezTo>
                    <a:pt x="342" y="1426"/>
                    <a:pt x="342" y="1431"/>
                    <a:pt x="338" y="1434"/>
                  </a:cubicBezTo>
                  <a:cubicBezTo>
                    <a:pt x="335" y="1437"/>
                    <a:pt x="330" y="1436"/>
                    <a:pt x="327" y="1433"/>
                  </a:cubicBezTo>
                  <a:close/>
                  <a:moveTo>
                    <a:pt x="267" y="1357"/>
                  </a:moveTo>
                  <a:lnTo>
                    <a:pt x="238" y="1320"/>
                  </a:lnTo>
                  <a:cubicBezTo>
                    <a:pt x="235" y="1316"/>
                    <a:pt x="236" y="1311"/>
                    <a:pt x="239" y="1308"/>
                  </a:cubicBezTo>
                  <a:cubicBezTo>
                    <a:pt x="243" y="1306"/>
                    <a:pt x="248" y="1306"/>
                    <a:pt x="250" y="1310"/>
                  </a:cubicBezTo>
                  <a:lnTo>
                    <a:pt x="280" y="1347"/>
                  </a:lnTo>
                  <a:cubicBezTo>
                    <a:pt x="283" y="1351"/>
                    <a:pt x="282" y="1356"/>
                    <a:pt x="279" y="1359"/>
                  </a:cubicBezTo>
                  <a:cubicBezTo>
                    <a:pt x="275" y="1361"/>
                    <a:pt x="270" y="1361"/>
                    <a:pt x="267" y="1357"/>
                  </a:cubicBezTo>
                  <a:close/>
                  <a:moveTo>
                    <a:pt x="208" y="1282"/>
                  </a:moveTo>
                  <a:lnTo>
                    <a:pt x="188" y="1256"/>
                  </a:lnTo>
                  <a:cubicBezTo>
                    <a:pt x="188" y="1256"/>
                    <a:pt x="188" y="1256"/>
                    <a:pt x="187" y="1255"/>
                  </a:cubicBezTo>
                  <a:lnTo>
                    <a:pt x="180" y="1242"/>
                  </a:lnTo>
                  <a:cubicBezTo>
                    <a:pt x="178" y="1238"/>
                    <a:pt x="179" y="1233"/>
                    <a:pt x="183" y="1231"/>
                  </a:cubicBezTo>
                  <a:cubicBezTo>
                    <a:pt x="187" y="1229"/>
                    <a:pt x="191" y="1230"/>
                    <a:pt x="194" y="1234"/>
                  </a:cubicBezTo>
                  <a:lnTo>
                    <a:pt x="201" y="1247"/>
                  </a:lnTo>
                  <a:lnTo>
                    <a:pt x="201" y="1246"/>
                  </a:lnTo>
                  <a:lnTo>
                    <a:pt x="221" y="1272"/>
                  </a:lnTo>
                  <a:cubicBezTo>
                    <a:pt x="223" y="1275"/>
                    <a:pt x="223" y="1280"/>
                    <a:pt x="219" y="1283"/>
                  </a:cubicBezTo>
                  <a:cubicBezTo>
                    <a:pt x="216" y="1286"/>
                    <a:pt x="211" y="1285"/>
                    <a:pt x="208" y="1282"/>
                  </a:cubicBezTo>
                  <a:close/>
                  <a:moveTo>
                    <a:pt x="156" y="1200"/>
                  </a:moveTo>
                  <a:lnTo>
                    <a:pt x="132" y="1158"/>
                  </a:lnTo>
                  <a:cubicBezTo>
                    <a:pt x="130" y="1155"/>
                    <a:pt x="131" y="1150"/>
                    <a:pt x="135" y="1147"/>
                  </a:cubicBezTo>
                  <a:cubicBezTo>
                    <a:pt x="139" y="1145"/>
                    <a:pt x="144" y="1147"/>
                    <a:pt x="146" y="1150"/>
                  </a:cubicBezTo>
                  <a:lnTo>
                    <a:pt x="170" y="1192"/>
                  </a:lnTo>
                  <a:cubicBezTo>
                    <a:pt x="172" y="1196"/>
                    <a:pt x="171" y="1201"/>
                    <a:pt x="167" y="1203"/>
                  </a:cubicBezTo>
                  <a:cubicBezTo>
                    <a:pt x="163" y="1205"/>
                    <a:pt x="158" y="1204"/>
                    <a:pt x="156" y="1200"/>
                  </a:cubicBezTo>
                  <a:close/>
                  <a:moveTo>
                    <a:pt x="109" y="1117"/>
                  </a:moveTo>
                  <a:lnTo>
                    <a:pt x="87" y="1079"/>
                  </a:lnTo>
                  <a:cubicBezTo>
                    <a:pt x="87" y="1078"/>
                    <a:pt x="86" y="1078"/>
                    <a:pt x="86" y="1077"/>
                  </a:cubicBezTo>
                  <a:lnTo>
                    <a:pt x="85" y="1073"/>
                  </a:lnTo>
                  <a:cubicBezTo>
                    <a:pt x="83" y="1069"/>
                    <a:pt x="86" y="1065"/>
                    <a:pt x="90" y="1063"/>
                  </a:cubicBezTo>
                  <a:cubicBezTo>
                    <a:pt x="94" y="1062"/>
                    <a:pt x="99" y="1064"/>
                    <a:pt x="100" y="1068"/>
                  </a:cubicBezTo>
                  <a:lnTo>
                    <a:pt x="101" y="1072"/>
                  </a:lnTo>
                  <a:lnTo>
                    <a:pt x="101" y="1071"/>
                  </a:lnTo>
                  <a:lnTo>
                    <a:pt x="122" y="1109"/>
                  </a:lnTo>
                  <a:cubicBezTo>
                    <a:pt x="125" y="1113"/>
                    <a:pt x="123" y="1117"/>
                    <a:pt x="119" y="1120"/>
                  </a:cubicBezTo>
                  <a:cubicBezTo>
                    <a:pt x="116" y="1122"/>
                    <a:pt x="111" y="1121"/>
                    <a:pt x="109" y="1117"/>
                  </a:cubicBezTo>
                  <a:close/>
                  <a:moveTo>
                    <a:pt x="69" y="1028"/>
                  </a:moveTo>
                  <a:lnTo>
                    <a:pt x="53" y="983"/>
                  </a:lnTo>
                  <a:cubicBezTo>
                    <a:pt x="52" y="979"/>
                    <a:pt x="54" y="974"/>
                    <a:pt x="58" y="973"/>
                  </a:cubicBezTo>
                  <a:cubicBezTo>
                    <a:pt x="62" y="971"/>
                    <a:pt x="67" y="973"/>
                    <a:pt x="68" y="977"/>
                  </a:cubicBezTo>
                  <a:lnTo>
                    <a:pt x="84" y="1023"/>
                  </a:lnTo>
                  <a:cubicBezTo>
                    <a:pt x="86" y="1027"/>
                    <a:pt x="83" y="1031"/>
                    <a:pt x="79" y="1033"/>
                  </a:cubicBezTo>
                  <a:cubicBezTo>
                    <a:pt x="75" y="1034"/>
                    <a:pt x="70" y="1032"/>
                    <a:pt x="69" y="1028"/>
                  </a:cubicBezTo>
                  <a:close/>
                  <a:moveTo>
                    <a:pt x="37" y="937"/>
                  </a:moveTo>
                  <a:lnTo>
                    <a:pt x="24" y="900"/>
                  </a:lnTo>
                  <a:cubicBezTo>
                    <a:pt x="24" y="900"/>
                    <a:pt x="24" y="899"/>
                    <a:pt x="24" y="899"/>
                  </a:cubicBezTo>
                  <a:lnTo>
                    <a:pt x="23" y="890"/>
                  </a:lnTo>
                  <a:cubicBezTo>
                    <a:pt x="22" y="886"/>
                    <a:pt x="25" y="882"/>
                    <a:pt x="30" y="881"/>
                  </a:cubicBezTo>
                  <a:cubicBezTo>
                    <a:pt x="34" y="881"/>
                    <a:pt x="38" y="884"/>
                    <a:pt x="39" y="888"/>
                  </a:cubicBezTo>
                  <a:lnTo>
                    <a:pt x="40" y="897"/>
                  </a:lnTo>
                  <a:lnTo>
                    <a:pt x="39" y="895"/>
                  </a:lnTo>
                  <a:lnTo>
                    <a:pt x="52" y="932"/>
                  </a:lnTo>
                  <a:cubicBezTo>
                    <a:pt x="54" y="936"/>
                    <a:pt x="52" y="941"/>
                    <a:pt x="47" y="942"/>
                  </a:cubicBezTo>
                  <a:cubicBezTo>
                    <a:pt x="43" y="944"/>
                    <a:pt x="39" y="942"/>
                    <a:pt x="37" y="937"/>
                  </a:cubicBezTo>
                  <a:close/>
                  <a:moveTo>
                    <a:pt x="16" y="843"/>
                  </a:moveTo>
                  <a:lnTo>
                    <a:pt x="10" y="795"/>
                  </a:lnTo>
                  <a:cubicBezTo>
                    <a:pt x="10" y="791"/>
                    <a:pt x="13" y="787"/>
                    <a:pt x="17" y="786"/>
                  </a:cubicBezTo>
                  <a:cubicBezTo>
                    <a:pt x="21" y="785"/>
                    <a:pt x="25" y="788"/>
                    <a:pt x="26" y="793"/>
                  </a:cubicBezTo>
                  <a:lnTo>
                    <a:pt x="32" y="840"/>
                  </a:lnTo>
                  <a:cubicBezTo>
                    <a:pt x="33" y="845"/>
                    <a:pt x="30" y="849"/>
                    <a:pt x="25" y="849"/>
                  </a:cubicBezTo>
                  <a:cubicBezTo>
                    <a:pt x="21" y="850"/>
                    <a:pt x="17" y="847"/>
                    <a:pt x="16" y="843"/>
                  </a:cubicBezTo>
                  <a:close/>
                  <a:moveTo>
                    <a:pt x="4" y="747"/>
                  </a:moveTo>
                  <a:lnTo>
                    <a:pt x="0" y="721"/>
                  </a:lnTo>
                  <a:cubicBezTo>
                    <a:pt x="0" y="721"/>
                    <a:pt x="0" y="720"/>
                    <a:pt x="0" y="720"/>
                  </a:cubicBezTo>
                  <a:lnTo>
                    <a:pt x="2" y="698"/>
                  </a:lnTo>
                  <a:cubicBezTo>
                    <a:pt x="3" y="694"/>
                    <a:pt x="6" y="690"/>
                    <a:pt x="11" y="691"/>
                  </a:cubicBezTo>
                  <a:cubicBezTo>
                    <a:pt x="15" y="691"/>
                    <a:pt x="18" y="695"/>
                    <a:pt x="18" y="699"/>
                  </a:cubicBezTo>
                  <a:lnTo>
                    <a:pt x="16" y="721"/>
                  </a:lnTo>
                  <a:lnTo>
                    <a:pt x="16" y="719"/>
                  </a:lnTo>
                  <a:lnTo>
                    <a:pt x="20" y="745"/>
                  </a:lnTo>
                  <a:cubicBezTo>
                    <a:pt x="20" y="750"/>
                    <a:pt x="17" y="754"/>
                    <a:pt x="13" y="754"/>
                  </a:cubicBezTo>
                  <a:cubicBezTo>
                    <a:pt x="8" y="755"/>
                    <a:pt x="4" y="752"/>
                    <a:pt x="4" y="747"/>
                  </a:cubicBezTo>
                  <a:close/>
                  <a:moveTo>
                    <a:pt x="6" y="650"/>
                  </a:moveTo>
                  <a:lnTo>
                    <a:pt x="10" y="602"/>
                  </a:lnTo>
                  <a:cubicBezTo>
                    <a:pt x="11" y="598"/>
                    <a:pt x="14" y="595"/>
                    <a:pt x="19" y="595"/>
                  </a:cubicBezTo>
                  <a:cubicBezTo>
                    <a:pt x="23" y="595"/>
                    <a:pt x="26" y="599"/>
                    <a:pt x="26" y="604"/>
                  </a:cubicBezTo>
                  <a:lnTo>
                    <a:pt x="22" y="651"/>
                  </a:lnTo>
                  <a:cubicBezTo>
                    <a:pt x="22" y="656"/>
                    <a:pt x="18" y="659"/>
                    <a:pt x="13" y="659"/>
                  </a:cubicBezTo>
                  <a:cubicBezTo>
                    <a:pt x="9" y="658"/>
                    <a:pt x="6" y="655"/>
                    <a:pt x="6" y="650"/>
                  </a:cubicBezTo>
                  <a:close/>
                  <a:moveTo>
                    <a:pt x="14" y="554"/>
                  </a:moveTo>
                  <a:lnTo>
                    <a:pt x="15" y="542"/>
                  </a:lnTo>
                  <a:cubicBezTo>
                    <a:pt x="15" y="542"/>
                    <a:pt x="15" y="541"/>
                    <a:pt x="16" y="541"/>
                  </a:cubicBezTo>
                  <a:lnTo>
                    <a:pt x="26" y="506"/>
                  </a:lnTo>
                  <a:cubicBezTo>
                    <a:pt x="27" y="502"/>
                    <a:pt x="32" y="500"/>
                    <a:pt x="36" y="501"/>
                  </a:cubicBezTo>
                  <a:cubicBezTo>
                    <a:pt x="40" y="502"/>
                    <a:pt x="42" y="507"/>
                    <a:pt x="41" y="511"/>
                  </a:cubicBezTo>
                  <a:lnTo>
                    <a:pt x="31" y="545"/>
                  </a:lnTo>
                  <a:lnTo>
                    <a:pt x="31" y="544"/>
                  </a:lnTo>
                  <a:lnTo>
                    <a:pt x="30" y="556"/>
                  </a:lnTo>
                  <a:cubicBezTo>
                    <a:pt x="30" y="560"/>
                    <a:pt x="26" y="563"/>
                    <a:pt x="21" y="563"/>
                  </a:cubicBezTo>
                  <a:cubicBezTo>
                    <a:pt x="17" y="563"/>
                    <a:pt x="14" y="559"/>
                    <a:pt x="14" y="554"/>
                  </a:cubicBezTo>
                  <a:close/>
                  <a:moveTo>
                    <a:pt x="40" y="460"/>
                  </a:moveTo>
                  <a:lnTo>
                    <a:pt x="53" y="414"/>
                  </a:lnTo>
                  <a:cubicBezTo>
                    <a:pt x="55" y="410"/>
                    <a:pt x="59" y="408"/>
                    <a:pt x="63" y="409"/>
                  </a:cubicBezTo>
                  <a:cubicBezTo>
                    <a:pt x="68" y="410"/>
                    <a:pt x="70" y="415"/>
                    <a:pt x="69" y="419"/>
                  </a:cubicBezTo>
                  <a:lnTo>
                    <a:pt x="55" y="465"/>
                  </a:lnTo>
                  <a:cubicBezTo>
                    <a:pt x="54" y="469"/>
                    <a:pt x="49" y="472"/>
                    <a:pt x="45" y="470"/>
                  </a:cubicBezTo>
                  <a:cubicBezTo>
                    <a:pt x="41" y="469"/>
                    <a:pt x="38" y="465"/>
                    <a:pt x="40" y="460"/>
                  </a:cubicBezTo>
                  <a:close/>
                  <a:moveTo>
                    <a:pt x="67" y="368"/>
                  </a:moveTo>
                  <a:lnTo>
                    <a:pt x="69" y="363"/>
                  </a:lnTo>
                  <a:cubicBezTo>
                    <a:pt x="69" y="363"/>
                    <a:pt x="69" y="362"/>
                    <a:pt x="69" y="362"/>
                  </a:cubicBezTo>
                  <a:lnTo>
                    <a:pt x="89" y="324"/>
                  </a:lnTo>
                  <a:cubicBezTo>
                    <a:pt x="91" y="320"/>
                    <a:pt x="96" y="319"/>
                    <a:pt x="100" y="321"/>
                  </a:cubicBezTo>
                  <a:cubicBezTo>
                    <a:pt x="103" y="323"/>
                    <a:pt x="105" y="327"/>
                    <a:pt x="103" y="331"/>
                  </a:cubicBezTo>
                  <a:lnTo>
                    <a:pt x="84" y="369"/>
                  </a:lnTo>
                  <a:lnTo>
                    <a:pt x="84" y="368"/>
                  </a:lnTo>
                  <a:lnTo>
                    <a:pt x="83" y="373"/>
                  </a:lnTo>
                  <a:cubicBezTo>
                    <a:pt x="81" y="377"/>
                    <a:pt x="77" y="380"/>
                    <a:pt x="73" y="378"/>
                  </a:cubicBezTo>
                  <a:cubicBezTo>
                    <a:pt x="68" y="377"/>
                    <a:pt x="66" y="373"/>
                    <a:pt x="67" y="368"/>
                  </a:cubicBezTo>
                  <a:close/>
                  <a:moveTo>
                    <a:pt x="111" y="281"/>
                  </a:moveTo>
                  <a:lnTo>
                    <a:pt x="133" y="239"/>
                  </a:lnTo>
                  <a:cubicBezTo>
                    <a:pt x="135" y="235"/>
                    <a:pt x="140" y="233"/>
                    <a:pt x="144" y="235"/>
                  </a:cubicBezTo>
                  <a:cubicBezTo>
                    <a:pt x="147" y="237"/>
                    <a:pt x="149" y="242"/>
                    <a:pt x="147" y="246"/>
                  </a:cubicBezTo>
                  <a:lnTo>
                    <a:pt x="125" y="289"/>
                  </a:lnTo>
                  <a:cubicBezTo>
                    <a:pt x="123" y="293"/>
                    <a:pt x="118" y="294"/>
                    <a:pt x="114" y="292"/>
                  </a:cubicBezTo>
                  <a:cubicBezTo>
                    <a:pt x="110" y="290"/>
                    <a:pt x="109" y="285"/>
                    <a:pt x="111" y="281"/>
                  </a:cubicBezTo>
                  <a:close/>
                  <a:moveTo>
                    <a:pt x="155" y="196"/>
                  </a:moveTo>
                  <a:lnTo>
                    <a:pt x="161" y="184"/>
                  </a:lnTo>
                  <a:cubicBezTo>
                    <a:pt x="161" y="183"/>
                    <a:pt x="162" y="183"/>
                    <a:pt x="162" y="183"/>
                  </a:cubicBezTo>
                  <a:lnTo>
                    <a:pt x="182" y="155"/>
                  </a:lnTo>
                  <a:cubicBezTo>
                    <a:pt x="185" y="152"/>
                    <a:pt x="190" y="151"/>
                    <a:pt x="193" y="153"/>
                  </a:cubicBezTo>
                  <a:cubicBezTo>
                    <a:pt x="197" y="156"/>
                    <a:pt x="197" y="161"/>
                    <a:pt x="195" y="165"/>
                  </a:cubicBezTo>
                  <a:lnTo>
                    <a:pt x="175" y="192"/>
                  </a:lnTo>
                  <a:lnTo>
                    <a:pt x="175" y="191"/>
                  </a:lnTo>
                  <a:lnTo>
                    <a:pt x="169" y="203"/>
                  </a:lnTo>
                  <a:cubicBezTo>
                    <a:pt x="167" y="207"/>
                    <a:pt x="162" y="209"/>
                    <a:pt x="158" y="207"/>
                  </a:cubicBezTo>
                  <a:cubicBezTo>
                    <a:pt x="154" y="205"/>
                    <a:pt x="153" y="200"/>
                    <a:pt x="155" y="196"/>
                  </a:cubicBezTo>
                  <a:close/>
                  <a:moveTo>
                    <a:pt x="210" y="116"/>
                  </a:moveTo>
                  <a:lnTo>
                    <a:pt x="239" y="78"/>
                  </a:lnTo>
                  <a:cubicBezTo>
                    <a:pt x="241" y="74"/>
                    <a:pt x="246" y="73"/>
                    <a:pt x="250" y="76"/>
                  </a:cubicBezTo>
                  <a:cubicBezTo>
                    <a:pt x="253" y="78"/>
                    <a:pt x="254" y="83"/>
                    <a:pt x="251" y="87"/>
                  </a:cubicBezTo>
                  <a:lnTo>
                    <a:pt x="223" y="126"/>
                  </a:lnTo>
                  <a:cubicBezTo>
                    <a:pt x="221" y="129"/>
                    <a:pt x="216" y="130"/>
                    <a:pt x="212" y="128"/>
                  </a:cubicBezTo>
                  <a:cubicBezTo>
                    <a:pt x="208" y="125"/>
                    <a:pt x="208" y="120"/>
                    <a:pt x="210" y="116"/>
                  </a:cubicBezTo>
                  <a:close/>
                  <a:moveTo>
                    <a:pt x="267" y="39"/>
                  </a:moveTo>
                  <a:lnTo>
                    <a:pt x="292" y="4"/>
                  </a:lnTo>
                  <a:cubicBezTo>
                    <a:pt x="295" y="1"/>
                    <a:pt x="300" y="0"/>
                    <a:pt x="303" y="3"/>
                  </a:cubicBezTo>
                  <a:cubicBezTo>
                    <a:pt x="307" y="5"/>
                    <a:pt x="308" y="10"/>
                    <a:pt x="305" y="14"/>
                  </a:cubicBezTo>
                  <a:lnTo>
                    <a:pt x="280" y="48"/>
                  </a:lnTo>
                  <a:cubicBezTo>
                    <a:pt x="277" y="52"/>
                    <a:pt x="272" y="53"/>
                    <a:pt x="269" y="50"/>
                  </a:cubicBezTo>
                  <a:cubicBezTo>
                    <a:pt x="265" y="47"/>
                    <a:pt x="264" y="42"/>
                    <a:pt x="267" y="39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17160" y="2879640"/>
              <a:ext cx="51840" cy="5004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15"/>
                  </a:moveTo>
                  <a:lnTo>
                    <a:pt x="37" y="0"/>
                  </a:lnTo>
                  <a:lnTo>
                    <a:pt x="27" y="3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0748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0876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0932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ff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1204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9840" y="2057400"/>
              <a:ext cx="1194480" cy="198360"/>
            </a:xfrm>
            <a:custGeom>
              <a:avLst/>
              <a:gdLst/>
              <a:ahLst/>
              <a:rect l="l" t="t" r="r" b="b"/>
              <a:pathLst>
                <a:path w="1416" h="258">
                  <a:moveTo>
                    <a:pt x="5" y="242"/>
                  </a:moveTo>
                  <a:lnTo>
                    <a:pt x="47" y="218"/>
                  </a:lnTo>
                  <a:cubicBezTo>
                    <a:pt x="51" y="216"/>
                    <a:pt x="55" y="217"/>
                    <a:pt x="58" y="221"/>
                  </a:cubicBezTo>
                  <a:cubicBezTo>
                    <a:pt x="60" y="225"/>
                    <a:pt x="59" y="230"/>
                    <a:pt x="55" y="232"/>
                  </a:cubicBezTo>
                  <a:lnTo>
                    <a:pt x="13" y="256"/>
                  </a:lnTo>
                  <a:cubicBezTo>
                    <a:pt x="9" y="258"/>
                    <a:pt x="4" y="257"/>
                    <a:pt x="2" y="253"/>
                  </a:cubicBezTo>
                  <a:cubicBezTo>
                    <a:pt x="0" y="249"/>
                    <a:pt x="1" y="244"/>
                    <a:pt x="5" y="242"/>
                  </a:cubicBezTo>
                  <a:close/>
                  <a:moveTo>
                    <a:pt x="88" y="194"/>
                  </a:moveTo>
                  <a:lnTo>
                    <a:pt x="130" y="170"/>
                  </a:lnTo>
                  <a:cubicBezTo>
                    <a:pt x="134" y="168"/>
                    <a:pt x="139" y="169"/>
                    <a:pt x="141" y="173"/>
                  </a:cubicBezTo>
                  <a:cubicBezTo>
                    <a:pt x="143" y="177"/>
                    <a:pt x="142" y="182"/>
                    <a:pt x="138" y="184"/>
                  </a:cubicBezTo>
                  <a:lnTo>
                    <a:pt x="96" y="208"/>
                  </a:lnTo>
                  <a:cubicBezTo>
                    <a:pt x="92" y="210"/>
                    <a:pt x="88" y="209"/>
                    <a:pt x="85" y="205"/>
                  </a:cubicBezTo>
                  <a:cubicBezTo>
                    <a:pt x="83" y="201"/>
                    <a:pt x="85" y="196"/>
                    <a:pt x="88" y="194"/>
                  </a:cubicBezTo>
                  <a:close/>
                  <a:moveTo>
                    <a:pt x="172" y="146"/>
                  </a:moveTo>
                  <a:lnTo>
                    <a:pt x="207" y="126"/>
                  </a:lnTo>
                  <a:cubicBezTo>
                    <a:pt x="208" y="125"/>
                    <a:pt x="208" y="125"/>
                    <a:pt x="208" y="125"/>
                  </a:cubicBezTo>
                  <a:lnTo>
                    <a:pt x="215" y="123"/>
                  </a:lnTo>
                  <a:cubicBezTo>
                    <a:pt x="219" y="121"/>
                    <a:pt x="223" y="123"/>
                    <a:pt x="225" y="127"/>
                  </a:cubicBezTo>
                  <a:cubicBezTo>
                    <a:pt x="227" y="131"/>
                    <a:pt x="225" y="136"/>
                    <a:pt x="220" y="137"/>
                  </a:cubicBezTo>
                  <a:lnTo>
                    <a:pt x="214" y="140"/>
                  </a:lnTo>
                  <a:lnTo>
                    <a:pt x="215" y="139"/>
                  </a:lnTo>
                  <a:lnTo>
                    <a:pt x="180" y="160"/>
                  </a:lnTo>
                  <a:cubicBezTo>
                    <a:pt x="176" y="162"/>
                    <a:pt x="171" y="161"/>
                    <a:pt x="169" y="157"/>
                  </a:cubicBezTo>
                  <a:cubicBezTo>
                    <a:pt x="166" y="153"/>
                    <a:pt x="168" y="148"/>
                    <a:pt x="172" y="146"/>
                  </a:cubicBezTo>
                  <a:close/>
                  <a:moveTo>
                    <a:pt x="259" y="105"/>
                  </a:moveTo>
                  <a:lnTo>
                    <a:pt x="304" y="88"/>
                  </a:lnTo>
                  <a:cubicBezTo>
                    <a:pt x="308" y="86"/>
                    <a:pt x="313" y="88"/>
                    <a:pt x="314" y="92"/>
                  </a:cubicBezTo>
                  <a:cubicBezTo>
                    <a:pt x="316" y="96"/>
                    <a:pt x="314" y="101"/>
                    <a:pt x="310" y="102"/>
                  </a:cubicBezTo>
                  <a:lnTo>
                    <a:pt x="265" y="120"/>
                  </a:lnTo>
                  <a:cubicBezTo>
                    <a:pt x="261" y="122"/>
                    <a:pt x="256" y="120"/>
                    <a:pt x="255" y="115"/>
                  </a:cubicBezTo>
                  <a:cubicBezTo>
                    <a:pt x="253" y="111"/>
                    <a:pt x="255" y="107"/>
                    <a:pt x="259" y="105"/>
                  </a:cubicBezTo>
                  <a:close/>
                  <a:moveTo>
                    <a:pt x="349" y="70"/>
                  </a:moveTo>
                  <a:lnTo>
                    <a:pt x="393" y="53"/>
                  </a:lnTo>
                  <a:cubicBezTo>
                    <a:pt x="398" y="51"/>
                    <a:pt x="402" y="53"/>
                    <a:pt x="404" y="57"/>
                  </a:cubicBezTo>
                  <a:cubicBezTo>
                    <a:pt x="405" y="61"/>
                    <a:pt x="403" y="66"/>
                    <a:pt x="399" y="68"/>
                  </a:cubicBezTo>
                  <a:lnTo>
                    <a:pt x="355" y="85"/>
                  </a:lnTo>
                  <a:cubicBezTo>
                    <a:pt x="350" y="87"/>
                    <a:pt x="346" y="85"/>
                    <a:pt x="344" y="80"/>
                  </a:cubicBezTo>
                  <a:cubicBezTo>
                    <a:pt x="343" y="76"/>
                    <a:pt x="345" y="72"/>
                    <a:pt x="349" y="70"/>
                  </a:cubicBezTo>
                  <a:close/>
                  <a:moveTo>
                    <a:pt x="441" y="40"/>
                  </a:moveTo>
                  <a:lnTo>
                    <a:pt x="488" y="30"/>
                  </a:lnTo>
                  <a:cubicBezTo>
                    <a:pt x="492" y="29"/>
                    <a:pt x="496" y="32"/>
                    <a:pt x="497" y="36"/>
                  </a:cubicBezTo>
                  <a:cubicBezTo>
                    <a:pt x="498" y="41"/>
                    <a:pt x="495" y="45"/>
                    <a:pt x="491" y="46"/>
                  </a:cubicBezTo>
                  <a:lnTo>
                    <a:pt x="444" y="55"/>
                  </a:lnTo>
                  <a:cubicBezTo>
                    <a:pt x="440" y="56"/>
                    <a:pt x="436" y="53"/>
                    <a:pt x="435" y="49"/>
                  </a:cubicBezTo>
                  <a:cubicBezTo>
                    <a:pt x="434" y="45"/>
                    <a:pt x="437" y="41"/>
                    <a:pt x="441" y="40"/>
                  </a:cubicBezTo>
                  <a:close/>
                  <a:moveTo>
                    <a:pt x="535" y="20"/>
                  </a:moveTo>
                  <a:lnTo>
                    <a:pt x="582" y="11"/>
                  </a:lnTo>
                  <a:cubicBezTo>
                    <a:pt x="586" y="10"/>
                    <a:pt x="591" y="13"/>
                    <a:pt x="591" y="17"/>
                  </a:cubicBezTo>
                  <a:cubicBezTo>
                    <a:pt x="592" y="21"/>
                    <a:pt x="590" y="25"/>
                    <a:pt x="585" y="26"/>
                  </a:cubicBezTo>
                  <a:lnTo>
                    <a:pt x="538" y="36"/>
                  </a:lnTo>
                  <a:cubicBezTo>
                    <a:pt x="534" y="37"/>
                    <a:pt x="530" y="34"/>
                    <a:pt x="529" y="30"/>
                  </a:cubicBezTo>
                  <a:cubicBezTo>
                    <a:pt x="528" y="25"/>
                    <a:pt x="531" y="21"/>
                    <a:pt x="535" y="20"/>
                  </a:cubicBezTo>
                  <a:close/>
                  <a:moveTo>
                    <a:pt x="631" y="4"/>
                  </a:moveTo>
                  <a:lnTo>
                    <a:pt x="679" y="3"/>
                  </a:lnTo>
                  <a:cubicBezTo>
                    <a:pt x="683" y="3"/>
                    <a:pt x="687" y="6"/>
                    <a:pt x="687" y="10"/>
                  </a:cubicBezTo>
                  <a:cubicBezTo>
                    <a:pt x="687" y="15"/>
                    <a:pt x="683" y="19"/>
                    <a:pt x="679" y="19"/>
                  </a:cubicBezTo>
                  <a:lnTo>
                    <a:pt x="631" y="20"/>
                  </a:lnTo>
                  <a:cubicBezTo>
                    <a:pt x="627" y="20"/>
                    <a:pt x="623" y="16"/>
                    <a:pt x="623" y="12"/>
                  </a:cubicBezTo>
                  <a:cubicBezTo>
                    <a:pt x="623" y="7"/>
                    <a:pt x="626" y="4"/>
                    <a:pt x="631" y="4"/>
                  </a:cubicBezTo>
                  <a:close/>
                  <a:moveTo>
                    <a:pt x="727" y="2"/>
                  </a:moveTo>
                  <a:lnTo>
                    <a:pt x="775" y="1"/>
                  </a:lnTo>
                  <a:cubicBezTo>
                    <a:pt x="779" y="1"/>
                    <a:pt x="783" y="4"/>
                    <a:pt x="783" y="9"/>
                  </a:cubicBezTo>
                  <a:cubicBezTo>
                    <a:pt x="783" y="13"/>
                    <a:pt x="779" y="17"/>
                    <a:pt x="775" y="17"/>
                  </a:cubicBezTo>
                  <a:lnTo>
                    <a:pt x="727" y="18"/>
                  </a:lnTo>
                  <a:cubicBezTo>
                    <a:pt x="723" y="18"/>
                    <a:pt x="719" y="14"/>
                    <a:pt x="719" y="10"/>
                  </a:cubicBezTo>
                  <a:cubicBezTo>
                    <a:pt x="719" y="5"/>
                    <a:pt x="722" y="2"/>
                    <a:pt x="727" y="2"/>
                  </a:cubicBezTo>
                  <a:close/>
                  <a:moveTo>
                    <a:pt x="824" y="1"/>
                  </a:moveTo>
                  <a:lnTo>
                    <a:pt x="871" y="9"/>
                  </a:lnTo>
                  <a:cubicBezTo>
                    <a:pt x="876" y="9"/>
                    <a:pt x="879" y="13"/>
                    <a:pt x="878" y="18"/>
                  </a:cubicBezTo>
                  <a:cubicBezTo>
                    <a:pt x="877" y="22"/>
                    <a:pt x="873" y="25"/>
                    <a:pt x="869" y="24"/>
                  </a:cubicBezTo>
                  <a:lnTo>
                    <a:pt x="822" y="17"/>
                  </a:lnTo>
                  <a:cubicBezTo>
                    <a:pt x="817" y="16"/>
                    <a:pt x="814" y="12"/>
                    <a:pt x="815" y="7"/>
                  </a:cubicBezTo>
                  <a:cubicBezTo>
                    <a:pt x="816" y="3"/>
                    <a:pt x="820" y="0"/>
                    <a:pt x="824" y="1"/>
                  </a:cubicBezTo>
                  <a:close/>
                  <a:moveTo>
                    <a:pt x="919" y="16"/>
                  </a:moveTo>
                  <a:lnTo>
                    <a:pt x="966" y="24"/>
                  </a:lnTo>
                  <a:cubicBezTo>
                    <a:pt x="971" y="25"/>
                    <a:pt x="973" y="29"/>
                    <a:pt x="973" y="33"/>
                  </a:cubicBezTo>
                  <a:cubicBezTo>
                    <a:pt x="972" y="38"/>
                    <a:pt x="968" y="41"/>
                    <a:pt x="964" y="40"/>
                  </a:cubicBezTo>
                  <a:lnTo>
                    <a:pt x="916" y="32"/>
                  </a:lnTo>
                  <a:cubicBezTo>
                    <a:pt x="912" y="32"/>
                    <a:pt x="909" y="27"/>
                    <a:pt x="910" y="23"/>
                  </a:cubicBezTo>
                  <a:cubicBezTo>
                    <a:pt x="910" y="19"/>
                    <a:pt x="914" y="16"/>
                    <a:pt x="919" y="16"/>
                  </a:cubicBezTo>
                  <a:close/>
                  <a:moveTo>
                    <a:pt x="1014" y="32"/>
                  </a:moveTo>
                  <a:lnTo>
                    <a:pt x="1021" y="33"/>
                  </a:lnTo>
                  <a:cubicBezTo>
                    <a:pt x="1021" y="33"/>
                    <a:pt x="1022" y="33"/>
                    <a:pt x="1022" y="34"/>
                  </a:cubicBezTo>
                  <a:lnTo>
                    <a:pt x="1061" y="47"/>
                  </a:lnTo>
                  <a:cubicBezTo>
                    <a:pt x="1065" y="48"/>
                    <a:pt x="1067" y="53"/>
                    <a:pt x="1065" y="57"/>
                  </a:cubicBezTo>
                  <a:cubicBezTo>
                    <a:pt x="1064" y="61"/>
                    <a:pt x="1059" y="64"/>
                    <a:pt x="1055" y="62"/>
                  </a:cubicBezTo>
                  <a:lnTo>
                    <a:pt x="1017" y="49"/>
                  </a:lnTo>
                  <a:lnTo>
                    <a:pt x="1018" y="49"/>
                  </a:lnTo>
                  <a:lnTo>
                    <a:pt x="1011" y="48"/>
                  </a:lnTo>
                  <a:cubicBezTo>
                    <a:pt x="1007" y="47"/>
                    <a:pt x="1004" y="43"/>
                    <a:pt x="1004" y="39"/>
                  </a:cubicBezTo>
                  <a:cubicBezTo>
                    <a:pt x="1005" y="34"/>
                    <a:pt x="1009" y="31"/>
                    <a:pt x="1014" y="32"/>
                  </a:cubicBezTo>
                  <a:close/>
                  <a:moveTo>
                    <a:pt x="1106" y="63"/>
                  </a:moveTo>
                  <a:lnTo>
                    <a:pt x="1151" y="79"/>
                  </a:lnTo>
                  <a:cubicBezTo>
                    <a:pt x="1155" y="80"/>
                    <a:pt x="1157" y="85"/>
                    <a:pt x="1156" y="89"/>
                  </a:cubicBezTo>
                  <a:cubicBezTo>
                    <a:pt x="1155" y="93"/>
                    <a:pt x="1150" y="95"/>
                    <a:pt x="1146" y="94"/>
                  </a:cubicBezTo>
                  <a:lnTo>
                    <a:pt x="1101" y="78"/>
                  </a:lnTo>
                  <a:cubicBezTo>
                    <a:pt x="1096" y="77"/>
                    <a:pt x="1094" y="72"/>
                    <a:pt x="1096" y="68"/>
                  </a:cubicBezTo>
                  <a:cubicBezTo>
                    <a:pt x="1097" y="64"/>
                    <a:pt x="1102" y="61"/>
                    <a:pt x="1106" y="63"/>
                  </a:cubicBezTo>
                  <a:close/>
                  <a:moveTo>
                    <a:pt x="1196" y="95"/>
                  </a:moveTo>
                  <a:lnTo>
                    <a:pt x="1224" y="104"/>
                  </a:lnTo>
                  <a:cubicBezTo>
                    <a:pt x="1224" y="104"/>
                    <a:pt x="1225" y="105"/>
                    <a:pt x="1225" y="105"/>
                  </a:cubicBezTo>
                  <a:lnTo>
                    <a:pt x="1242" y="114"/>
                  </a:lnTo>
                  <a:cubicBezTo>
                    <a:pt x="1246" y="116"/>
                    <a:pt x="1247" y="121"/>
                    <a:pt x="1245" y="124"/>
                  </a:cubicBezTo>
                  <a:cubicBezTo>
                    <a:pt x="1243" y="128"/>
                    <a:pt x="1238" y="130"/>
                    <a:pt x="1234" y="128"/>
                  </a:cubicBezTo>
                  <a:lnTo>
                    <a:pt x="1218" y="119"/>
                  </a:lnTo>
                  <a:lnTo>
                    <a:pt x="1219" y="119"/>
                  </a:lnTo>
                  <a:lnTo>
                    <a:pt x="1191" y="110"/>
                  </a:lnTo>
                  <a:cubicBezTo>
                    <a:pt x="1187" y="108"/>
                    <a:pt x="1185" y="104"/>
                    <a:pt x="1186" y="100"/>
                  </a:cubicBezTo>
                  <a:cubicBezTo>
                    <a:pt x="1188" y="95"/>
                    <a:pt x="1192" y="93"/>
                    <a:pt x="1196" y="95"/>
                  </a:cubicBezTo>
                  <a:close/>
                  <a:moveTo>
                    <a:pt x="1284" y="136"/>
                  </a:moveTo>
                  <a:lnTo>
                    <a:pt x="1326" y="159"/>
                  </a:lnTo>
                  <a:cubicBezTo>
                    <a:pt x="1330" y="161"/>
                    <a:pt x="1332" y="166"/>
                    <a:pt x="1330" y="170"/>
                  </a:cubicBezTo>
                  <a:cubicBezTo>
                    <a:pt x="1328" y="174"/>
                    <a:pt x="1323" y="175"/>
                    <a:pt x="1319" y="173"/>
                  </a:cubicBezTo>
                  <a:lnTo>
                    <a:pt x="1276" y="150"/>
                  </a:lnTo>
                  <a:cubicBezTo>
                    <a:pt x="1273" y="148"/>
                    <a:pt x="1271" y="143"/>
                    <a:pt x="1273" y="140"/>
                  </a:cubicBezTo>
                  <a:cubicBezTo>
                    <a:pt x="1275" y="136"/>
                    <a:pt x="1280" y="134"/>
                    <a:pt x="1284" y="136"/>
                  </a:cubicBezTo>
                  <a:close/>
                  <a:moveTo>
                    <a:pt x="1369" y="182"/>
                  </a:moveTo>
                  <a:lnTo>
                    <a:pt x="1411" y="204"/>
                  </a:lnTo>
                  <a:cubicBezTo>
                    <a:pt x="1415" y="206"/>
                    <a:pt x="1416" y="211"/>
                    <a:pt x="1414" y="215"/>
                  </a:cubicBezTo>
                  <a:cubicBezTo>
                    <a:pt x="1412" y="219"/>
                    <a:pt x="1407" y="220"/>
                    <a:pt x="1403" y="218"/>
                  </a:cubicBezTo>
                  <a:lnTo>
                    <a:pt x="1361" y="196"/>
                  </a:lnTo>
                  <a:cubicBezTo>
                    <a:pt x="1357" y="194"/>
                    <a:pt x="1356" y="189"/>
                    <a:pt x="1358" y="185"/>
                  </a:cubicBezTo>
                  <a:cubicBezTo>
                    <a:pt x="1360" y="181"/>
                    <a:pt x="1365" y="179"/>
                    <a:pt x="1369" y="182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21720" y="2202840"/>
              <a:ext cx="56520" cy="4608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19" y="0"/>
                  </a:moveTo>
                  <a:lnTo>
                    <a:pt x="40" y="36"/>
                  </a:lnTo>
                  <a:lnTo>
                    <a:pt x="0" y="3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43640" y="2057400"/>
              <a:ext cx="1193400" cy="198360"/>
            </a:xfrm>
            <a:custGeom>
              <a:avLst/>
              <a:gdLst/>
              <a:ahLst/>
              <a:rect l="l" t="t" r="r" b="b"/>
              <a:pathLst>
                <a:path w="1416" h="258">
                  <a:moveTo>
                    <a:pt x="5" y="242"/>
                  </a:moveTo>
                  <a:lnTo>
                    <a:pt x="46" y="218"/>
                  </a:lnTo>
                  <a:cubicBezTo>
                    <a:pt x="50" y="216"/>
                    <a:pt x="55" y="217"/>
                    <a:pt x="57" y="221"/>
                  </a:cubicBezTo>
                  <a:cubicBezTo>
                    <a:pt x="60" y="225"/>
                    <a:pt x="58" y="230"/>
                    <a:pt x="54" y="232"/>
                  </a:cubicBezTo>
                  <a:lnTo>
                    <a:pt x="13" y="256"/>
                  </a:lnTo>
                  <a:cubicBezTo>
                    <a:pt x="9" y="258"/>
                    <a:pt x="4" y="257"/>
                    <a:pt x="2" y="253"/>
                  </a:cubicBezTo>
                  <a:cubicBezTo>
                    <a:pt x="0" y="249"/>
                    <a:pt x="1" y="244"/>
                    <a:pt x="5" y="242"/>
                  </a:cubicBezTo>
                  <a:close/>
                  <a:moveTo>
                    <a:pt x="88" y="194"/>
                  </a:moveTo>
                  <a:lnTo>
                    <a:pt x="130" y="170"/>
                  </a:lnTo>
                  <a:cubicBezTo>
                    <a:pt x="133" y="168"/>
                    <a:pt x="138" y="169"/>
                    <a:pt x="140" y="173"/>
                  </a:cubicBezTo>
                  <a:cubicBezTo>
                    <a:pt x="143" y="177"/>
                    <a:pt x="141" y="182"/>
                    <a:pt x="138" y="184"/>
                  </a:cubicBezTo>
                  <a:lnTo>
                    <a:pt x="96" y="208"/>
                  </a:lnTo>
                  <a:cubicBezTo>
                    <a:pt x="92" y="210"/>
                    <a:pt x="87" y="209"/>
                    <a:pt x="85" y="205"/>
                  </a:cubicBezTo>
                  <a:cubicBezTo>
                    <a:pt x="83" y="201"/>
                    <a:pt x="84" y="196"/>
                    <a:pt x="88" y="194"/>
                  </a:cubicBezTo>
                  <a:close/>
                  <a:moveTo>
                    <a:pt x="171" y="146"/>
                  </a:moveTo>
                  <a:lnTo>
                    <a:pt x="207" y="126"/>
                  </a:lnTo>
                  <a:cubicBezTo>
                    <a:pt x="207" y="125"/>
                    <a:pt x="208" y="125"/>
                    <a:pt x="208" y="125"/>
                  </a:cubicBezTo>
                  <a:lnTo>
                    <a:pt x="214" y="123"/>
                  </a:lnTo>
                  <a:cubicBezTo>
                    <a:pt x="218" y="121"/>
                    <a:pt x="223" y="123"/>
                    <a:pt x="225" y="127"/>
                  </a:cubicBezTo>
                  <a:cubicBezTo>
                    <a:pt x="226" y="131"/>
                    <a:pt x="224" y="136"/>
                    <a:pt x="220" y="137"/>
                  </a:cubicBezTo>
                  <a:lnTo>
                    <a:pt x="214" y="140"/>
                  </a:lnTo>
                  <a:lnTo>
                    <a:pt x="215" y="139"/>
                  </a:lnTo>
                  <a:lnTo>
                    <a:pt x="179" y="160"/>
                  </a:lnTo>
                  <a:cubicBezTo>
                    <a:pt x="175" y="162"/>
                    <a:pt x="170" y="161"/>
                    <a:pt x="168" y="157"/>
                  </a:cubicBezTo>
                  <a:cubicBezTo>
                    <a:pt x="166" y="153"/>
                    <a:pt x="167" y="148"/>
                    <a:pt x="171" y="146"/>
                  </a:cubicBezTo>
                  <a:close/>
                  <a:moveTo>
                    <a:pt x="259" y="105"/>
                  </a:moveTo>
                  <a:lnTo>
                    <a:pt x="304" y="88"/>
                  </a:lnTo>
                  <a:cubicBezTo>
                    <a:pt x="308" y="86"/>
                    <a:pt x="312" y="88"/>
                    <a:pt x="314" y="92"/>
                  </a:cubicBezTo>
                  <a:cubicBezTo>
                    <a:pt x="316" y="96"/>
                    <a:pt x="314" y="101"/>
                    <a:pt x="310" y="102"/>
                  </a:cubicBezTo>
                  <a:lnTo>
                    <a:pt x="265" y="120"/>
                  </a:lnTo>
                  <a:cubicBezTo>
                    <a:pt x="261" y="122"/>
                    <a:pt x="256" y="120"/>
                    <a:pt x="254" y="115"/>
                  </a:cubicBezTo>
                  <a:cubicBezTo>
                    <a:pt x="253" y="111"/>
                    <a:pt x="255" y="107"/>
                    <a:pt x="259" y="105"/>
                  </a:cubicBezTo>
                  <a:close/>
                  <a:moveTo>
                    <a:pt x="348" y="70"/>
                  </a:moveTo>
                  <a:lnTo>
                    <a:pt x="393" y="53"/>
                  </a:lnTo>
                  <a:cubicBezTo>
                    <a:pt x="397" y="51"/>
                    <a:pt x="402" y="53"/>
                    <a:pt x="403" y="57"/>
                  </a:cubicBezTo>
                  <a:cubicBezTo>
                    <a:pt x="405" y="61"/>
                    <a:pt x="403" y="66"/>
                    <a:pt x="399" y="68"/>
                  </a:cubicBezTo>
                  <a:lnTo>
                    <a:pt x="354" y="85"/>
                  </a:lnTo>
                  <a:cubicBezTo>
                    <a:pt x="350" y="87"/>
                    <a:pt x="345" y="85"/>
                    <a:pt x="344" y="80"/>
                  </a:cubicBezTo>
                  <a:cubicBezTo>
                    <a:pt x="342" y="76"/>
                    <a:pt x="344" y="72"/>
                    <a:pt x="348" y="70"/>
                  </a:cubicBezTo>
                  <a:close/>
                  <a:moveTo>
                    <a:pt x="441" y="40"/>
                  </a:moveTo>
                  <a:lnTo>
                    <a:pt x="488" y="30"/>
                  </a:lnTo>
                  <a:cubicBezTo>
                    <a:pt x="492" y="29"/>
                    <a:pt x="496" y="32"/>
                    <a:pt x="497" y="36"/>
                  </a:cubicBezTo>
                  <a:cubicBezTo>
                    <a:pt x="498" y="41"/>
                    <a:pt x="495" y="45"/>
                    <a:pt x="491" y="46"/>
                  </a:cubicBezTo>
                  <a:lnTo>
                    <a:pt x="444" y="55"/>
                  </a:lnTo>
                  <a:cubicBezTo>
                    <a:pt x="439" y="56"/>
                    <a:pt x="435" y="53"/>
                    <a:pt x="434" y="49"/>
                  </a:cubicBezTo>
                  <a:cubicBezTo>
                    <a:pt x="433" y="45"/>
                    <a:pt x="436" y="41"/>
                    <a:pt x="441" y="40"/>
                  </a:cubicBezTo>
                  <a:close/>
                  <a:moveTo>
                    <a:pt x="535" y="20"/>
                  </a:moveTo>
                  <a:lnTo>
                    <a:pt x="582" y="11"/>
                  </a:lnTo>
                  <a:cubicBezTo>
                    <a:pt x="586" y="10"/>
                    <a:pt x="590" y="13"/>
                    <a:pt x="591" y="17"/>
                  </a:cubicBezTo>
                  <a:cubicBezTo>
                    <a:pt x="592" y="21"/>
                    <a:pt x="589" y="25"/>
                    <a:pt x="585" y="26"/>
                  </a:cubicBezTo>
                  <a:lnTo>
                    <a:pt x="538" y="36"/>
                  </a:lnTo>
                  <a:cubicBezTo>
                    <a:pt x="533" y="37"/>
                    <a:pt x="529" y="34"/>
                    <a:pt x="528" y="30"/>
                  </a:cubicBezTo>
                  <a:cubicBezTo>
                    <a:pt x="527" y="25"/>
                    <a:pt x="530" y="21"/>
                    <a:pt x="535" y="20"/>
                  </a:cubicBezTo>
                  <a:close/>
                  <a:moveTo>
                    <a:pt x="630" y="4"/>
                  </a:moveTo>
                  <a:lnTo>
                    <a:pt x="678" y="3"/>
                  </a:lnTo>
                  <a:cubicBezTo>
                    <a:pt x="683" y="3"/>
                    <a:pt x="686" y="6"/>
                    <a:pt x="687" y="10"/>
                  </a:cubicBezTo>
                  <a:cubicBezTo>
                    <a:pt x="687" y="15"/>
                    <a:pt x="683" y="19"/>
                    <a:pt x="679" y="19"/>
                  </a:cubicBezTo>
                  <a:lnTo>
                    <a:pt x="631" y="20"/>
                  </a:lnTo>
                  <a:cubicBezTo>
                    <a:pt x="626" y="20"/>
                    <a:pt x="623" y="16"/>
                    <a:pt x="623" y="12"/>
                  </a:cubicBezTo>
                  <a:cubicBezTo>
                    <a:pt x="622" y="7"/>
                    <a:pt x="626" y="4"/>
                    <a:pt x="630" y="4"/>
                  </a:cubicBezTo>
                  <a:close/>
                  <a:moveTo>
                    <a:pt x="726" y="2"/>
                  </a:moveTo>
                  <a:lnTo>
                    <a:pt x="774" y="1"/>
                  </a:lnTo>
                  <a:cubicBezTo>
                    <a:pt x="779" y="1"/>
                    <a:pt x="782" y="4"/>
                    <a:pt x="783" y="9"/>
                  </a:cubicBezTo>
                  <a:cubicBezTo>
                    <a:pt x="783" y="13"/>
                    <a:pt x="779" y="17"/>
                    <a:pt x="775" y="17"/>
                  </a:cubicBezTo>
                  <a:lnTo>
                    <a:pt x="727" y="18"/>
                  </a:lnTo>
                  <a:cubicBezTo>
                    <a:pt x="722" y="18"/>
                    <a:pt x="719" y="14"/>
                    <a:pt x="719" y="10"/>
                  </a:cubicBezTo>
                  <a:cubicBezTo>
                    <a:pt x="718" y="5"/>
                    <a:pt x="722" y="2"/>
                    <a:pt x="726" y="2"/>
                  </a:cubicBezTo>
                  <a:close/>
                  <a:moveTo>
                    <a:pt x="824" y="1"/>
                  </a:moveTo>
                  <a:lnTo>
                    <a:pt x="871" y="9"/>
                  </a:lnTo>
                  <a:cubicBezTo>
                    <a:pt x="875" y="9"/>
                    <a:pt x="878" y="13"/>
                    <a:pt x="878" y="18"/>
                  </a:cubicBezTo>
                  <a:cubicBezTo>
                    <a:pt x="877" y="22"/>
                    <a:pt x="873" y="25"/>
                    <a:pt x="869" y="24"/>
                  </a:cubicBezTo>
                  <a:lnTo>
                    <a:pt x="821" y="17"/>
                  </a:lnTo>
                  <a:cubicBezTo>
                    <a:pt x="817" y="16"/>
                    <a:pt x="814" y="12"/>
                    <a:pt x="815" y="7"/>
                  </a:cubicBezTo>
                  <a:cubicBezTo>
                    <a:pt x="815" y="3"/>
                    <a:pt x="819" y="0"/>
                    <a:pt x="824" y="1"/>
                  </a:cubicBezTo>
                  <a:close/>
                  <a:moveTo>
                    <a:pt x="918" y="16"/>
                  </a:moveTo>
                  <a:lnTo>
                    <a:pt x="966" y="24"/>
                  </a:lnTo>
                  <a:cubicBezTo>
                    <a:pt x="970" y="25"/>
                    <a:pt x="973" y="29"/>
                    <a:pt x="972" y="33"/>
                  </a:cubicBezTo>
                  <a:cubicBezTo>
                    <a:pt x="972" y="38"/>
                    <a:pt x="968" y="41"/>
                    <a:pt x="963" y="40"/>
                  </a:cubicBezTo>
                  <a:lnTo>
                    <a:pt x="916" y="32"/>
                  </a:lnTo>
                  <a:cubicBezTo>
                    <a:pt x="912" y="32"/>
                    <a:pt x="909" y="27"/>
                    <a:pt x="909" y="23"/>
                  </a:cubicBezTo>
                  <a:cubicBezTo>
                    <a:pt x="910" y="19"/>
                    <a:pt x="914" y="16"/>
                    <a:pt x="918" y="16"/>
                  </a:cubicBezTo>
                  <a:close/>
                  <a:moveTo>
                    <a:pt x="1013" y="32"/>
                  </a:moveTo>
                  <a:lnTo>
                    <a:pt x="1020" y="33"/>
                  </a:lnTo>
                  <a:cubicBezTo>
                    <a:pt x="1021" y="33"/>
                    <a:pt x="1021" y="33"/>
                    <a:pt x="1022" y="34"/>
                  </a:cubicBezTo>
                  <a:lnTo>
                    <a:pt x="1060" y="47"/>
                  </a:lnTo>
                  <a:cubicBezTo>
                    <a:pt x="1064" y="48"/>
                    <a:pt x="1067" y="53"/>
                    <a:pt x="1065" y="57"/>
                  </a:cubicBezTo>
                  <a:cubicBezTo>
                    <a:pt x="1064" y="61"/>
                    <a:pt x="1059" y="64"/>
                    <a:pt x="1055" y="62"/>
                  </a:cubicBezTo>
                  <a:lnTo>
                    <a:pt x="1016" y="49"/>
                  </a:lnTo>
                  <a:lnTo>
                    <a:pt x="1018" y="49"/>
                  </a:lnTo>
                  <a:lnTo>
                    <a:pt x="1011" y="48"/>
                  </a:lnTo>
                  <a:cubicBezTo>
                    <a:pt x="1006" y="47"/>
                    <a:pt x="1003" y="43"/>
                    <a:pt x="1004" y="39"/>
                  </a:cubicBezTo>
                  <a:cubicBezTo>
                    <a:pt x="1005" y="34"/>
                    <a:pt x="1009" y="31"/>
                    <a:pt x="1013" y="32"/>
                  </a:cubicBezTo>
                  <a:close/>
                  <a:moveTo>
                    <a:pt x="1105" y="63"/>
                  </a:moveTo>
                  <a:lnTo>
                    <a:pt x="1151" y="79"/>
                  </a:lnTo>
                  <a:cubicBezTo>
                    <a:pt x="1155" y="80"/>
                    <a:pt x="1157" y="85"/>
                    <a:pt x="1156" y="89"/>
                  </a:cubicBezTo>
                  <a:cubicBezTo>
                    <a:pt x="1154" y="93"/>
                    <a:pt x="1150" y="95"/>
                    <a:pt x="1145" y="94"/>
                  </a:cubicBezTo>
                  <a:lnTo>
                    <a:pt x="1100" y="78"/>
                  </a:lnTo>
                  <a:cubicBezTo>
                    <a:pt x="1096" y="77"/>
                    <a:pt x="1094" y="72"/>
                    <a:pt x="1095" y="68"/>
                  </a:cubicBezTo>
                  <a:cubicBezTo>
                    <a:pt x="1097" y="64"/>
                    <a:pt x="1101" y="61"/>
                    <a:pt x="1105" y="63"/>
                  </a:cubicBezTo>
                  <a:close/>
                  <a:moveTo>
                    <a:pt x="1196" y="95"/>
                  </a:moveTo>
                  <a:lnTo>
                    <a:pt x="1224" y="104"/>
                  </a:lnTo>
                  <a:cubicBezTo>
                    <a:pt x="1224" y="104"/>
                    <a:pt x="1224" y="105"/>
                    <a:pt x="1225" y="105"/>
                  </a:cubicBezTo>
                  <a:lnTo>
                    <a:pt x="1241" y="114"/>
                  </a:lnTo>
                  <a:cubicBezTo>
                    <a:pt x="1245" y="116"/>
                    <a:pt x="1247" y="121"/>
                    <a:pt x="1245" y="124"/>
                  </a:cubicBezTo>
                  <a:cubicBezTo>
                    <a:pt x="1243" y="128"/>
                    <a:pt x="1238" y="130"/>
                    <a:pt x="1234" y="128"/>
                  </a:cubicBezTo>
                  <a:lnTo>
                    <a:pt x="1217" y="119"/>
                  </a:lnTo>
                  <a:lnTo>
                    <a:pt x="1218" y="119"/>
                  </a:lnTo>
                  <a:lnTo>
                    <a:pt x="1191" y="110"/>
                  </a:lnTo>
                  <a:cubicBezTo>
                    <a:pt x="1187" y="108"/>
                    <a:pt x="1184" y="104"/>
                    <a:pt x="1186" y="100"/>
                  </a:cubicBezTo>
                  <a:cubicBezTo>
                    <a:pt x="1187" y="95"/>
                    <a:pt x="1192" y="93"/>
                    <a:pt x="1196" y="95"/>
                  </a:cubicBezTo>
                  <a:close/>
                  <a:moveTo>
                    <a:pt x="1284" y="136"/>
                  </a:moveTo>
                  <a:lnTo>
                    <a:pt x="1326" y="159"/>
                  </a:lnTo>
                  <a:cubicBezTo>
                    <a:pt x="1330" y="161"/>
                    <a:pt x="1331" y="166"/>
                    <a:pt x="1329" y="170"/>
                  </a:cubicBezTo>
                  <a:cubicBezTo>
                    <a:pt x="1327" y="174"/>
                    <a:pt x="1322" y="175"/>
                    <a:pt x="1318" y="173"/>
                  </a:cubicBezTo>
                  <a:lnTo>
                    <a:pt x="1276" y="150"/>
                  </a:lnTo>
                  <a:cubicBezTo>
                    <a:pt x="1272" y="148"/>
                    <a:pt x="1271" y="143"/>
                    <a:pt x="1273" y="140"/>
                  </a:cubicBezTo>
                  <a:cubicBezTo>
                    <a:pt x="1275" y="136"/>
                    <a:pt x="1280" y="134"/>
                    <a:pt x="1284" y="136"/>
                  </a:cubicBezTo>
                  <a:close/>
                  <a:moveTo>
                    <a:pt x="1368" y="182"/>
                  </a:moveTo>
                  <a:lnTo>
                    <a:pt x="1411" y="204"/>
                  </a:lnTo>
                  <a:cubicBezTo>
                    <a:pt x="1415" y="206"/>
                    <a:pt x="1416" y="211"/>
                    <a:pt x="1414" y="215"/>
                  </a:cubicBezTo>
                  <a:cubicBezTo>
                    <a:pt x="1412" y="219"/>
                    <a:pt x="1407" y="220"/>
                    <a:pt x="1403" y="218"/>
                  </a:cubicBezTo>
                  <a:lnTo>
                    <a:pt x="1361" y="196"/>
                  </a:lnTo>
                  <a:cubicBezTo>
                    <a:pt x="1357" y="194"/>
                    <a:pt x="1355" y="189"/>
                    <a:pt x="1357" y="185"/>
                  </a:cubicBezTo>
                  <a:cubicBezTo>
                    <a:pt x="1360" y="181"/>
                    <a:pt x="1364" y="179"/>
                    <a:pt x="1368" y="182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24080" y="2202840"/>
              <a:ext cx="56520" cy="4608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19" y="0"/>
                  </a:moveTo>
                  <a:lnTo>
                    <a:pt x="40" y="36"/>
                  </a:lnTo>
                  <a:lnTo>
                    <a:pt x="0" y="3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7728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784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8056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81480" y="2067840"/>
              <a:ext cx="5425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宋体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7044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7044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7044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7044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7044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7044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7044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7044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2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6068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6068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6068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6068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6068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6068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93720" y="4087800"/>
              <a:ext cx="550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6068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6068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3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94160" y="2272320"/>
              <a:ext cx="284400" cy="1105200"/>
            </a:xfrm>
            <a:custGeom>
              <a:avLst/>
              <a:gdLst/>
              <a:ahLst/>
              <a:rect l="l" t="t" r="r" b="b"/>
              <a:pathLst>
                <a:path w="338" h="1437">
                  <a:moveTo>
                    <a:pt x="323" y="1433"/>
                  </a:moveTo>
                  <a:lnTo>
                    <a:pt x="293" y="1395"/>
                  </a:lnTo>
                  <a:cubicBezTo>
                    <a:pt x="290" y="1392"/>
                    <a:pt x="291" y="1387"/>
                    <a:pt x="294" y="1384"/>
                  </a:cubicBezTo>
                  <a:cubicBezTo>
                    <a:pt x="298" y="1381"/>
                    <a:pt x="303" y="1382"/>
                    <a:pt x="305" y="1385"/>
                  </a:cubicBezTo>
                  <a:lnTo>
                    <a:pt x="335" y="1423"/>
                  </a:lnTo>
                  <a:cubicBezTo>
                    <a:pt x="338" y="1426"/>
                    <a:pt x="337" y="1431"/>
                    <a:pt x="334" y="1434"/>
                  </a:cubicBezTo>
                  <a:cubicBezTo>
                    <a:pt x="330" y="1437"/>
                    <a:pt x="325" y="1436"/>
                    <a:pt x="323" y="1433"/>
                  </a:cubicBezTo>
                  <a:close/>
                  <a:moveTo>
                    <a:pt x="263" y="1357"/>
                  </a:moveTo>
                  <a:lnTo>
                    <a:pt x="233" y="1320"/>
                  </a:lnTo>
                  <a:cubicBezTo>
                    <a:pt x="230" y="1316"/>
                    <a:pt x="231" y="1311"/>
                    <a:pt x="235" y="1308"/>
                  </a:cubicBezTo>
                  <a:cubicBezTo>
                    <a:pt x="238" y="1306"/>
                    <a:pt x="243" y="1306"/>
                    <a:pt x="246" y="1310"/>
                  </a:cubicBezTo>
                  <a:lnTo>
                    <a:pt x="276" y="1347"/>
                  </a:lnTo>
                  <a:cubicBezTo>
                    <a:pt x="278" y="1351"/>
                    <a:pt x="278" y="1356"/>
                    <a:pt x="274" y="1359"/>
                  </a:cubicBezTo>
                  <a:cubicBezTo>
                    <a:pt x="271" y="1361"/>
                    <a:pt x="266" y="1361"/>
                    <a:pt x="263" y="1357"/>
                  </a:cubicBezTo>
                  <a:close/>
                  <a:moveTo>
                    <a:pt x="203" y="1282"/>
                  </a:moveTo>
                  <a:lnTo>
                    <a:pt x="185" y="1259"/>
                  </a:lnTo>
                  <a:cubicBezTo>
                    <a:pt x="185" y="1259"/>
                    <a:pt x="185" y="1259"/>
                    <a:pt x="185" y="1258"/>
                  </a:cubicBezTo>
                  <a:lnTo>
                    <a:pt x="175" y="1242"/>
                  </a:lnTo>
                  <a:cubicBezTo>
                    <a:pt x="173" y="1238"/>
                    <a:pt x="175" y="1233"/>
                    <a:pt x="178" y="1231"/>
                  </a:cubicBezTo>
                  <a:cubicBezTo>
                    <a:pt x="182" y="1229"/>
                    <a:pt x="187" y="1230"/>
                    <a:pt x="189" y="1234"/>
                  </a:cubicBezTo>
                  <a:lnTo>
                    <a:pt x="199" y="1250"/>
                  </a:lnTo>
                  <a:lnTo>
                    <a:pt x="198" y="1249"/>
                  </a:lnTo>
                  <a:lnTo>
                    <a:pt x="216" y="1272"/>
                  </a:lnTo>
                  <a:cubicBezTo>
                    <a:pt x="219" y="1276"/>
                    <a:pt x="218" y="1281"/>
                    <a:pt x="215" y="1283"/>
                  </a:cubicBezTo>
                  <a:cubicBezTo>
                    <a:pt x="211" y="1286"/>
                    <a:pt x="206" y="1286"/>
                    <a:pt x="203" y="1282"/>
                  </a:cubicBezTo>
                  <a:close/>
                  <a:moveTo>
                    <a:pt x="152" y="1200"/>
                  </a:moveTo>
                  <a:lnTo>
                    <a:pt x="128" y="1158"/>
                  </a:lnTo>
                  <a:cubicBezTo>
                    <a:pt x="126" y="1154"/>
                    <a:pt x="127" y="1150"/>
                    <a:pt x="131" y="1147"/>
                  </a:cubicBezTo>
                  <a:cubicBezTo>
                    <a:pt x="135" y="1145"/>
                    <a:pt x="140" y="1147"/>
                    <a:pt x="142" y="1150"/>
                  </a:cubicBezTo>
                  <a:lnTo>
                    <a:pt x="166" y="1192"/>
                  </a:lnTo>
                  <a:cubicBezTo>
                    <a:pt x="168" y="1196"/>
                    <a:pt x="166" y="1201"/>
                    <a:pt x="163" y="1203"/>
                  </a:cubicBezTo>
                  <a:cubicBezTo>
                    <a:pt x="159" y="1205"/>
                    <a:pt x="154" y="1204"/>
                    <a:pt x="152" y="1200"/>
                  </a:cubicBezTo>
                  <a:close/>
                  <a:moveTo>
                    <a:pt x="104" y="1117"/>
                  </a:moveTo>
                  <a:lnTo>
                    <a:pt x="86" y="1084"/>
                  </a:lnTo>
                  <a:cubicBezTo>
                    <a:pt x="85" y="1083"/>
                    <a:pt x="85" y="1083"/>
                    <a:pt x="85" y="1082"/>
                  </a:cubicBezTo>
                  <a:lnTo>
                    <a:pt x="82" y="1073"/>
                  </a:lnTo>
                  <a:cubicBezTo>
                    <a:pt x="80" y="1069"/>
                    <a:pt x="82" y="1064"/>
                    <a:pt x="87" y="1063"/>
                  </a:cubicBezTo>
                  <a:cubicBezTo>
                    <a:pt x="91" y="1061"/>
                    <a:pt x="95" y="1063"/>
                    <a:pt x="97" y="1068"/>
                  </a:cubicBezTo>
                  <a:lnTo>
                    <a:pt x="100" y="1077"/>
                  </a:lnTo>
                  <a:lnTo>
                    <a:pt x="99" y="1076"/>
                  </a:lnTo>
                  <a:lnTo>
                    <a:pt x="118" y="1109"/>
                  </a:lnTo>
                  <a:cubicBezTo>
                    <a:pt x="120" y="1113"/>
                    <a:pt x="119" y="1117"/>
                    <a:pt x="115" y="1120"/>
                  </a:cubicBezTo>
                  <a:cubicBezTo>
                    <a:pt x="111" y="1122"/>
                    <a:pt x="106" y="1120"/>
                    <a:pt x="104" y="1117"/>
                  </a:cubicBezTo>
                  <a:close/>
                  <a:moveTo>
                    <a:pt x="66" y="1027"/>
                  </a:moveTo>
                  <a:lnTo>
                    <a:pt x="50" y="982"/>
                  </a:lnTo>
                  <a:cubicBezTo>
                    <a:pt x="49" y="978"/>
                    <a:pt x="51" y="973"/>
                    <a:pt x="55" y="972"/>
                  </a:cubicBezTo>
                  <a:cubicBezTo>
                    <a:pt x="59" y="970"/>
                    <a:pt x="64" y="973"/>
                    <a:pt x="65" y="977"/>
                  </a:cubicBezTo>
                  <a:lnTo>
                    <a:pt x="81" y="1022"/>
                  </a:lnTo>
                  <a:cubicBezTo>
                    <a:pt x="82" y="1026"/>
                    <a:pt x="80" y="1031"/>
                    <a:pt x="76" y="1032"/>
                  </a:cubicBezTo>
                  <a:cubicBezTo>
                    <a:pt x="72" y="1034"/>
                    <a:pt x="67" y="1032"/>
                    <a:pt x="66" y="1027"/>
                  </a:cubicBezTo>
                  <a:close/>
                  <a:moveTo>
                    <a:pt x="34" y="937"/>
                  </a:moveTo>
                  <a:lnTo>
                    <a:pt x="24" y="907"/>
                  </a:lnTo>
                  <a:cubicBezTo>
                    <a:pt x="24" y="906"/>
                    <a:pt x="23" y="906"/>
                    <a:pt x="23" y="905"/>
                  </a:cubicBezTo>
                  <a:lnTo>
                    <a:pt x="21" y="889"/>
                  </a:lnTo>
                  <a:cubicBezTo>
                    <a:pt x="21" y="885"/>
                    <a:pt x="24" y="881"/>
                    <a:pt x="28" y="880"/>
                  </a:cubicBezTo>
                  <a:cubicBezTo>
                    <a:pt x="33" y="880"/>
                    <a:pt x="37" y="883"/>
                    <a:pt x="37" y="887"/>
                  </a:cubicBezTo>
                  <a:lnTo>
                    <a:pt x="39" y="903"/>
                  </a:lnTo>
                  <a:lnTo>
                    <a:pt x="39" y="902"/>
                  </a:lnTo>
                  <a:lnTo>
                    <a:pt x="49" y="932"/>
                  </a:lnTo>
                  <a:cubicBezTo>
                    <a:pt x="51" y="936"/>
                    <a:pt x="49" y="940"/>
                    <a:pt x="44" y="942"/>
                  </a:cubicBezTo>
                  <a:cubicBezTo>
                    <a:pt x="40" y="943"/>
                    <a:pt x="36" y="941"/>
                    <a:pt x="34" y="937"/>
                  </a:cubicBezTo>
                  <a:close/>
                  <a:moveTo>
                    <a:pt x="15" y="842"/>
                  </a:moveTo>
                  <a:lnTo>
                    <a:pt x="9" y="794"/>
                  </a:lnTo>
                  <a:cubicBezTo>
                    <a:pt x="8" y="790"/>
                    <a:pt x="11" y="786"/>
                    <a:pt x="16" y="785"/>
                  </a:cubicBezTo>
                  <a:cubicBezTo>
                    <a:pt x="20" y="784"/>
                    <a:pt x="24" y="787"/>
                    <a:pt x="25" y="792"/>
                  </a:cubicBezTo>
                  <a:lnTo>
                    <a:pt x="31" y="839"/>
                  </a:lnTo>
                  <a:cubicBezTo>
                    <a:pt x="31" y="844"/>
                    <a:pt x="28" y="848"/>
                    <a:pt x="24" y="848"/>
                  </a:cubicBezTo>
                  <a:cubicBezTo>
                    <a:pt x="20" y="849"/>
                    <a:pt x="16" y="846"/>
                    <a:pt x="15" y="842"/>
                  </a:cubicBezTo>
                  <a:close/>
                  <a:moveTo>
                    <a:pt x="2" y="746"/>
                  </a:moveTo>
                  <a:lnTo>
                    <a:pt x="0" y="729"/>
                  </a:lnTo>
                  <a:cubicBezTo>
                    <a:pt x="0" y="728"/>
                    <a:pt x="0" y="727"/>
                    <a:pt x="0" y="727"/>
                  </a:cubicBezTo>
                  <a:lnTo>
                    <a:pt x="3" y="697"/>
                  </a:lnTo>
                  <a:cubicBezTo>
                    <a:pt x="3" y="692"/>
                    <a:pt x="7" y="689"/>
                    <a:pt x="11" y="690"/>
                  </a:cubicBezTo>
                  <a:cubicBezTo>
                    <a:pt x="16" y="690"/>
                    <a:pt x="19" y="694"/>
                    <a:pt x="19" y="698"/>
                  </a:cubicBezTo>
                  <a:lnTo>
                    <a:pt x="16" y="728"/>
                  </a:lnTo>
                  <a:lnTo>
                    <a:pt x="16" y="726"/>
                  </a:lnTo>
                  <a:lnTo>
                    <a:pt x="18" y="744"/>
                  </a:lnTo>
                  <a:cubicBezTo>
                    <a:pt x="19" y="749"/>
                    <a:pt x="16" y="753"/>
                    <a:pt x="11" y="753"/>
                  </a:cubicBezTo>
                  <a:cubicBezTo>
                    <a:pt x="7" y="754"/>
                    <a:pt x="3" y="751"/>
                    <a:pt x="2" y="746"/>
                  </a:cubicBezTo>
                  <a:close/>
                  <a:moveTo>
                    <a:pt x="7" y="649"/>
                  </a:moveTo>
                  <a:lnTo>
                    <a:pt x="11" y="601"/>
                  </a:lnTo>
                  <a:cubicBezTo>
                    <a:pt x="11" y="597"/>
                    <a:pt x="15" y="594"/>
                    <a:pt x="19" y="594"/>
                  </a:cubicBezTo>
                  <a:cubicBezTo>
                    <a:pt x="24" y="594"/>
                    <a:pt x="27" y="598"/>
                    <a:pt x="26" y="603"/>
                  </a:cubicBezTo>
                  <a:lnTo>
                    <a:pt x="22" y="650"/>
                  </a:lnTo>
                  <a:cubicBezTo>
                    <a:pt x="22" y="655"/>
                    <a:pt x="18" y="658"/>
                    <a:pt x="14" y="658"/>
                  </a:cubicBezTo>
                  <a:cubicBezTo>
                    <a:pt x="9" y="657"/>
                    <a:pt x="6" y="653"/>
                    <a:pt x="7" y="649"/>
                  </a:cubicBezTo>
                  <a:close/>
                  <a:moveTo>
                    <a:pt x="14" y="553"/>
                  </a:moveTo>
                  <a:lnTo>
                    <a:pt x="15" y="549"/>
                  </a:lnTo>
                  <a:cubicBezTo>
                    <a:pt x="15" y="548"/>
                    <a:pt x="15" y="548"/>
                    <a:pt x="15" y="547"/>
                  </a:cubicBezTo>
                  <a:lnTo>
                    <a:pt x="27" y="506"/>
                  </a:lnTo>
                  <a:cubicBezTo>
                    <a:pt x="29" y="501"/>
                    <a:pt x="33" y="499"/>
                    <a:pt x="37" y="500"/>
                  </a:cubicBezTo>
                  <a:cubicBezTo>
                    <a:pt x="42" y="501"/>
                    <a:pt x="44" y="506"/>
                    <a:pt x="43" y="510"/>
                  </a:cubicBezTo>
                  <a:lnTo>
                    <a:pt x="30" y="552"/>
                  </a:lnTo>
                  <a:lnTo>
                    <a:pt x="31" y="550"/>
                  </a:lnTo>
                  <a:lnTo>
                    <a:pt x="30" y="555"/>
                  </a:lnTo>
                  <a:cubicBezTo>
                    <a:pt x="30" y="559"/>
                    <a:pt x="26" y="562"/>
                    <a:pt x="22" y="562"/>
                  </a:cubicBezTo>
                  <a:cubicBezTo>
                    <a:pt x="17" y="562"/>
                    <a:pt x="14" y="558"/>
                    <a:pt x="14" y="553"/>
                  </a:cubicBezTo>
                  <a:close/>
                  <a:moveTo>
                    <a:pt x="41" y="460"/>
                  </a:moveTo>
                  <a:lnTo>
                    <a:pt x="55" y="413"/>
                  </a:lnTo>
                  <a:cubicBezTo>
                    <a:pt x="56" y="409"/>
                    <a:pt x="60" y="407"/>
                    <a:pt x="65" y="408"/>
                  </a:cubicBezTo>
                  <a:cubicBezTo>
                    <a:pt x="69" y="409"/>
                    <a:pt x="71" y="414"/>
                    <a:pt x="70" y="418"/>
                  </a:cubicBezTo>
                  <a:lnTo>
                    <a:pt x="56" y="464"/>
                  </a:lnTo>
                  <a:cubicBezTo>
                    <a:pt x="55" y="468"/>
                    <a:pt x="51" y="471"/>
                    <a:pt x="46" y="469"/>
                  </a:cubicBezTo>
                  <a:cubicBezTo>
                    <a:pt x="42" y="468"/>
                    <a:pt x="40" y="464"/>
                    <a:pt x="41" y="460"/>
                  </a:cubicBezTo>
                  <a:close/>
                  <a:moveTo>
                    <a:pt x="69" y="366"/>
                  </a:moveTo>
                  <a:lnTo>
                    <a:pt x="90" y="323"/>
                  </a:lnTo>
                  <a:cubicBezTo>
                    <a:pt x="92" y="319"/>
                    <a:pt x="97" y="318"/>
                    <a:pt x="101" y="320"/>
                  </a:cubicBezTo>
                  <a:cubicBezTo>
                    <a:pt x="105" y="322"/>
                    <a:pt x="107" y="327"/>
                    <a:pt x="105" y="330"/>
                  </a:cubicBezTo>
                  <a:lnTo>
                    <a:pt x="83" y="373"/>
                  </a:lnTo>
                  <a:cubicBezTo>
                    <a:pt x="81" y="377"/>
                    <a:pt x="76" y="379"/>
                    <a:pt x="72" y="377"/>
                  </a:cubicBezTo>
                  <a:cubicBezTo>
                    <a:pt x="68" y="375"/>
                    <a:pt x="67" y="370"/>
                    <a:pt x="69" y="366"/>
                  </a:cubicBezTo>
                  <a:close/>
                  <a:moveTo>
                    <a:pt x="112" y="280"/>
                  </a:moveTo>
                  <a:lnTo>
                    <a:pt x="134" y="238"/>
                  </a:lnTo>
                  <a:cubicBezTo>
                    <a:pt x="136" y="234"/>
                    <a:pt x="140" y="232"/>
                    <a:pt x="144" y="234"/>
                  </a:cubicBezTo>
                  <a:cubicBezTo>
                    <a:pt x="148" y="236"/>
                    <a:pt x="150" y="241"/>
                    <a:pt x="148" y="245"/>
                  </a:cubicBezTo>
                  <a:lnTo>
                    <a:pt x="126" y="288"/>
                  </a:lnTo>
                  <a:cubicBezTo>
                    <a:pt x="124" y="292"/>
                    <a:pt x="120" y="293"/>
                    <a:pt x="116" y="291"/>
                  </a:cubicBezTo>
                  <a:cubicBezTo>
                    <a:pt x="112" y="289"/>
                    <a:pt x="110" y="284"/>
                    <a:pt x="112" y="280"/>
                  </a:cubicBezTo>
                  <a:close/>
                  <a:moveTo>
                    <a:pt x="155" y="195"/>
                  </a:moveTo>
                  <a:lnTo>
                    <a:pt x="159" y="187"/>
                  </a:lnTo>
                  <a:cubicBezTo>
                    <a:pt x="159" y="187"/>
                    <a:pt x="159" y="186"/>
                    <a:pt x="160" y="186"/>
                  </a:cubicBezTo>
                  <a:lnTo>
                    <a:pt x="183" y="154"/>
                  </a:lnTo>
                  <a:cubicBezTo>
                    <a:pt x="185" y="150"/>
                    <a:pt x="190" y="149"/>
                    <a:pt x="194" y="152"/>
                  </a:cubicBezTo>
                  <a:cubicBezTo>
                    <a:pt x="197" y="155"/>
                    <a:pt x="198" y="160"/>
                    <a:pt x="196" y="163"/>
                  </a:cubicBezTo>
                  <a:lnTo>
                    <a:pt x="173" y="195"/>
                  </a:lnTo>
                  <a:lnTo>
                    <a:pt x="173" y="194"/>
                  </a:lnTo>
                  <a:lnTo>
                    <a:pt x="169" y="202"/>
                  </a:lnTo>
                  <a:cubicBezTo>
                    <a:pt x="167" y="206"/>
                    <a:pt x="163" y="207"/>
                    <a:pt x="159" y="205"/>
                  </a:cubicBezTo>
                  <a:cubicBezTo>
                    <a:pt x="155" y="203"/>
                    <a:pt x="153" y="199"/>
                    <a:pt x="155" y="195"/>
                  </a:cubicBezTo>
                  <a:close/>
                  <a:moveTo>
                    <a:pt x="210" y="115"/>
                  </a:moveTo>
                  <a:lnTo>
                    <a:pt x="238" y="76"/>
                  </a:lnTo>
                  <a:cubicBezTo>
                    <a:pt x="241" y="72"/>
                    <a:pt x="246" y="71"/>
                    <a:pt x="249" y="74"/>
                  </a:cubicBezTo>
                  <a:cubicBezTo>
                    <a:pt x="253" y="76"/>
                    <a:pt x="254" y="81"/>
                    <a:pt x="251" y="85"/>
                  </a:cubicBezTo>
                  <a:lnTo>
                    <a:pt x="223" y="124"/>
                  </a:lnTo>
                  <a:cubicBezTo>
                    <a:pt x="221" y="128"/>
                    <a:pt x="216" y="128"/>
                    <a:pt x="212" y="126"/>
                  </a:cubicBezTo>
                  <a:cubicBezTo>
                    <a:pt x="209" y="123"/>
                    <a:pt x="208" y="118"/>
                    <a:pt x="210" y="115"/>
                  </a:cubicBezTo>
                  <a:close/>
                  <a:moveTo>
                    <a:pt x="266" y="36"/>
                  </a:moveTo>
                  <a:lnTo>
                    <a:pt x="288" y="5"/>
                  </a:lnTo>
                  <a:cubicBezTo>
                    <a:pt x="291" y="1"/>
                    <a:pt x="296" y="0"/>
                    <a:pt x="299" y="3"/>
                  </a:cubicBezTo>
                  <a:cubicBezTo>
                    <a:pt x="303" y="6"/>
                    <a:pt x="304" y="11"/>
                    <a:pt x="301" y="14"/>
                  </a:cubicBezTo>
                  <a:lnTo>
                    <a:pt x="279" y="46"/>
                  </a:lnTo>
                  <a:cubicBezTo>
                    <a:pt x="276" y="49"/>
                    <a:pt x="271" y="50"/>
                    <a:pt x="268" y="48"/>
                  </a:cubicBezTo>
                  <a:cubicBezTo>
                    <a:pt x="264" y="45"/>
                    <a:pt x="263" y="40"/>
                    <a:pt x="266" y="36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19520" y="2249280"/>
              <a:ext cx="51840" cy="4968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0" y="16"/>
                  </a:moveTo>
                  <a:lnTo>
                    <a:pt x="37" y="0"/>
                  </a:lnTo>
                  <a:lnTo>
                    <a:pt x="28" y="3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94160" y="2913120"/>
              <a:ext cx="284400" cy="1105200"/>
            </a:xfrm>
            <a:custGeom>
              <a:avLst/>
              <a:gdLst/>
              <a:ahLst/>
              <a:rect l="l" t="t" r="r" b="b"/>
              <a:pathLst>
                <a:path w="338" h="1437">
                  <a:moveTo>
                    <a:pt x="322" y="1433"/>
                  </a:moveTo>
                  <a:lnTo>
                    <a:pt x="294" y="1395"/>
                  </a:lnTo>
                  <a:cubicBezTo>
                    <a:pt x="291" y="1391"/>
                    <a:pt x="292" y="1386"/>
                    <a:pt x="295" y="1384"/>
                  </a:cubicBezTo>
                  <a:cubicBezTo>
                    <a:pt x="299" y="1381"/>
                    <a:pt x="304" y="1382"/>
                    <a:pt x="306" y="1385"/>
                  </a:cubicBezTo>
                  <a:lnTo>
                    <a:pt x="335" y="1424"/>
                  </a:lnTo>
                  <a:cubicBezTo>
                    <a:pt x="338" y="1427"/>
                    <a:pt x="337" y="1432"/>
                    <a:pt x="334" y="1435"/>
                  </a:cubicBezTo>
                  <a:cubicBezTo>
                    <a:pt x="330" y="1437"/>
                    <a:pt x="325" y="1437"/>
                    <a:pt x="322" y="1433"/>
                  </a:cubicBezTo>
                  <a:close/>
                  <a:moveTo>
                    <a:pt x="265" y="1356"/>
                  </a:moveTo>
                  <a:lnTo>
                    <a:pt x="236" y="1318"/>
                  </a:lnTo>
                  <a:cubicBezTo>
                    <a:pt x="233" y="1315"/>
                    <a:pt x="234" y="1310"/>
                    <a:pt x="237" y="1307"/>
                  </a:cubicBezTo>
                  <a:cubicBezTo>
                    <a:pt x="241" y="1304"/>
                    <a:pt x="246" y="1305"/>
                    <a:pt x="249" y="1308"/>
                  </a:cubicBezTo>
                  <a:lnTo>
                    <a:pt x="277" y="1347"/>
                  </a:lnTo>
                  <a:cubicBezTo>
                    <a:pt x="280" y="1350"/>
                    <a:pt x="279" y="1355"/>
                    <a:pt x="276" y="1358"/>
                  </a:cubicBezTo>
                  <a:cubicBezTo>
                    <a:pt x="272" y="1361"/>
                    <a:pt x="267" y="1360"/>
                    <a:pt x="265" y="1356"/>
                  </a:cubicBezTo>
                  <a:close/>
                  <a:moveTo>
                    <a:pt x="207" y="1280"/>
                  </a:moveTo>
                  <a:lnTo>
                    <a:pt x="185" y="1251"/>
                  </a:lnTo>
                  <a:cubicBezTo>
                    <a:pt x="185" y="1251"/>
                    <a:pt x="185" y="1250"/>
                    <a:pt x="185" y="1250"/>
                  </a:cubicBezTo>
                  <a:lnTo>
                    <a:pt x="179" y="1239"/>
                  </a:lnTo>
                  <a:cubicBezTo>
                    <a:pt x="177" y="1236"/>
                    <a:pt x="178" y="1231"/>
                    <a:pt x="182" y="1229"/>
                  </a:cubicBezTo>
                  <a:cubicBezTo>
                    <a:pt x="186" y="1226"/>
                    <a:pt x="191" y="1228"/>
                    <a:pt x="193" y="1232"/>
                  </a:cubicBezTo>
                  <a:lnTo>
                    <a:pt x="199" y="1242"/>
                  </a:lnTo>
                  <a:lnTo>
                    <a:pt x="198" y="1241"/>
                  </a:lnTo>
                  <a:lnTo>
                    <a:pt x="220" y="1270"/>
                  </a:lnTo>
                  <a:cubicBezTo>
                    <a:pt x="222" y="1274"/>
                    <a:pt x="222" y="1279"/>
                    <a:pt x="218" y="1281"/>
                  </a:cubicBezTo>
                  <a:cubicBezTo>
                    <a:pt x="215" y="1284"/>
                    <a:pt x="210" y="1283"/>
                    <a:pt x="207" y="1280"/>
                  </a:cubicBezTo>
                  <a:close/>
                  <a:moveTo>
                    <a:pt x="156" y="1197"/>
                  </a:moveTo>
                  <a:lnTo>
                    <a:pt x="133" y="1155"/>
                  </a:lnTo>
                  <a:cubicBezTo>
                    <a:pt x="131" y="1151"/>
                    <a:pt x="132" y="1147"/>
                    <a:pt x="136" y="1144"/>
                  </a:cubicBezTo>
                  <a:cubicBezTo>
                    <a:pt x="140" y="1142"/>
                    <a:pt x="145" y="1144"/>
                    <a:pt x="147" y="1148"/>
                  </a:cubicBezTo>
                  <a:lnTo>
                    <a:pt x="170" y="1190"/>
                  </a:lnTo>
                  <a:cubicBezTo>
                    <a:pt x="172" y="1194"/>
                    <a:pt x="171" y="1198"/>
                    <a:pt x="167" y="1201"/>
                  </a:cubicBezTo>
                  <a:cubicBezTo>
                    <a:pt x="163" y="1203"/>
                    <a:pt x="158" y="1201"/>
                    <a:pt x="156" y="1197"/>
                  </a:cubicBezTo>
                  <a:close/>
                  <a:moveTo>
                    <a:pt x="110" y="1113"/>
                  </a:moveTo>
                  <a:lnTo>
                    <a:pt x="87" y="1071"/>
                  </a:lnTo>
                  <a:cubicBezTo>
                    <a:pt x="85" y="1067"/>
                    <a:pt x="86" y="1062"/>
                    <a:pt x="90" y="1060"/>
                  </a:cubicBezTo>
                  <a:cubicBezTo>
                    <a:pt x="94" y="1058"/>
                    <a:pt x="99" y="1060"/>
                    <a:pt x="101" y="1063"/>
                  </a:cubicBezTo>
                  <a:lnTo>
                    <a:pt x="124" y="1105"/>
                  </a:lnTo>
                  <a:cubicBezTo>
                    <a:pt x="126" y="1109"/>
                    <a:pt x="124" y="1114"/>
                    <a:pt x="121" y="1116"/>
                  </a:cubicBezTo>
                  <a:cubicBezTo>
                    <a:pt x="117" y="1118"/>
                    <a:pt x="112" y="1117"/>
                    <a:pt x="110" y="1113"/>
                  </a:cubicBezTo>
                  <a:close/>
                  <a:moveTo>
                    <a:pt x="70" y="1025"/>
                  </a:moveTo>
                  <a:lnTo>
                    <a:pt x="55" y="979"/>
                  </a:lnTo>
                  <a:cubicBezTo>
                    <a:pt x="53" y="975"/>
                    <a:pt x="56" y="970"/>
                    <a:pt x="60" y="969"/>
                  </a:cubicBezTo>
                  <a:cubicBezTo>
                    <a:pt x="64" y="968"/>
                    <a:pt x="68" y="970"/>
                    <a:pt x="70" y="974"/>
                  </a:cubicBezTo>
                  <a:lnTo>
                    <a:pt x="85" y="1019"/>
                  </a:lnTo>
                  <a:cubicBezTo>
                    <a:pt x="87" y="1024"/>
                    <a:pt x="85" y="1028"/>
                    <a:pt x="80" y="1030"/>
                  </a:cubicBezTo>
                  <a:cubicBezTo>
                    <a:pt x="76" y="1031"/>
                    <a:pt x="72" y="1029"/>
                    <a:pt x="70" y="1025"/>
                  </a:cubicBezTo>
                  <a:close/>
                  <a:moveTo>
                    <a:pt x="39" y="934"/>
                  </a:moveTo>
                  <a:lnTo>
                    <a:pt x="24" y="889"/>
                  </a:lnTo>
                  <a:cubicBezTo>
                    <a:pt x="24" y="888"/>
                    <a:pt x="24" y="888"/>
                    <a:pt x="24" y="887"/>
                  </a:cubicBezTo>
                  <a:lnTo>
                    <a:pt x="23" y="887"/>
                  </a:lnTo>
                  <a:cubicBezTo>
                    <a:pt x="23" y="882"/>
                    <a:pt x="26" y="878"/>
                    <a:pt x="30" y="878"/>
                  </a:cubicBezTo>
                  <a:cubicBezTo>
                    <a:pt x="35" y="877"/>
                    <a:pt x="39" y="880"/>
                    <a:pt x="39" y="885"/>
                  </a:cubicBezTo>
                  <a:lnTo>
                    <a:pt x="39" y="885"/>
                  </a:lnTo>
                  <a:lnTo>
                    <a:pt x="39" y="883"/>
                  </a:lnTo>
                  <a:lnTo>
                    <a:pt x="54" y="929"/>
                  </a:lnTo>
                  <a:cubicBezTo>
                    <a:pt x="56" y="933"/>
                    <a:pt x="54" y="937"/>
                    <a:pt x="49" y="939"/>
                  </a:cubicBezTo>
                  <a:cubicBezTo>
                    <a:pt x="45" y="940"/>
                    <a:pt x="41" y="938"/>
                    <a:pt x="39" y="934"/>
                  </a:cubicBezTo>
                  <a:close/>
                  <a:moveTo>
                    <a:pt x="17" y="839"/>
                  </a:moveTo>
                  <a:lnTo>
                    <a:pt x="11" y="792"/>
                  </a:lnTo>
                  <a:cubicBezTo>
                    <a:pt x="10" y="787"/>
                    <a:pt x="13" y="783"/>
                    <a:pt x="18" y="783"/>
                  </a:cubicBezTo>
                  <a:cubicBezTo>
                    <a:pt x="22" y="782"/>
                    <a:pt x="26" y="785"/>
                    <a:pt x="27" y="789"/>
                  </a:cubicBezTo>
                  <a:lnTo>
                    <a:pt x="33" y="837"/>
                  </a:lnTo>
                  <a:cubicBezTo>
                    <a:pt x="34" y="841"/>
                    <a:pt x="31" y="845"/>
                    <a:pt x="26" y="846"/>
                  </a:cubicBezTo>
                  <a:cubicBezTo>
                    <a:pt x="22" y="847"/>
                    <a:pt x="18" y="843"/>
                    <a:pt x="17" y="839"/>
                  </a:cubicBezTo>
                  <a:close/>
                  <a:moveTo>
                    <a:pt x="5" y="744"/>
                  </a:moveTo>
                  <a:lnTo>
                    <a:pt x="0" y="709"/>
                  </a:lnTo>
                  <a:cubicBezTo>
                    <a:pt x="0" y="708"/>
                    <a:pt x="0" y="708"/>
                    <a:pt x="0" y="707"/>
                  </a:cubicBezTo>
                  <a:lnTo>
                    <a:pt x="1" y="695"/>
                  </a:lnTo>
                  <a:cubicBezTo>
                    <a:pt x="2" y="690"/>
                    <a:pt x="5" y="687"/>
                    <a:pt x="10" y="687"/>
                  </a:cubicBezTo>
                  <a:cubicBezTo>
                    <a:pt x="14" y="688"/>
                    <a:pt x="17" y="691"/>
                    <a:pt x="17" y="696"/>
                  </a:cubicBezTo>
                  <a:lnTo>
                    <a:pt x="16" y="709"/>
                  </a:lnTo>
                  <a:lnTo>
                    <a:pt x="16" y="707"/>
                  </a:lnTo>
                  <a:lnTo>
                    <a:pt x="21" y="742"/>
                  </a:lnTo>
                  <a:cubicBezTo>
                    <a:pt x="21" y="746"/>
                    <a:pt x="18" y="750"/>
                    <a:pt x="14" y="751"/>
                  </a:cubicBezTo>
                  <a:cubicBezTo>
                    <a:pt x="9" y="751"/>
                    <a:pt x="5" y="748"/>
                    <a:pt x="5" y="744"/>
                  </a:cubicBezTo>
                  <a:close/>
                  <a:moveTo>
                    <a:pt x="5" y="647"/>
                  </a:moveTo>
                  <a:lnTo>
                    <a:pt x="9" y="599"/>
                  </a:lnTo>
                  <a:cubicBezTo>
                    <a:pt x="9" y="594"/>
                    <a:pt x="13" y="591"/>
                    <a:pt x="18" y="592"/>
                  </a:cubicBezTo>
                  <a:cubicBezTo>
                    <a:pt x="22" y="592"/>
                    <a:pt x="25" y="596"/>
                    <a:pt x="25" y="600"/>
                  </a:cubicBezTo>
                  <a:lnTo>
                    <a:pt x="21" y="648"/>
                  </a:lnTo>
                  <a:cubicBezTo>
                    <a:pt x="21" y="652"/>
                    <a:pt x="17" y="656"/>
                    <a:pt x="12" y="655"/>
                  </a:cubicBezTo>
                  <a:cubicBezTo>
                    <a:pt x="8" y="655"/>
                    <a:pt x="5" y="651"/>
                    <a:pt x="5" y="647"/>
                  </a:cubicBezTo>
                  <a:close/>
                  <a:moveTo>
                    <a:pt x="13" y="551"/>
                  </a:moveTo>
                  <a:lnTo>
                    <a:pt x="15" y="531"/>
                  </a:lnTo>
                  <a:cubicBezTo>
                    <a:pt x="15" y="530"/>
                    <a:pt x="15" y="530"/>
                    <a:pt x="15" y="529"/>
                  </a:cubicBezTo>
                  <a:lnTo>
                    <a:pt x="23" y="503"/>
                  </a:lnTo>
                  <a:cubicBezTo>
                    <a:pt x="24" y="498"/>
                    <a:pt x="29" y="496"/>
                    <a:pt x="33" y="497"/>
                  </a:cubicBezTo>
                  <a:cubicBezTo>
                    <a:pt x="37" y="499"/>
                    <a:pt x="39" y="503"/>
                    <a:pt x="38" y="507"/>
                  </a:cubicBezTo>
                  <a:lnTo>
                    <a:pt x="30" y="534"/>
                  </a:lnTo>
                  <a:lnTo>
                    <a:pt x="31" y="532"/>
                  </a:lnTo>
                  <a:lnTo>
                    <a:pt x="29" y="552"/>
                  </a:lnTo>
                  <a:cubicBezTo>
                    <a:pt x="29" y="557"/>
                    <a:pt x="25" y="560"/>
                    <a:pt x="20" y="560"/>
                  </a:cubicBezTo>
                  <a:cubicBezTo>
                    <a:pt x="16" y="559"/>
                    <a:pt x="13" y="555"/>
                    <a:pt x="13" y="551"/>
                  </a:cubicBezTo>
                  <a:close/>
                  <a:moveTo>
                    <a:pt x="37" y="457"/>
                  </a:moveTo>
                  <a:lnTo>
                    <a:pt x="50" y="411"/>
                  </a:lnTo>
                  <a:cubicBezTo>
                    <a:pt x="52" y="406"/>
                    <a:pt x="56" y="404"/>
                    <a:pt x="60" y="405"/>
                  </a:cubicBezTo>
                  <a:cubicBezTo>
                    <a:pt x="65" y="407"/>
                    <a:pt x="67" y="411"/>
                    <a:pt x="66" y="415"/>
                  </a:cubicBezTo>
                  <a:lnTo>
                    <a:pt x="52" y="461"/>
                  </a:lnTo>
                  <a:cubicBezTo>
                    <a:pt x="51" y="465"/>
                    <a:pt x="46" y="468"/>
                    <a:pt x="42" y="467"/>
                  </a:cubicBezTo>
                  <a:cubicBezTo>
                    <a:pt x="38" y="465"/>
                    <a:pt x="35" y="461"/>
                    <a:pt x="37" y="457"/>
                  </a:cubicBezTo>
                  <a:close/>
                  <a:moveTo>
                    <a:pt x="64" y="365"/>
                  </a:moveTo>
                  <a:lnTo>
                    <a:pt x="67" y="354"/>
                  </a:lnTo>
                  <a:cubicBezTo>
                    <a:pt x="68" y="353"/>
                    <a:pt x="68" y="353"/>
                    <a:pt x="68" y="352"/>
                  </a:cubicBezTo>
                  <a:lnTo>
                    <a:pt x="85" y="320"/>
                  </a:lnTo>
                  <a:cubicBezTo>
                    <a:pt x="87" y="316"/>
                    <a:pt x="92" y="314"/>
                    <a:pt x="96" y="316"/>
                  </a:cubicBezTo>
                  <a:cubicBezTo>
                    <a:pt x="100" y="319"/>
                    <a:pt x="101" y="323"/>
                    <a:pt x="99" y="327"/>
                  </a:cubicBezTo>
                  <a:lnTo>
                    <a:pt x="82" y="360"/>
                  </a:lnTo>
                  <a:lnTo>
                    <a:pt x="83" y="358"/>
                  </a:lnTo>
                  <a:lnTo>
                    <a:pt x="79" y="369"/>
                  </a:lnTo>
                  <a:cubicBezTo>
                    <a:pt x="78" y="374"/>
                    <a:pt x="74" y="376"/>
                    <a:pt x="69" y="375"/>
                  </a:cubicBezTo>
                  <a:cubicBezTo>
                    <a:pt x="65" y="373"/>
                    <a:pt x="63" y="369"/>
                    <a:pt x="64" y="365"/>
                  </a:cubicBezTo>
                  <a:close/>
                  <a:moveTo>
                    <a:pt x="107" y="277"/>
                  </a:moveTo>
                  <a:lnTo>
                    <a:pt x="129" y="235"/>
                  </a:lnTo>
                  <a:cubicBezTo>
                    <a:pt x="131" y="231"/>
                    <a:pt x="136" y="229"/>
                    <a:pt x="140" y="231"/>
                  </a:cubicBezTo>
                  <a:cubicBezTo>
                    <a:pt x="144" y="233"/>
                    <a:pt x="145" y="238"/>
                    <a:pt x="143" y="242"/>
                  </a:cubicBezTo>
                  <a:lnTo>
                    <a:pt x="121" y="285"/>
                  </a:lnTo>
                  <a:cubicBezTo>
                    <a:pt x="119" y="289"/>
                    <a:pt x="114" y="290"/>
                    <a:pt x="110" y="288"/>
                  </a:cubicBezTo>
                  <a:cubicBezTo>
                    <a:pt x="106" y="286"/>
                    <a:pt x="105" y="281"/>
                    <a:pt x="107" y="277"/>
                  </a:cubicBezTo>
                  <a:close/>
                  <a:moveTo>
                    <a:pt x="151" y="192"/>
                  </a:moveTo>
                  <a:lnTo>
                    <a:pt x="158" y="178"/>
                  </a:lnTo>
                  <a:cubicBezTo>
                    <a:pt x="159" y="178"/>
                    <a:pt x="159" y="177"/>
                    <a:pt x="159" y="177"/>
                  </a:cubicBezTo>
                  <a:lnTo>
                    <a:pt x="178" y="151"/>
                  </a:lnTo>
                  <a:cubicBezTo>
                    <a:pt x="181" y="148"/>
                    <a:pt x="186" y="147"/>
                    <a:pt x="190" y="149"/>
                  </a:cubicBezTo>
                  <a:cubicBezTo>
                    <a:pt x="193" y="152"/>
                    <a:pt x="194" y="157"/>
                    <a:pt x="191" y="161"/>
                  </a:cubicBezTo>
                  <a:lnTo>
                    <a:pt x="172" y="187"/>
                  </a:lnTo>
                  <a:lnTo>
                    <a:pt x="173" y="186"/>
                  </a:lnTo>
                  <a:lnTo>
                    <a:pt x="165" y="199"/>
                  </a:lnTo>
                  <a:cubicBezTo>
                    <a:pt x="163" y="203"/>
                    <a:pt x="158" y="205"/>
                    <a:pt x="155" y="203"/>
                  </a:cubicBezTo>
                  <a:cubicBezTo>
                    <a:pt x="151" y="201"/>
                    <a:pt x="149" y="196"/>
                    <a:pt x="151" y="192"/>
                  </a:cubicBezTo>
                  <a:close/>
                  <a:moveTo>
                    <a:pt x="207" y="113"/>
                  </a:moveTo>
                  <a:lnTo>
                    <a:pt x="236" y="74"/>
                  </a:lnTo>
                  <a:cubicBezTo>
                    <a:pt x="238" y="71"/>
                    <a:pt x="243" y="70"/>
                    <a:pt x="247" y="72"/>
                  </a:cubicBezTo>
                  <a:cubicBezTo>
                    <a:pt x="250" y="75"/>
                    <a:pt x="251" y="80"/>
                    <a:pt x="248" y="84"/>
                  </a:cubicBezTo>
                  <a:lnTo>
                    <a:pt x="220" y="122"/>
                  </a:lnTo>
                  <a:cubicBezTo>
                    <a:pt x="217" y="126"/>
                    <a:pt x="212" y="126"/>
                    <a:pt x="209" y="124"/>
                  </a:cubicBezTo>
                  <a:cubicBezTo>
                    <a:pt x="205" y="121"/>
                    <a:pt x="204" y="116"/>
                    <a:pt x="207" y="113"/>
                  </a:cubicBezTo>
                  <a:close/>
                  <a:moveTo>
                    <a:pt x="264" y="36"/>
                  </a:moveTo>
                  <a:lnTo>
                    <a:pt x="287" y="5"/>
                  </a:lnTo>
                  <a:cubicBezTo>
                    <a:pt x="290" y="1"/>
                    <a:pt x="295" y="0"/>
                    <a:pt x="298" y="3"/>
                  </a:cubicBezTo>
                  <a:cubicBezTo>
                    <a:pt x="302" y="5"/>
                    <a:pt x="303" y="11"/>
                    <a:pt x="300" y="14"/>
                  </a:cubicBezTo>
                  <a:lnTo>
                    <a:pt x="277" y="45"/>
                  </a:lnTo>
                  <a:cubicBezTo>
                    <a:pt x="274" y="49"/>
                    <a:pt x="269" y="49"/>
                    <a:pt x="266" y="47"/>
                  </a:cubicBezTo>
                  <a:cubicBezTo>
                    <a:pt x="262" y="44"/>
                    <a:pt x="262" y="39"/>
                    <a:pt x="264" y="36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18080" y="2890080"/>
              <a:ext cx="53280" cy="500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15"/>
                  </a:moveTo>
                  <a:lnTo>
                    <a:pt x="38" y="0"/>
                  </a:lnTo>
                  <a:lnTo>
                    <a:pt x="27" y="3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7100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7100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7100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7100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7100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7100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7100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7100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4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72320" y="2241360"/>
              <a:ext cx="270360" cy="1102680"/>
            </a:xfrm>
            <a:custGeom>
              <a:avLst/>
              <a:gdLst/>
              <a:ahLst/>
              <a:rect l="l" t="t" r="r" b="b"/>
              <a:pathLst>
                <a:path w="321" h="1434">
                  <a:moveTo>
                    <a:pt x="15" y="4"/>
                  </a:moveTo>
                  <a:lnTo>
                    <a:pt x="45" y="42"/>
                  </a:lnTo>
                  <a:cubicBezTo>
                    <a:pt x="47" y="45"/>
                    <a:pt x="47" y="50"/>
                    <a:pt x="43" y="53"/>
                  </a:cubicBezTo>
                  <a:cubicBezTo>
                    <a:pt x="40" y="55"/>
                    <a:pt x="35" y="55"/>
                    <a:pt x="32" y="51"/>
                  </a:cubicBezTo>
                  <a:lnTo>
                    <a:pt x="2" y="14"/>
                  </a:lnTo>
                  <a:cubicBezTo>
                    <a:pt x="0" y="10"/>
                    <a:pt x="0" y="5"/>
                    <a:pt x="4" y="3"/>
                  </a:cubicBezTo>
                  <a:cubicBezTo>
                    <a:pt x="7" y="0"/>
                    <a:pt x="12" y="0"/>
                    <a:pt x="15" y="4"/>
                  </a:cubicBezTo>
                  <a:close/>
                  <a:moveTo>
                    <a:pt x="74" y="79"/>
                  </a:moveTo>
                  <a:lnTo>
                    <a:pt x="104" y="117"/>
                  </a:lnTo>
                  <a:cubicBezTo>
                    <a:pt x="107" y="120"/>
                    <a:pt x="106" y="125"/>
                    <a:pt x="103" y="128"/>
                  </a:cubicBezTo>
                  <a:cubicBezTo>
                    <a:pt x="99" y="131"/>
                    <a:pt x="94" y="130"/>
                    <a:pt x="92" y="127"/>
                  </a:cubicBezTo>
                  <a:lnTo>
                    <a:pt x="62" y="89"/>
                  </a:lnTo>
                  <a:cubicBezTo>
                    <a:pt x="59" y="86"/>
                    <a:pt x="60" y="81"/>
                    <a:pt x="63" y="78"/>
                  </a:cubicBezTo>
                  <a:cubicBezTo>
                    <a:pt x="67" y="75"/>
                    <a:pt x="72" y="76"/>
                    <a:pt x="74" y="79"/>
                  </a:cubicBezTo>
                  <a:close/>
                  <a:moveTo>
                    <a:pt x="134" y="154"/>
                  </a:moveTo>
                  <a:lnTo>
                    <a:pt x="145" y="169"/>
                  </a:lnTo>
                  <a:cubicBezTo>
                    <a:pt x="146" y="169"/>
                    <a:pt x="146" y="170"/>
                    <a:pt x="146" y="170"/>
                  </a:cubicBezTo>
                  <a:lnTo>
                    <a:pt x="161" y="196"/>
                  </a:lnTo>
                  <a:cubicBezTo>
                    <a:pt x="163" y="200"/>
                    <a:pt x="161" y="204"/>
                    <a:pt x="157" y="207"/>
                  </a:cubicBezTo>
                  <a:cubicBezTo>
                    <a:pt x="154" y="209"/>
                    <a:pt x="149" y="207"/>
                    <a:pt x="147" y="204"/>
                  </a:cubicBezTo>
                  <a:lnTo>
                    <a:pt x="132" y="178"/>
                  </a:lnTo>
                  <a:lnTo>
                    <a:pt x="133" y="179"/>
                  </a:lnTo>
                  <a:lnTo>
                    <a:pt x="121" y="164"/>
                  </a:lnTo>
                  <a:cubicBezTo>
                    <a:pt x="119" y="161"/>
                    <a:pt x="119" y="156"/>
                    <a:pt x="123" y="153"/>
                  </a:cubicBezTo>
                  <a:cubicBezTo>
                    <a:pt x="126" y="150"/>
                    <a:pt x="131" y="151"/>
                    <a:pt x="134" y="154"/>
                  </a:cubicBezTo>
                  <a:close/>
                  <a:moveTo>
                    <a:pt x="184" y="238"/>
                  </a:moveTo>
                  <a:lnTo>
                    <a:pt x="207" y="280"/>
                  </a:lnTo>
                  <a:cubicBezTo>
                    <a:pt x="210" y="283"/>
                    <a:pt x="208" y="288"/>
                    <a:pt x="204" y="290"/>
                  </a:cubicBezTo>
                  <a:cubicBezTo>
                    <a:pt x="200" y="293"/>
                    <a:pt x="196" y="291"/>
                    <a:pt x="193" y="287"/>
                  </a:cubicBezTo>
                  <a:lnTo>
                    <a:pt x="170" y="245"/>
                  </a:lnTo>
                  <a:cubicBezTo>
                    <a:pt x="168" y="242"/>
                    <a:pt x="169" y="237"/>
                    <a:pt x="173" y="235"/>
                  </a:cubicBezTo>
                  <a:cubicBezTo>
                    <a:pt x="177" y="232"/>
                    <a:pt x="182" y="234"/>
                    <a:pt x="184" y="238"/>
                  </a:cubicBezTo>
                  <a:close/>
                  <a:moveTo>
                    <a:pt x="231" y="321"/>
                  </a:moveTo>
                  <a:lnTo>
                    <a:pt x="240" y="338"/>
                  </a:lnTo>
                  <a:cubicBezTo>
                    <a:pt x="241" y="339"/>
                    <a:pt x="241" y="339"/>
                    <a:pt x="241" y="340"/>
                  </a:cubicBezTo>
                  <a:lnTo>
                    <a:pt x="250" y="367"/>
                  </a:lnTo>
                  <a:cubicBezTo>
                    <a:pt x="252" y="371"/>
                    <a:pt x="249" y="375"/>
                    <a:pt x="245" y="377"/>
                  </a:cubicBezTo>
                  <a:cubicBezTo>
                    <a:pt x="241" y="378"/>
                    <a:pt x="236" y="376"/>
                    <a:pt x="235" y="372"/>
                  </a:cubicBezTo>
                  <a:lnTo>
                    <a:pt x="226" y="345"/>
                  </a:lnTo>
                  <a:lnTo>
                    <a:pt x="226" y="346"/>
                  </a:lnTo>
                  <a:lnTo>
                    <a:pt x="217" y="329"/>
                  </a:lnTo>
                  <a:cubicBezTo>
                    <a:pt x="215" y="325"/>
                    <a:pt x="216" y="320"/>
                    <a:pt x="220" y="318"/>
                  </a:cubicBezTo>
                  <a:cubicBezTo>
                    <a:pt x="224" y="316"/>
                    <a:pt x="229" y="318"/>
                    <a:pt x="231" y="321"/>
                  </a:cubicBezTo>
                  <a:close/>
                  <a:moveTo>
                    <a:pt x="266" y="412"/>
                  </a:moveTo>
                  <a:lnTo>
                    <a:pt x="281" y="458"/>
                  </a:lnTo>
                  <a:cubicBezTo>
                    <a:pt x="282" y="462"/>
                    <a:pt x="280" y="466"/>
                    <a:pt x="276" y="468"/>
                  </a:cubicBezTo>
                  <a:cubicBezTo>
                    <a:pt x="272" y="469"/>
                    <a:pt x="267" y="467"/>
                    <a:pt x="266" y="463"/>
                  </a:cubicBezTo>
                  <a:lnTo>
                    <a:pt x="250" y="417"/>
                  </a:lnTo>
                  <a:cubicBezTo>
                    <a:pt x="249" y="413"/>
                    <a:pt x="251" y="409"/>
                    <a:pt x="255" y="407"/>
                  </a:cubicBezTo>
                  <a:cubicBezTo>
                    <a:pt x="260" y="406"/>
                    <a:pt x="264" y="408"/>
                    <a:pt x="266" y="412"/>
                  </a:cubicBezTo>
                  <a:close/>
                  <a:moveTo>
                    <a:pt x="296" y="503"/>
                  </a:moveTo>
                  <a:lnTo>
                    <a:pt x="299" y="512"/>
                  </a:lnTo>
                  <a:cubicBezTo>
                    <a:pt x="299" y="512"/>
                    <a:pt x="299" y="513"/>
                    <a:pt x="300" y="513"/>
                  </a:cubicBezTo>
                  <a:lnTo>
                    <a:pt x="304" y="552"/>
                  </a:lnTo>
                  <a:cubicBezTo>
                    <a:pt x="305" y="556"/>
                    <a:pt x="302" y="560"/>
                    <a:pt x="297" y="561"/>
                  </a:cubicBezTo>
                  <a:cubicBezTo>
                    <a:pt x="293" y="561"/>
                    <a:pt x="289" y="558"/>
                    <a:pt x="289" y="554"/>
                  </a:cubicBezTo>
                  <a:lnTo>
                    <a:pt x="284" y="515"/>
                  </a:lnTo>
                  <a:lnTo>
                    <a:pt x="284" y="517"/>
                  </a:lnTo>
                  <a:lnTo>
                    <a:pt x="281" y="508"/>
                  </a:lnTo>
                  <a:cubicBezTo>
                    <a:pt x="280" y="504"/>
                    <a:pt x="282" y="500"/>
                    <a:pt x="286" y="498"/>
                  </a:cubicBezTo>
                  <a:cubicBezTo>
                    <a:pt x="290" y="497"/>
                    <a:pt x="295" y="499"/>
                    <a:pt x="296" y="503"/>
                  </a:cubicBezTo>
                  <a:close/>
                  <a:moveTo>
                    <a:pt x="310" y="600"/>
                  </a:moveTo>
                  <a:lnTo>
                    <a:pt x="316" y="647"/>
                  </a:lnTo>
                  <a:cubicBezTo>
                    <a:pt x="317" y="652"/>
                    <a:pt x="314" y="656"/>
                    <a:pt x="309" y="656"/>
                  </a:cubicBezTo>
                  <a:cubicBezTo>
                    <a:pt x="305" y="657"/>
                    <a:pt x="301" y="654"/>
                    <a:pt x="301" y="649"/>
                  </a:cubicBezTo>
                  <a:lnTo>
                    <a:pt x="295" y="602"/>
                  </a:lnTo>
                  <a:cubicBezTo>
                    <a:pt x="294" y="597"/>
                    <a:pt x="297" y="593"/>
                    <a:pt x="301" y="593"/>
                  </a:cubicBezTo>
                  <a:cubicBezTo>
                    <a:pt x="306" y="592"/>
                    <a:pt x="310" y="595"/>
                    <a:pt x="310" y="600"/>
                  </a:cubicBezTo>
                  <a:close/>
                  <a:moveTo>
                    <a:pt x="321" y="696"/>
                  </a:moveTo>
                  <a:lnTo>
                    <a:pt x="317" y="744"/>
                  </a:lnTo>
                  <a:cubicBezTo>
                    <a:pt x="317" y="749"/>
                    <a:pt x="313" y="752"/>
                    <a:pt x="309" y="752"/>
                  </a:cubicBezTo>
                  <a:cubicBezTo>
                    <a:pt x="304" y="751"/>
                    <a:pt x="301" y="747"/>
                    <a:pt x="301" y="743"/>
                  </a:cubicBezTo>
                  <a:lnTo>
                    <a:pt x="305" y="695"/>
                  </a:lnTo>
                  <a:cubicBezTo>
                    <a:pt x="306" y="691"/>
                    <a:pt x="309" y="688"/>
                    <a:pt x="314" y="688"/>
                  </a:cubicBezTo>
                  <a:cubicBezTo>
                    <a:pt x="318" y="688"/>
                    <a:pt x="321" y="692"/>
                    <a:pt x="321" y="696"/>
                  </a:cubicBezTo>
                  <a:close/>
                  <a:moveTo>
                    <a:pt x="314" y="792"/>
                  </a:moveTo>
                  <a:lnTo>
                    <a:pt x="310" y="840"/>
                  </a:lnTo>
                  <a:cubicBezTo>
                    <a:pt x="309" y="844"/>
                    <a:pt x="306" y="848"/>
                    <a:pt x="301" y="847"/>
                  </a:cubicBezTo>
                  <a:cubicBezTo>
                    <a:pt x="297" y="847"/>
                    <a:pt x="294" y="843"/>
                    <a:pt x="294" y="839"/>
                  </a:cubicBezTo>
                  <a:lnTo>
                    <a:pt x="298" y="791"/>
                  </a:lnTo>
                  <a:cubicBezTo>
                    <a:pt x="298" y="787"/>
                    <a:pt x="302" y="783"/>
                    <a:pt x="306" y="784"/>
                  </a:cubicBezTo>
                  <a:cubicBezTo>
                    <a:pt x="311" y="784"/>
                    <a:pt x="314" y="788"/>
                    <a:pt x="314" y="792"/>
                  </a:cubicBezTo>
                  <a:close/>
                  <a:moveTo>
                    <a:pt x="302" y="889"/>
                  </a:moveTo>
                  <a:lnTo>
                    <a:pt x="289" y="935"/>
                  </a:lnTo>
                  <a:cubicBezTo>
                    <a:pt x="288" y="939"/>
                    <a:pt x="284" y="942"/>
                    <a:pt x="280" y="941"/>
                  </a:cubicBezTo>
                  <a:cubicBezTo>
                    <a:pt x="275" y="939"/>
                    <a:pt x="273" y="935"/>
                    <a:pt x="274" y="931"/>
                  </a:cubicBezTo>
                  <a:lnTo>
                    <a:pt x="287" y="885"/>
                  </a:lnTo>
                  <a:cubicBezTo>
                    <a:pt x="288" y="880"/>
                    <a:pt x="292" y="878"/>
                    <a:pt x="297" y="879"/>
                  </a:cubicBezTo>
                  <a:cubicBezTo>
                    <a:pt x="301" y="880"/>
                    <a:pt x="303" y="884"/>
                    <a:pt x="302" y="889"/>
                  </a:cubicBezTo>
                  <a:close/>
                  <a:moveTo>
                    <a:pt x="277" y="981"/>
                  </a:moveTo>
                  <a:lnTo>
                    <a:pt x="264" y="1028"/>
                  </a:lnTo>
                  <a:cubicBezTo>
                    <a:pt x="263" y="1032"/>
                    <a:pt x="258" y="1034"/>
                    <a:pt x="254" y="1033"/>
                  </a:cubicBezTo>
                  <a:cubicBezTo>
                    <a:pt x="250" y="1032"/>
                    <a:pt x="247" y="1028"/>
                    <a:pt x="249" y="1023"/>
                  </a:cubicBezTo>
                  <a:lnTo>
                    <a:pt x="261" y="977"/>
                  </a:lnTo>
                  <a:cubicBezTo>
                    <a:pt x="262" y="973"/>
                    <a:pt x="267" y="970"/>
                    <a:pt x="271" y="971"/>
                  </a:cubicBezTo>
                  <a:cubicBezTo>
                    <a:pt x="275" y="973"/>
                    <a:pt x="278" y="977"/>
                    <a:pt x="277" y="981"/>
                  </a:cubicBezTo>
                  <a:close/>
                  <a:moveTo>
                    <a:pt x="247" y="1074"/>
                  </a:moveTo>
                  <a:lnTo>
                    <a:pt x="227" y="1117"/>
                  </a:lnTo>
                  <a:cubicBezTo>
                    <a:pt x="225" y="1121"/>
                    <a:pt x="220" y="1123"/>
                    <a:pt x="216" y="1121"/>
                  </a:cubicBezTo>
                  <a:cubicBezTo>
                    <a:pt x="212" y="1119"/>
                    <a:pt x="211" y="1115"/>
                    <a:pt x="213" y="1111"/>
                  </a:cubicBezTo>
                  <a:lnTo>
                    <a:pt x="233" y="1067"/>
                  </a:lnTo>
                  <a:cubicBezTo>
                    <a:pt x="235" y="1063"/>
                    <a:pt x="239" y="1061"/>
                    <a:pt x="243" y="1063"/>
                  </a:cubicBezTo>
                  <a:cubicBezTo>
                    <a:pt x="247" y="1065"/>
                    <a:pt x="249" y="1070"/>
                    <a:pt x="247" y="1074"/>
                  </a:cubicBezTo>
                  <a:close/>
                  <a:moveTo>
                    <a:pt x="207" y="1161"/>
                  </a:moveTo>
                  <a:lnTo>
                    <a:pt x="187" y="1204"/>
                  </a:lnTo>
                  <a:cubicBezTo>
                    <a:pt x="185" y="1208"/>
                    <a:pt x="180" y="1210"/>
                    <a:pt x="176" y="1208"/>
                  </a:cubicBezTo>
                  <a:cubicBezTo>
                    <a:pt x="172" y="1206"/>
                    <a:pt x="170" y="1202"/>
                    <a:pt x="172" y="1198"/>
                  </a:cubicBezTo>
                  <a:lnTo>
                    <a:pt x="192" y="1154"/>
                  </a:lnTo>
                  <a:cubicBezTo>
                    <a:pt x="194" y="1150"/>
                    <a:pt x="199" y="1148"/>
                    <a:pt x="203" y="1150"/>
                  </a:cubicBezTo>
                  <a:cubicBezTo>
                    <a:pt x="207" y="1152"/>
                    <a:pt x="209" y="1157"/>
                    <a:pt x="207" y="1161"/>
                  </a:cubicBezTo>
                  <a:close/>
                  <a:moveTo>
                    <a:pt x="165" y="1248"/>
                  </a:moveTo>
                  <a:lnTo>
                    <a:pt x="139" y="1289"/>
                  </a:lnTo>
                  <a:cubicBezTo>
                    <a:pt x="136" y="1292"/>
                    <a:pt x="131" y="1293"/>
                    <a:pt x="128" y="1291"/>
                  </a:cubicBezTo>
                  <a:cubicBezTo>
                    <a:pt x="124" y="1289"/>
                    <a:pt x="123" y="1284"/>
                    <a:pt x="125" y="1280"/>
                  </a:cubicBezTo>
                  <a:lnTo>
                    <a:pt x="151" y="1240"/>
                  </a:lnTo>
                  <a:cubicBezTo>
                    <a:pt x="154" y="1236"/>
                    <a:pt x="159" y="1235"/>
                    <a:pt x="162" y="1237"/>
                  </a:cubicBezTo>
                  <a:cubicBezTo>
                    <a:pt x="166" y="1240"/>
                    <a:pt x="167" y="1245"/>
                    <a:pt x="165" y="1248"/>
                  </a:cubicBezTo>
                  <a:close/>
                  <a:moveTo>
                    <a:pt x="113" y="1329"/>
                  </a:moveTo>
                  <a:lnTo>
                    <a:pt x="86" y="1369"/>
                  </a:lnTo>
                  <a:cubicBezTo>
                    <a:pt x="84" y="1373"/>
                    <a:pt x="79" y="1374"/>
                    <a:pt x="75" y="1372"/>
                  </a:cubicBezTo>
                  <a:cubicBezTo>
                    <a:pt x="72" y="1369"/>
                    <a:pt x="71" y="1364"/>
                    <a:pt x="73" y="1360"/>
                  </a:cubicBezTo>
                  <a:lnTo>
                    <a:pt x="99" y="1320"/>
                  </a:lnTo>
                  <a:cubicBezTo>
                    <a:pt x="102" y="1316"/>
                    <a:pt x="106" y="1315"/>
                    <a:pt x="110" y="1318"/>
                  </a:cubicBezTo>
                  <a:cubicBezTo>
                    <a:pt x="114" y="1320"/>
                    <a:pt x="115" y="1325"/>
                    <a:pt x="113" y="1329"/>
                  </a:cubicBezTo>
                  <a:close/>
                  <a:moveTo>
                    <a:pt x="60" y="1409"/>
                  </a:moveTo>
                  <a:lnTo>
                    <a:pt x="47" y="1430"/>
                  </a:lnTo>
                  <a:cubicBezTo>
                    <a:pt x="45" y="1433"/>
                    <a:pt x="40" y="1434"/>
                    <a:pt x="36" y="1432"/>
                  </a:cubicBezTo>
                  <a:cubicBezTo>
                    <a:pt x="33" y="1430"/>
                    <a:pt x="31" y="1425"/>
                    <a:pt x="34" y="1421"/>
                  </a:cubicBezTo>
                  <a:lnTo>
                    <a:pt x="47" y="1401"/>
                  </a:lnTo>
                  <a:cubicBezTo>
                    <a:pt x="49" y="1397"/>
                    <a:pt x="54" y="1396"/>
                    <a:pt x="58" y="1398"/>
                  </a:cubicBezTo>
                  <a:cubicBezTo>
                    <a:pt x="62" y="1401"/>
                    <a:pt x="63" y="1406"/>
                    <a:pt x="60" y="1409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80600" y="3319560"/>
              <a:ext cx="50760" cy="514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7" y="0"/>
                  </a:moveTo>
                  <a:lnTo>
                    <a:pt x="0" y="40"/>
                  </a:lnTo>
                  <a:lnTo>
                    <a:pt x="36" y="2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72320" y="2882160"/>
              <a:ext cx="272160" cy="1105200"/>
            </a:xfrm>
            <a:custGeom>
              <a:avLst/>
              <a:gdLst/>
              <a:ahLst/>
              <a:rect l="l" t="t" r="r" b="b"/>
              <a:pathLst>
                <a:path w="322" h="1436">
                  <a:moveTo>
                    <a:pt x="15" y="5"/>
                  </a:moveTo>
                  <a:lnTo>
                    <a:pt x="44" y="43"/>
                  </a:lnTo>
                  <a:cubicBezTo>
                    <a:pt x="46" y="47"/>
                    <a:pt x="46" y="52"/>
                    <a:pt x="42" y="54"/>
                  </a:cubicBezTo>
                  <a:cubicBezTo>
                    <a:pt x="39" y="57"/>
                    <a:pt x="34" y="56"/>
                    <a:pt x="31" y="53"/>
                  </a:cubicBezTo>
                  <a:lnTo>
                    <a:pt x="2" y="14"/>
                  </a:lnTo>
                  <a:cubicBezTo>
                    <a:pt x="0" y="11"/>
                    <a:pt x="0" y="6"/>
                    <a:pt x="4" y="3"/>
                  </a:cubicBezTo>
                  <a:cubicBezTo>
                    <a:pt x="7" y="0"/>
                    <a:pt x="12" y="1"/>
                    <a:pt x="15" y="5"/>
                  </a:cubicBezTo>
                  <a:close/>
                  <a:moveTo>
                    <a:pt x="73" y="81"/>
                  </a:moveTo>
                  <a:lnTo>
                    <a:pt x="102" y="120"/>
                  </a:lnTo>
                  <a:cubicBezTo>
                    <a:pt x="104" y="123"/>
                    <a:pt x="103" y="128"/>
                    <a:pt x="100" y="131"/>
                  </a:cubicBezTo>
                  <a:cubicBezTo>
                    <a:pt x="96" y="134"/>
                    <a:pt x="91" y="133"/>
                    <a:pt x="89" y="129"/>
                  </a:cubicBezTo>
                  <a:lnTo>
                    <a:pt x="60" y="91"/>
                  </a:lnTo>
                  <a:cubicBezTo>
                    <a:pt x="57" y="87"/>
                    <a:pt x="58" y="82"/>
                    <a:pt x="61" y="80"/>
                  </a:cubicBezTo>
                  <a:cubicBezTo>
                    <a:pt x="65" y="77"/>
                    <a:pt x="70" y="78"/>
                    <a:pt x="73" y="81"/>
                  </a:cubicBezTo>
                  <a:close/>
                  <a:moveTo>
                    <a:pt x="130" y="158"/>
                  </a:moveTo>
                  <a:lnTo>
                    <a:pt x="145" y="178"/>
                  </a:lnTo>
                  <a:cubicBezTo>
                    <a:pt x="146" y="178"/>
                    <a:pt x="146" y="179"/>
                    <a:pt x="146" y="179"/>
                  </a:cubicBezTo>
                  <a:lnTo>
                    <a:pt x="157" y="199"/>
                  </a:lnTo>
                  <a:cubicBezTo>
                    <a:pt x="159" y="203"/>
                    <a:pt x="158" y="208"/>
                    <a:pt x="154" y="210"/>
                  </a:cubicBezTo>
                  <a:cubicBezTo>
                    <a:pt x="150" y="212"/>
                    <a:pt x="145" y="211"/>
                    <a:pt x="143" y="207"/>
                  </a:cubicBezTo>
                  <a:lnTo>
                    <a:pt x="132" y="187"/>
                  </a:lnTo>
                  <a:lnTo>
                    <a:pt x="133" y="188"/>
                  </a:lnTo>
                  <a:lnTo>
                    <a:pt x="118" y="168"/>
                  </a:lnTo>
                  <a:cubicBezTo>
                    <a:pt x="115" y="164"/>
                    <a:pt x="116" y="159"/>
                    <a:pt x="119" y="156"/>
                  </a:cubicBezTo>
                  <a:cubicBezTo>
                    <a:pt x="123" y="154"/>
                    <a:pt x="128" y="155"/>
                    <a:pt x="130" y="158"/>
                  </a:cubicBezTo>
                  <a:close/>
                  <a:moveTo>
                    <a:pt x="180" y="242"/>
                  </a:moveTo>
                  <a:lnTo>
                    <a:pt x="203" y="284"/>
                  </a:lnTo>
                  <a:cubicBezTo>
                    <a:pt x="205" y="288"/>
                    <a:pt x="203" y="292"/>
                    <a:pt x="199" y="295"/>
                  </a:cubicBezTo>
                  <a:cubicBezTo>
                    <a:pt x="196" y="297"/>
                    <a:pt x="191" y="295"/>
                    <a:pt x="189" y="291"/>
                  </a:cubicBezTo>
                  <a:lnTo>
                    <a:pt x="166" y="249"/>
                  </a:lnTo>
                  <a:cubicBezTo>
                    <a:pt x="164" y="245"/>
                    <a:pt x="165" y="240"/>
                    <a:pt x="169" y="238"/>
                  </a:cubicBezTo>
                  <a:cubicBezTo>
                    <a:pt x="173" y="236"/>
                    <a:pt x="178" y="238"/>
                    <a:pt x="180" y="242"/>
                  </a:cubicBezTo>
                  <a:close/>
                  <a:moveTo>
                    <a:pt x="225" y="326"/>
                  </a:moveTo>
                  <a:lnTo>
                    <a:pt x="240" y="353"/>
                  </a:lnTo>
                  <a:cubicBezTo>
                    <a:pt x="240" y="354"/>
                    <a:pt x="241" y="354"/>
                    <a:pt x="241" y="355"/>
                  </a:cubicBezTo>
                  <a:lnTo>
                    <a:pt x="246" y="371"/>
                  </a:lnTo>
                  <a:cubicBezTo>
                    <a:pt x="248" y="375"/>
                    <a:pt x="245" y="379"/>
                    <a:pt x="241" y="381"/>
                  </a:cubicBezTo>
                  <a:cubicBezTo>
                    <a:pt x="237" y="382"/>
                    <a:pt x="232" y="380"/>
                    <a:pt x="231" y="376"/>
                  </a:cubicBezTo>
                  <a:lnTo>
                    <a:pt x="226" y="360"/>
                  </a:lnTo>
                  <a:lnTo>
                    <a:pt x="226" y="361"/>
                  </a:lnTo>
                  <a:lnTo>
                    <a:pt x="211" y="334"/>
                  </a:lnTo>
                  <a:cubicBezTo>
                    <a:pt x="209" y="330"/>
                    <a:pt x="211" y="325"/>
                    <a:pt x="215" y="323"/>
                  </a:cubicBezTo>
                  <a:cubicBezTo>
                    <a:pt x="219" y="321"/>
                    <a:pt x="223" y="322"/>
                    <a:pt x="225" y="326"/>
                  </a:cubicBezTo>
                  <a:close/>
                  <a:moveTo>
                    <a:pt x="261" y="416"/>
                  </a:moveTo>
                  <a:lnTo>
                    <a:pt x="276" y="462"/>
                  </a:lnTo>
                  <a:cubicBezTo>
                    <a:pt x="278" y="466"/>
                    <a:pt x="276" y="470"/>
                    <a:pt x="271" y="472"/>
                  </a:cubicBezTo>
                  <a:cubicBezTo>
                    <a:pt x="267" y="473"/>
                    <a:pt x="263" y="471"/>
                    <a:pt x="261" y="467"/>
                  </a:cubicBezTo>
                  <a:lnTo>
                    <a:pt x="246" y="421"/>
                  </a:lnTo>
                  <a:cubicBezTo>
                    <a:pt x="245" y="417"/>
                    <a:pt x="247" y="413"/>
                    <a:pt x="251" y="411"/>
                  </a:cubicBezTo>
                  <a:cubicBezTo>
                    <a:pt x="255" y="410"/>
                    <a:pt x="260" y="412"/>
                    <a:pt x="261" y="416"/>
                  </a:cubicBezTo>
                  <a:close/>
                  <a:moveTo>
                    <a:pt x="292" y="507"/>
                  </a:moveTo>
                  <a:lnTo>
                    <a:pt x="299" y="530"/>
                  </a:lnTo>
                  <a:cubicBezTo>
                    <a:pt x="299" y="531"/>
                    <a:pt x="299" y="531"/>
                    <a:pt x="299" y="532"/>
                  </a:cubicBezTo>
                  <a:lnTo>
                    <a:pt x="302" y="555"/>
                  </a:lnTo>
                  <a:cubicBezTo>
                    <a:pt x="303" y="560"/>
                    <a:pt x="300" y="564"/>
                    <a:pt x="295" y="564"/>
                  </a:cubicBezTo>
                  <a:cubicBezTo>
                    <a:pt x="291" y="565"/>
                    <a:pt x="287" y="562"/>
                    <a:pt x="287" y="557"/>
                  </a:cubicBezTo>
                  <a:lnTo>
                    <a:pt x="284" y="534"/>
                  </a:lnTo>
                  <a:lnTo>
                    <a:pt x="284" y="535"/>
                  </a:lnTo>
                  <a:lnTo>
                    <a:pt x="276" y="512"/>
                  </a:lnTo>
                  <a:cubicBezTo>
                    <a:pt x="275" y="508"/>
                    <a:pt x="277" y="504"/>
                    <a:pt x="281" y="502"/>
                  </a:cubicBezTo>
                  <a:cubicBezTo>
                    <a:pt x="286" y="501"/>
                    <a:pt x="290" y="503"/>
                    <a:pt x="292" y="507"/>
                  </a:cubicBezTo>
                  <a:close/>
                  <a:moveTo>
                    <a:pt x="308" y="603"/>
                  </a:moveTo>
                  <a:lnTo>
                    <a:pt x="314" y="651"/>
                  </a:lnTo>
                  <a:cubicBezTo>
                    <a:pt x="315" y="655"/>
                    <a:pt x="312" y="659"/>
                    <a:pt x="307" y="660"/>
                  </a:cubicBezTo>
                  <a:cubicBezTo>
                    <a:pt x="303" y="660"/>
                    <a:pt x="299" y="657"/>
                    <a:pt x="298" y="653"/>
                  </a:cubicBezTo>
                  <a:lnTo>
                    <a:pt x="293" y="605"/>
                  </a:lnTo>
                  <a:cubicBezTo>
                    <a:pt x="292" y="601"/>
                    <a:pt x="295" y="597"/>
                    <a:pt x="299" y="596"/>
                  </a:cubicBezTo>
                  <a:cubicBezTo>
                    <a:pt x="304" y="596"/>
                    <a:pt x="308" y="599"/>
                    <a:pt x="308" y="603"/>
                  </a:cubicBezTo>
                  <a:close/>
                  <a:moveTo>
                    <a:pt x="320" y="698"/>
                  </a:moveTo>
                  <a:lnTo>
                    <a:pt x="322" y="708"/>
                  </a:lnTo>
                  <a:cubicBezTo>
                    <a:pt x="322" y="709"/>
                    <a:pt x="322" y="709"/>
                    <a:pt x="322" y="710"/>
                  </a:cubicBezTo>
                  <a:lnTo>
                    <a:pt x="319" y="748"/>
                  </a:lnTo>
                  <a:cubicBezTo>
                    <a:pt x="318" y="752"/>
                    <a:pt x="314" y="755"/>
                    <a:pt x="310" y="755"/>
                  </a:cubicBezTo>
                  <a:cubicBezTo>
                    <a:pt x="306" y="755"/>
                    <a:pt x="302" y="751"/>
                    <a:pt x="303" y="746"/>
                  </a:cubicBezTo>
                  <a:lnTo>
                    <a:pt x="306" y="709"/>
                  </a:lnTo>
                  <a:lnTo>
                    <a:pt x="306" y="710"/>
                  </a:lnTo>
                  <a:lnTo>
                    <a:pt x="304" y="700"/>
                  </a:lnTo>
                  <a:cubicBezTo>
                    <a:pt x="304" y="696"/>
                    <a:pt x="307" y="692"/>
                    <a:pt x="311" y="691"/>
                  </a:cubicBezTo>
                  <a:cubicBezTo>
                    <a:pt x="316" y="691"/>
                    <a:pt x="320" y="694"/>
                    <a:pt x="320" y="698"/>
                  </a:cubicBezTo>
                  <a:close/>
                  <a:moveTo>
                    <a:pt x="315" y="796"/>
                  </a:moveTo>
                  <a:lnTo>
                    <a:pt x="311" y="843"/>
                  </a:lnTo>
                  <a:cubicBezTo>
                    <a:pt x="311" y="848"/>
                    <a:pt x="307" y="851"/>
                    <a:pt x="303" y="851"/>
                  </a:cubicBezTo>
                  <a:cubicBezTo>
                    <a:pt x="298" y="850"/>
                    <a:pt x="295" y="847"/>
                    <a:pt x="295" y="842"/>
                  </a:cubicBezTo>
                  <a:lnTo>
                    <a:pt x="299" y="794"/>
                  </a:lnTo>
                  <a:cubicBezTo>
                    <a:pt x="299" y="790"/>
                    <a:pt x="303" y="787"/>
                    <a:pt x="308" y="787"/>
                  </a:cubicBezTo>
                  <a:cubicBezTo>
                    <a:pt x="312" y="787"/>
                    <a:pt x="315" y="791"/>
                    <a:pt x="315" y="796"/>
                  </a:cubicBezTo>
                  <a:close/>
                  <a:moveTo>
                    <a:pt x="306" y="893"/>
                  </a:moveTo>
                  <a:lnTo>
                    <a:pt x="294" y="939"/>
                  </a:lnTo>
                  <a:cubicBezTo>
                    <a:pt x="292" y="943"/>
                    <a:pt x="288" y="946"/>
                    <a:pt x="284" y="944"/>
                  </a:cubicBezTo>
                  <a:cubicBezTo>
                    <a:pt x="279" y="943"/>
                    <a:pt x="277" y="939"/>
                    <a:pt x="278" y="935"/>
                  </a:cubicBezTo>
                  <a:lnTo>
                    <a:pt x="291" y="888"/>
                  </a:lnTo>
                  <a:cubicBezTo>
                    <a:pt x="292" y="884"/>
                    <a:pt x="297" y="882"/>
                    <a:pt x="301" y="883"/>
                  </a:cubicBezTo>
                  <a:cubicBezTo>
                    <a:pt x="305" y="884"/>
                    <a:pt x="308" y="888"/>
                    <a:pt x="306" y="893"/>
                  </a:cubicBezTo>
                  <a:close/>
                  <a:moveTo>
                    <a:pt x="281" y="985"/>
                  </a:moveTo>
                  <a:lnTo>
                    <a:pt x="268" y="1031"/>
                  </a:lnTo>
                  <a:cubicBezTo>
                    <a:pt x="266" y="1036"/>
                    <a:pt x="262" y="1038"/>
                    <a:pt x="258" y="1037"/>
                  </a:cubicBezTo>
                  <a:cubicBezTo>
                    <a:pt x="254" y="1036"/>
                    <a:pt x="251" y="1031"/>
                    <a:pt x="252" y="1027"/>
                  </a:cubicBezTo>
                  <a:lnTo>
                    <a:pt x="265" y="981"/>
                  </a:lnTo>
                  <a:cubicBezTo>
                    <a:pt x="266" y="977"/>
                    <a:pt x="271" y="974"/>
                    <a:pt x="275" y="975"/>
                  </a:cubicBezTo>
                  <a:cubicBezTo>
                    <a:pt x="279" y="976"/>
                    <a:pt x="282" y="981"/>
                    <a:pt x="281" y="985"/>
                  </a:cubicBezTo>
                  <a:close/>
                  <a:moveTo>
                    <a:pt x="253" y="1078"/>
                  </a:moveTo>
                  <a:lnTo>
                    <a:pt x="232" y="1122"/>
                  </a:lnTo>
                  <a:cubicBezTo>
                    <a:pt x="230" y="1126"/>
                    <a:pt x="225" y="1127"/>
                    <a:pt x="221" y="1125"/>
                  </a:cubicBezTo>
                  <a:cubicBezTo>
                    <a:pt x="217" y="1123"/>
                    <a:pt x="216" y="1119"/>
                    <a:pt x="217" y="1115"/>
                  </a:cubicBezTo>
                  <a:lnTo>
                    <a:pt x="238" y="1071"/>
                  </a:lnTo>
                  <a:cubicBezTo>
                    <a:pt x="240" y="1067"/>
                    <a:pt x="245" y="1066"/>
                    <a:pt x="249" y="1068"/>
                  </a:cubicBezTo>
                  <a:cubicBezTo>
                    <a:pt x="253" y="1070"/>
                    <a:pt x="255" y="1074"/>
                    <a:pt x="253" y="1078"/>
                  </a:cubicBezTo>
                  <a:close/>
                  <a:moveTo>
                    <a:pt x="211" y="1165"/>
                  </a:moveTo>
                  <a:lnTo>
                    <a:pt x="191" y="1208"/>
                  </a:lnTo>
                  <a:cubicBezTo>
                    <a:pt x="189" y="1212"/>
                    <a:pt x="184" y="1214"/>
                    <a:pt x="180" y="1212"/>
                  </a:cubicBezTo>
                  <a:cubicBezTo>
                    <a:pt x="176" y="1210"/>
                    <a:pt x="174" y="1205"/>
                    <a:pt x="176" y="1201"/>
                  </a:cubicBezTo>
                  <a:lnTo>
                    <a:pt x="197" y="1158"/>
                  </a:lnTo>
                  <a:cubicBezTo>
                    <a:pt x="199" y="1154"/>
                    <a:pt x="203" y="1152"/>
                    <a:pt x="207" y="1154"/>
                  </a:cubicBezTo>
                  <a:cubicBezTo>
                    <a:pt x="211" y="1156"/>
                    <a:pt x="213" y="1161"/>
                    <a:pt x="211" y="1165"/>
                  </a:cubicBezTo>
                  <a:close/>
                  <a:moveTo>
                    <a:pt x="169" y="1252"/>
                  </a:moveTo>
                  <a:lnTo>
                    <a:pt x="142" y="1292"/>
                  </a:lnTo>
                  <a:cubicBezTo>
                    <a:pt x="140" y="1296"/>
                    <a:pt x="135" y="1297"/>
                    <a:pt x="131" y="1294"/>
                  </a:cubicBezTo>
                  <a:cubicBezTo>
                    <a:pt x="127" y="1292"/>
                    <a:pt x="126" y="1287"/>
                    <a:pt x="129" y="1283"/>
                  </a:cubicBezTo>
                  <a:lnTo>
                    <a:pt x="156" y="1243"/>
                  </a:lnTo>
                  <a:cubicBezTo>
                    <a:pt x="158" y="1240"/>
                    <a:pt x="163" y="1239"/>
                    <a:pt x="167" y="1241"/>
                  </a:cubicBezTo>
                  <a:cubicBezTo>
                    <a:pt x="170" y="1244"/>
                    <a:pt x="171" y="1249"/>
                    <a:pt x="169" y="1252"/>
                  </a:cubicBezTo>
                  <a:close/>
                  <a:moveTo>
                    <a:pt x="115" y="1332"/>
                  </a:moveTo>
                  <a:lnTo>
                    <a:pt x="88" y="1372"/>
                  </a:lnTo>
                  <a:cubicBezTo>
                    <a:pt x="86" y="1375"/>
                    <a:pt x="81" y="1376"/>
                    <a:pt x="77" y="1374"/>
                  </a:cubicBezTo>
                  <a:cubicBezTo>
                    <a:pt x="74" y="1371"/>
                    <a:pt x="73" y="1366"/>
                    <a:pt x="75" y="1363"/>
                  </a:cubicBezTo>
                  <a:lnTo>
                    <a:pt x="102" y="1323"/>
                  </a:lnTo>
                  <a:cubicBezTo>
                    <a:pt x="104" y="1319"/>
                    <a:pt x="109" y="1318"/>
                    <a:pt x="113" y="1321"/>
                  </a:cubicBezTo>
                  <a:cubicBezTo>
                    <a:pt x="117" y="1323"/>
                    <a:pt x="118" y="1328"/>
                    <a:pt x="115" y="1332"/>
                  </a:cubicBezTo>
                  <a:close/>
                  <a:moveTo>
                    <a:pt x="62" y="1412"/>
                  </a:moveTo>
                  <a:lnTo>
                    <a:pt x="48" y="1431"/>
                  </a:lnTo>
                  <a:cubicBezTo>
                    <a:pt x="46" y="1435"/>
                    <a:pt x="41" y="1436"/>
                    <a:pt x="37" y="1433"/>
                  </a:cubicBezTo>
                  <a:cubicBezTo>
                    <a:pt x="33" y="1431"/>
                    <a:pt x="32" y="1426"/>
                    <a:pt x="35" y="1422"/>
                  </a:cubicBezTo>
                  <a:lnTo>
                    <a:pt x="48" y="1403"/>
                  </a:lnTo>
                  <a:cubicBezTo>
                    <a:pt x="51" y="1399"/>
                    <a:pt x="56" y="1398"/>
                    <a:pt x="59" y="1400"/>
                  </a:cubicBezTo>
                  <a:cubicBezTo>
                    <a:pt x="63" y="1403"/>
                    <a:pt x="64" y="1408"/>
                    <a:pt x="62" y="1412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0600" y="3960360"/>
              <a:ext cx="50760" cy="514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8" y="0"/>
                  </a:moveTo>
                  <a:lnTo>
                    <a:pt x="0" y="40"/>
                  </a:lnTo>
                  <a:lnTo>
                    <a:pt x="3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372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7372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7372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7372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7372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7372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372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372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6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66040" y="2241360"/>
              <a:ext cx="280800" cy="1105200"/>
            </a:xfrm>
            <a:custGeom>
              <a:avLst/>
              <a:gdLst/>
              <a:ahLst/>
              <a:rect l="l" t="t" r="r" b="b"/>
              <a:pathLst>
                <a:path w="332" h="1437">
                  <a:moveTo>
                    <a:pt x="15" y="4"/>
                  </a:moveTo>
                  <a:lnTo>
                    <a:pt x="44" y="43"/>
                  </a:lnTo>
                  <a:cubicBezTo>
                    <a:pt x="46" y="46"/>
                    <a:pt x="46" y="51"/>
                    <a:pt x="42" y="54"/>
                  </a:cubicBezTo>
                  <a:cubicBezTo>
                    <a:pt x="39" y="56"/>
                    <a:pt x="34" y="56"/>
                    <a:pt x="31" y="52"/>
                  </a:cubicBezTo>
                  <a:lnTo>
                    <a:pt x="2" y="14"/>
                  </a:lnTo>
                  <a:cubicBezTo>
                    <a:pt x="0" y="10"/>
                    <a:pt x="0" y="5"/>
                    <a:pt x="4" y="2"/>
                  </a:cubicBezTo>
                  <a:cubicBezTo>
                    <a:pt x="8" y="0"/>
                    <a:pt x="13" y="1"/>
                    <a:pt x="15" y="4"/>
                  </a:cubicBezTo>
                  <a:close/>
                  <a:moveTo>
                    <a:pt x="72" y="81"/>
                  </a:moveTo>
                  <a:lnTo>
                    <a:pt x="101" y="120"/>
                  </a:lnTo>
                  <a:cubicBezTo>
                    <a:pt x="104" y="123"/>
                    <a:pt x="103" y="128"/>
                    <a:pt x="99" y="131"/>
                  </a:cubicBezTo>
                  <a:cubicBezTo>
                    <a:pt x="96" y="134"/>
                    <a:pt x="91" y="133"/>
                    <a:pt x="88" y="129"/>
                  </a:cubicBezTo>
                  <a:lnTo>
                    <a:pt x="59" y="91"/>
                  </a:lnTo>
                  <a:cubicBezTo>
                    <a:pt x="57" y="87"/>
                    <a:pt x="58" y="82"/>
                    <a:pt x="61" y="80"/>
                  </a:cubicBezTo>
                  <a:cubicBezTo>
                    <a:pt x="65" y="77"/>
                    <a:pt x="70" y="78"/>
                    <a:pt x="72" y="81"/>
                  </a:cubicBezTo>
                  <a:close/>
                  <a:moveTo>
                    <a:pt x="129" y="158"/>
                  </a:moveTo>
                  <a:lnTo>
                    <a:pt x="150" y="186"/>
                  </a:lnTo>
                  <a:cubicBezTo>
                    <a:pt x="150" y="186"/>
                    <a:pt x="150" y="187"/>
                    <a:pt x="151" y="187"/>
                  </a:cubicBezTo>
                  <a:lnTo>
                    <a:pt x="157" y="199"/>
                  </a:lnTo>
                  <a:cubicBezTo>
                    <a:pt x="159" y="203"/>
                    <a:pt x="158" y="208"/>
                    <a:pt x="154" y="210"/>
                  </a:cubicBezTo>
                  <a:cubicBezTo>
                    <a:pt x="150" y="212"/>
                    <a:pt x="145" y="210"/>
                    <a:pt x="143" y="207"/>
                  </a:cubicBezTo>
                  <a:lnTo>
                    <a:pt x="136" y="195"/>
                  </a:lnTo>
                  <a:lnTo>
                    <a:pt x="137" y="196"/>
                  </a:lnTo>
                  <a:lnTo>
                    <a:pt x="117" y="168"/>
                  </a:lnTo>
                  <a:cubicBezTo>
                    <a:pt x="114" y="164"/>
                    <a:pt x="115" y="159"/>
                    <a:pt x="118" y="157"/>
                  </a:cubicBezTo>
                  <a:cubicBezTo>
                    <a:pt x="122" y="154"/>
                    <a:pt x="127" y="155"/>
                    <a:pt x="129" y="158"/>
                  </a:cubicBezTo>
                  <a:close/>
                  <a:moveTo>
                    <a:pt x="180" y="241"/>
                  </a:moveTo>
                  <a:lnTo>
                    <a:pt x="203" y="283"/>
                  </a:lnTo>
                  <a:cubicBezTo>
                    <a:pt x="205" y="287"/>
                    <a:pt x="203" y="292"/>
                    <a:pt x="199" y="294"/>
                  </a:cubicBezTo>
                  <a:cubicBezTo>
                    <a:pt x="195" y="296"/>
                    <a:pt x="191" y="295"/>
                    <a:pt x="188" y="291"/>
                  </a:cubicBezTo>
                  <a:lnTo>
                    <a:pt x="166" y="249"/>
                  </a:lnTo>
                  <a:cubicBezTo>
                    <a:pt x="164" y="245"/>
                    <a:pt x="165" y="240"/>
                    <a:pt x="169" y="238"/>
                  </a:cubicBezTo>
                  <a:cubicBezTo>
                    <a:pt x="173" y="236"/>
                    <a:pt x="178" y="237"/>
                    <a:pt x="180" y="241"/>
                  </a:cubicBezTo>
                  <a:close/>
                  <a:moveTo>
                    <a:pt x="225" y="326"/>
                  </a:moveTo>
                  <a:lnTo>
                    <a:pt x="248" y="368"/>
                  </a:lnTo>
                  <a:cubicBezTo>
                    <a:pt x="248" y="368"/>
                    <a:pt x="248" y="369"/>
                    <a:pt x="249" y="369"/>
                  </a:cubicBezTo>
                  <a:lnTo>
                    <a:pt x="249" y="369"/>
                  </a:lnTo>
                  <a:cubicBezTo>
                    <a:pt x="250" y="373"/>
                    <a:pt x="248" y="378"/>
                    <a:pt x="244" y="379"/>
                  </a:cubicBezTo>
                  <a:cubicBezTo>
                    <a:pt x="239" y="381"/>
                    <a:pt x="235" y="378"/>
                    <a:pt x="233" y="374"/>
                  </a:cubicBezTo>
                  <a:lnTo>
                    <a:pt x="233" y="374"/>
                  </a:lnTo>
                  <a:lnTo>
                    <a:pt x="234" y="375"/>
                  </a:lnTo>
                  <a:lnTo>
                    <a:pt x="211" y="333"/>
                  </a:lnTo>
                  <a:cubicBezTo>
                    <a:pt x="209" y="329"/>
                    <a:pt x="211" y="325"/>
                    <a:pt x="215" y="322"/>
                  </a:cubicBezTo>
                  <a:cubicBezTo>
                    <a:pt x="218" y="320"/>
                    <a:pt x="223" y="322"/>
                    <a:pt x="225" y="326"/>
                  </a:cubicBezTo>
                  <a:close/>
                  <a:moveTo>
                    <a:pt x="264" y="415"/>
                  </a:moveTo>
                  <a:lnTo>
                    <a:pt x="279" y="460"/>
                  </a:lnTo>
                  <a:cubicBezTo>
                    <a:pt x="281" y="464"/>
                    <a:pt x="278" y="469"/>
                    <a:pt x="274" y="470"/>
                  </a:cubicBezTo>
                  <a:cubicBezTo>
                    <a:pt x="270" y="472"/>
                    <a:pt x="265" y="469"/>
                    <a:pt x="264" y="465"/>
                  </a:cubicBezTo>
                  <a:lnTo>
                    <a:pt x="249" y="420"/>
                  </a:lnTo>
                  <a:cubicBezTo>
                    <a:pt x="247" y="416"/>
                    <a:pt x="250" y="411"/>
                    <a:pt x="254" y="410"/>
                  </a:cubicBezTo>
                  <a:cubicBezTo>
                    <a:pt x="258" y="408"/>
                    <a:pt x="263" y="411"/>
                    <a:pt x="264" y="415"/>
                  </a:cubicBezTo>
                  <a:close/>
                  <a:moveTo>
                    <a:pt x="295" y="506"/>
                  </a:moveTo>
                  <a:lnTo>
                    <a:pt x="309" y="548"/>
                  </a:lnTo>
                  <a:cubicBezTo>
                    <a:pt x="309" y="549"/>
                    <a:pt x="309" y="549"/>
                    <a:pt x="309" y="550"/>
                  </a:cubicBezTo>
                  <a:lnTo>
                    <a:pt x="310" y="553"/>
                  </a:lnTo>
                  <a:cubicBezTo>
                    <a:pt x="310" y="557"/>
                    <a:pt x="307" y="561"/>
                    <a:pt x="303" y="562"/>
                  </a:cubicBezTo>
                  <a:cubicBezTo>
                    <a:pt x="298" y="562"/>
                    <a:pt x="294" y="559"/>
                    <a:pt x="294" y="555"/>
                  </a:cubicBezTo>
                  <a:lnTo>
                    <a:pt x="293" y="552"/>
                  </a:lnTo>
                  <a:lnTo>
                    <a:pt x="294" y="554"/>
                  </a:lnTo>
                  <a:lnTo>
                    <a:pt x="279" y="511"/>
                  </a:lnTo>
                  <a:cubicBezTo>
                    <a:pt x="278" y="507"/>
                    <a:pt x="280" y="502"/>
                    <a:pt x="284" y="501"/>
                  </a:cubicBezTo>
                  <a:cubicBezTo>
                    <a:pt x="289" y="499"/>
                    <a:pt x="293" y="502"/>
                    <a:pt x="295" y="506"/>
                  </a:cubicBezTo>
                  <a:close/>
                  <a:moveTo>
                    <a:pt x="316" y="600"/>
                  </a:moveTo>
                  <a:lnTo>
                    <a:pt x="322" y="648"/>
                  </a:lnTo>
                  <a:cubicBezTo>
                    <a:pt x="322" y="652"/>
                    <a:pt x="319" y="656"/>
                    <a:pt x="315" y="657"/>
                  </a:cubicBezTo>
                  <a:cubicBezTo>
                    <a:pt x="311" y="658"/>
                    <a:pt x="307" y="654"/>
                    <a:pt x="306" y="650"/>
                  </a:cubicBezTo>
                  <a:lnTo>
                    <a:pt x="300" y="603"/>
                  </a:lnTo>
                  <a:cubicBezTo>
                    <a:pt x="299" y="598"/>
                    <a:pt x="302" y="594"/>
                    <a:pt x="307" y="594"/>
                  </a:cubicBezTo>
                  <a:cubicBezTo>
                    <a:pt x="311" y="593"/>
                    <a:pt x="315" y="596"/>
                    <a:pt x="316" y="600"/>
                  </a:cubicBezTo>
                  <a:close/>
                  <a:moveTo>
                    <a:pt x="328" y="696"/>
                  </a:moveTo>
                  <a:lnTo>
                    <a:pt x="332" y="728"/>
                  </a:lnTo>
                  <a:cubicBezTo>
                    <a:pt x="332" y="729"/>
                    <a:pt x="332" y="729"/>
                    <a:pt x="332" y="730"/>
                  </a:cubicBezTo>
                  <a:lnTo>
                    <a:pt x="331" y="745"/>
                  </a:lnTo>
                  <a:cubicBezTo>
                    <a:pt x="331" y="749"/>
                    <a:pt x="327" y="753"/>
                    <a:pt x="322" y="752"/>
                  </a:cubicBezTo>
                  <a:cubicBezTo>
                    <a:pt x="318" y="752"/>
                    <a:pt x="315" y="748"/>
                    <a:pt x="315" y="744"/>
                  </a:cubicBezTo>
                  <a:lnTo>
                    <a:pt x="316" y="728"/>
                  </a:lnTo>
                  <a:lnTo>
                    <a:pt x="316" y="730"/>
                  </a:lnTo>
                  <a:lnTo>
                    <a:pt x="312" y="698"/>
                  </a:lnTo>
                  <a:cubicBezTo>
                    <a:pt x="312" y="693"/>
                    <a:pt x="315" y="689"/>
                    <a:pt x="319" y="689"/>
                  </a:cubicBezTo>
                  <a:cubicBezTo>
                    <a:pt x="323" y="688"/>
                    <a:pt x="327" y="691"/>
                    <a:pt x="328" y="696"/>
                  </a:cubicBezTo>
                  <a:close/>
                  <a:moveTo>
                    <a:pt x="327" y="793"/>
                  </a:moveTo>
                  <a:lnTo>
                    <a:pt x="323" y="841"/>
                  </a:lnTo>
                  <a:cubicBezTo>
                    <a:pt x="323" y="845"/>
                    <a:pt x="319" y="848"/>
                    <a:pt x="315" y="848"/>
                  </a:cubicBezTo>
                  <a:cubicBezTo>
                    <a:pt x="310" y="848"/>
                    <a:pt x="307" y="844"/>
                    <a:pt x="307" y="839"/>
                  </a:cubicBezTo>
                  <a:lnTo>
                    <a:pt x="311" y="792"/>
                  </a:lnTo>
                  <a:cubicBezTo>
                    <a:pt x="312" y="787"/>
                    <a:pt x="315" y="784"/>
                    <a:pt x="320" y="784"/>
                  </a:cubicBezTo>
                  <a:cubicBezTo>
                    <a:pt x="324" y="785"/>
                    <a:pt x="327" y="788"/>
                    <a:pt x="327" y="793"/>
                  </a:cubicBezTo>
                  <a:close/>
                  <a:moveTo>
                    <a:pt x="319" y="889"/>
                  </a:moveTo>
                  <a:lnTo>
                    <a:pt x="318" y="906"/>
                  </a:lnTo>
                  <a:cubicBezTo>
                    <a:pt x="318" y="907"/>
                    <a:pt x="318" y="907"/>
                    <a:pt x="318" y="908"/>
                  </a:cubicBezTo>
                  <a:lnTo>
                    <a:pt x="309" y="937"/>
                  </a:lnTo>
                  <a:cubicBezTo>
                    <a:pt x="308" y="941"/>
                    <a:pt x="303" y="944"/>
                    <a:pt x="299" y="942"/>
                  </a:cubicBezTo>
                  <a:cubicBezTo>
                    <a:pt x="295" y="941"/>
                    <a:pt x="293" y="937"/>
                    <a:pt x="294" y="932"/>
                  </a:cubicBezTo>
                  <a:lnTo>
                    <a:pt x="302" y="903"/>
                  </a:lnTo>
                  <a:lnTo>
                    <a:pt x="302" y="905"/>
                  </a:lnTo>
                  <a:lnTo>
                    <a:pt x="303" y="887"/>
                  </a:lnTo>
                  <a:cubicBezTo>
                    <a:pt x="304" y="883"/>
                    <a:pt x="308" y="880"/>
                    <a:pt x="312" y="880"/>
                  </a:cubicBezTo>
                  <a:cubicBezTo>
                    <a:pt x="316" y="880"/>
                    <a:pt x="320" y="884"/>
                    <a:pt x="319" y="889"/>
                  </a:cubicBezTo>
                  <a:close/>
                  <a:moveTo>
                    <a:pt x="296" y="983"/>
                  </a:moveTo>
                  <a:lnTo>
                    <a:pt x="282" y="1029"/>
                  </a:lnTo>
                  <a:cubicBezTo>
                    <a:pt x="281" y="1033"/>
                    <a:pt x="276" y="1036"/>
                    <a:pt x="272" y="1034"/>
                  </a:cubicBezTo>
                  <a:cubicBezTo>
                    <a:pt x="268" y="1033"/>
                    <a:pt x="265" y="1029"/>
                    <a:pt x="267" y="1024"/>
                  </a:cubicBezTo>
                  <a:lnTo>
                    <a:pt x="280" y="978"/>
                  </a:lnTo>
                  <a:cubicBezTo>
                    <a:pt x="282" y="974"/>
                    <a:pt x="286" y="972"/>
                    <a:pt x="290" y="973"/>
                  </a:cubicBezTo>
                  <a:cubicBezTo>
                    <a:pt x="294" y="974"/>
                    <a:pt x="297" y="979"/>
                    <a:pt x="296" y="983"/>
                  </a:cubicBezTo>
                  <a:close/>
                  <a:moveTo>
                    <a:pt x="269" y="1075"/>
                  </a:moveTo>
                  <a:lnTo>
                    <a:pt x="266" y="1083"/>
                  </a:lnTo>
                  <a:cubicBezTo>
                    <a:pt x="266" y="1084"/>
                    <a:pt x="266" y="1084"/>
                    <a:pt x="266" y="1085"/>
                  </a:cubicBezTo>
                  <a:lnTo>
                    <a:pt x="248" y="1120"/>
                  </a:lnTo>
                  <a:cubicBezTo>
                    <a:pt x="246" y="1124"/>
                    <a:pt x="241" y="1125"/>
                    <a:pt x="237" y="1123"/>
                  </a:cubicBezTo>
                  <a:cubicBezTo>
                    <a:pt x="233" y="1121"/>
                    <a:pt x="231" y="1116"/>
                    <a:pt x="233" y="1112"/>
                  </a:cubicBezTo>
                  <a:lnTo>
                    <a:pt x="251" y="1077"/>
                  </a:lnTo>
                  <a:lnTo>
                    <a:pt x="251" y="1079"/>
                  </a:lnTo>
                  <a:lnTo>
                    <a:pt x="253" y="1071"/>
                  </a:lnTo>
                  <a:cubicBezTo>
                    <a:pt x="254" y="1066"/>
                    <a:pt x="259" y="1064"/>
                    <a:pt x="263" y="1065"/>
                  </a:cubicBezTo>
                  <a:cubicBezTo>
                    <a:pt x="267" y="1066"/>
                    <a:pt x="270" y="1071"/>
                    <a:pt x="269" y="1075"/>
                  </a:cubicBezTo>
                  <a:close/>
                  <a:moveTo>
                    <a:pt x="226" y="1163"/>
                  </a:moveTo>
                  <a:lnTo>
                    <a:pt x="204" y="1205"/>
                  </a:lnTo>
                  <a:cubicBezTo>
                    <a:pt x="202" y="1209"/>
                    <a:pt x="197" y="1211"/>
                    <a:pt x="193" y="1209"/>
                  </a:cubicBezTo>
                  <a:cubicBezTo>
                    <a:pt x="189" y="1207"/>
                    <a:pt x="188" y="1202"/>
                    <a:pt x="190" y="1198"/>
                  </a:cubicBezTo>
                  <a:lnTo>
                    <a:pt x="212" y="1155"/>
                  </a:lnTo>
                  <a:cubicBezTo>
                    <a:pt x="214" y="1151"/>
                    <a:pt x="218" y="1150"/>
                    <a:pt x="222" y="1152"/>
                  </a:cubicBezTo>
                  <a:cubicBezTo>
                    <a:pt x="226" y="1154"/>
                    <a:pt x="228" y="1159"/>
                    <a:pt x="226" y="1163"/>
                  </a:cubicBezTo>
                  <a:close/>
                  <a:moveTo>
                    <a:pt x="182" y="1248"/>
                  </a:moveTo>
                  <a:lnTo>
                    <a:pt x="177" y="1259"/>
                  </a:lnTo>
                  <a:cubicBezTo>
                    <a:pt x="177" y="1259"/>
                    <a:pt x="176" y="1259"/>
                    <a:pt x="176" y="1260"/>
                  </a:cubicBezTo>
                  <a:lnTo>
                    <a:pt x="155" y="1289"/>
                  </a:lnTo>
                  <a:cubicBezTo>
                    <a:pt x="152" y="1292"/>
                    <a:pt x="147" y="1293"/>
                    <a:pt x="144" y="1291"/>
                  </a:cubicBezTo>
                  <a:cubicBezTo>
                    <a:pt x="140" y="1288"/>
                    <a:pt x="139" y="1283"/>
                    <a:pt x="142" y="1279"/>
                  </a:cubicBezTo>
                  <a:lnTo>
                    <a:pt x="163" y="1250"/>
                  </a:lnTo>
                  <a:lnTo>
                    <a:pt x="163" y="1251"/>
                  </a:lnTo>
                  <a:lnTo>
                    <a:pt x="168" y="1241"/>
                  </a:lnTo>
                  <a:cubicBezTo>
                    <a:pt x="170" y="1237"/>
                    <a:pt x="175" y="1235"/>
                    <a:pt x="179" y="1237"/>
                  </a:cubicBezTo>
                  <a:cubicBezTo>
                    <a:pt x="183" y="1239"/>
                    <a:pt x="184" y="1244"/>
                    <a:pt x="182" y="1248"/>
                  </a:cubicBezTo>
                  <a:close/>
                  <a:moveTo>
                    <a:pt x="126" y="1328"/>
                  </a:moveTo>
                  <a:lnTo>
                    <a:pt x="98" y="1366"/>
                  </a:lnTo>
                  <a:cubicBezTo>
                    <a:pt x="96" y="1370"/>
                    <a:pt x="91" y="1371"/>
                    <a:pt x="87" y="1368"/>
                  </a:cubicBezTo>
                  <a:cubicBezTo>
                    <a:pt x="83" y="1366"/>
                    <a:pt x="83" y="1361"/>
                    <a:pt x="85" y="1357"/>
                  </a:cubicBezTo>
                  <a:lnTo>
                    <a:pt x="114" y="1318"/>
                  </a:lnTo>
                  <a:cubicBezTo>
                    <a:pt x="116" y="1315"/>
                    <a:pt x="121" y="1314"/>
                    <a:pt x="125" y="1316"/>
                  </a:cubicBezTo>
                  <a:cubicBezTo>
                    <a:pt x="128" y="1319"/>
                    <a:pt x="129" y="1324"/>
                    <a:pt x="126" y="1328"/>
                  </a:cubicBezTo>
                  <a:close/>
                  <a:moveTo>
                    <a:pt x="70" y="1405"/>
                  </a:moveTo>
                  <a:lnTo>
                    <a:pt x="50" y="1432"/>
                  </a:lnTo>
                  <a:cubicBezTo>
                    <a:pt x="47" y="1436"/>
                    <a:pt x="42" y="1437"/>
                    <a:pt x="39" y="1434"/>
                  </a:cubicBezTo>
                  <a:cubicBezTo>
                    <a:pt x="35" y="1431"/>
                    <a:pt x="35" y="1426"/>
                    <a:pt x="37" y="1423"/>
                  </a:cubicBezTo>
                  <a:lnTo>
                    <a:pt x="57" y="1396"/>
                  </a:lnTo>
                  <a:cubicBezTo>
                    <a:pt x="60" y="1392"/>
                    <a:pt x="65" y="1391"/>
                    <a:pt x="68" y="1394"/>
                  </a:cubicBezTo>
                  <a:cubicBezTo>
                    <a:pt x="72" y="1397"/>
                    <a:pt x="72" y="1402"/>
                    <a:pt x="70" y="1405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74680" y="3319560"/>
              <a:ext cx="51840" cy="51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0" y="0"/>
                  </a:moveTo>
                  <a:lnTo>
                    <a:pt x="0" y="40"/>
                  </a:lnTo>
                  <a:lnTo>
                    <a:pt x="37" y="2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040" y="2882160"/>
              <a:ext cx="280800" cy="1105200"/>
            </a:xfrm>
            <a:custGeom>
              <a:avLst/>
              <a:gdLst/>
              <a:ahLst/>
              <a:rect l="l" t="t" r="r" b="b"/>
              <a:pathLst>
                <a:path w="332" h="1436">
                  <a:moveTo>
                    <a:pt x="15" y="5"/>
                  </a:moveTo>
                  <a:lnTo>
                    <a:pt x="45" y="42"/>
                  </a:lnTo>
                  <a:cubicBezTo>
                    <a:pt x="47" y="46"/>
                    <a:pt x="47" y="51"/>
                    <a:pt x="43" y="54"/>
                  </a:cubicBezTo>
                  <a:cubicBezTo>
                    <a:pt x="40" y="56"/>
                    <a:pt x="35" y="56"/>
                    <a:pt x="32" y="52"/>
                  </a:cubicBezTo>
                  <a:lnTo>
                    <a:pt x="2" y="14"/>
                  </a:lnTo>
                  <a:cubicBezTo>
                    <a:pt x="0" y="11"/>
                    <a:pt x="0" y="6"/>
                    <a:pt x="4" y="3"/>
                  </a:cubicBezTo>
                  <a:cubicBezTo>
                    <a:pt x="7" y="0"/>
                    <a:pt x="12" y="1"/>
                    <a:pt x="15" y="5"/>
                  </a:cubicBezTo>
                  <a:close/>
                  <a:moveTo>
                    <a:pt x="74" y="80"/>
                  </a:moveTo>
                  <a:lnTo>
                    <a:pt x="104" y="118"/>
                  </a:lnTo>
                  <a:cubicBezTo>
                    <a:pt x="106" y="122"/>
                    <a:pt x="106" y="127"/>
                    <a:pt x="102" y="129"/>
                  </a:cubicBezTo>
                  <a:cubicBezTo>
                    <a:pt x="99" y="132"/>
                    <a:pt x="94" y="132"/>
                    <a:pt x="91" y="128"/>
                  </a:cubicBezTo>
                  <a:lnTo>
                    <a:pt x="61" y="90"/>
                  </a:lnTo>
                  <a:cubicBezTo>
                    <a:pt x="59" y="87"/>
                    <a:pt x="59" y="82"/>
                    <a:pt x="63" y="79"/>
                  </a:cubicBezTo>
                  <a:cubicBezTo>
                    <a:pt x="66" y="76"/>
                    <a:pt x="71" y="77"/>
                    <a:pt x="74" y="80"/>
                  </a:cubicBezTo>
                  <a:close/>
                  <a:moveTo>
                    <a:pt x="133" y="156"/>
                  </a:moveTo>
                  <a:lnTo>
                    <a:pt x="150" y="178"/>
                  </a:lnTo>
                  <a:cubicBezTo>
                    <a:pt x="150" y="178"/>
                    <a:pt x="150" y="179"/>
                    <a:pt x="151" y="179"/>
                  </a:cubicBezTo>
                  <a:lnTo>
                    <a:pt x="161" y="197"/>
                  </a:lnTo>
                  <a:cubicBezTo>
                    <a:pt x="163" y="201"/>
                    <a:pt x="161" y="205"/>
                    <a:pt x="157" y="208"/>
                  </a:cubicBezTo>
                  <a:cubicBezTo>
                    <a:pt x="154" y="210"/>
                    <a:pt x="149" y="208"/>
                    <a:pt x="147" y="204"/>
                  </a:cubicBezTo>
                  <a:lnTo>
                    <a:pt x="137" y="187"/>
                  </a:lnTo>
                  <a:lnTo>
                    <a:pt x="137" y="188"/>
                  </a:lnTo>
                  <a:lnTo>
                    <a:pt x="120" y="166"/>
                  </a:lnTo>
                  <a:cubicBezTo>
                    <a:pt x="118" y="162"/>
                    <a:pt x="118" y="157"/>
                    <a:pt x="122" y="155"/>
                  </a:cubicBezTo>
                  <a:cubicBezTo>
                    <a:pt x="125" y="152"/>
                    <a:pt x="130" y="153"/>
                    <a:pt x="133" y="156"/>
                  </a:cubicBezTo>
                  <a:close/>
                  <a:moveTo>
                    <a:pt x="184" y="239"/>
                  </a:moveTo>
                  <a:lnTo>
                    <a:pt x="207" y="280"/>
                  </a:lnTo>
                  <a:cubicBezTo>
                    <a:pt x="210" y="284"/>
                    <a:pt x="208" y="289"/>
                    <a:pt x="204" y="291"/>
                  </a:cubicBezTo>
                  <a:cubicBezTo>
                    <a:pt x="200" y="294"/>
                    <a:pt x="196" y="292"/>
                    <a:pt x="193" y="288"/>
                  </a:cubicBezTo>
                  <a:lnTo>
                    <a:pt x="170" y="246"/>
                  </a:lnTo>
                  <a:cubicBezTo>
                    <a:pt x="168" y="243"/>
                    <a:pt x="169" y="238"/>
                    <a:pt x="173" y="235"/>
                  </a:cubicBezTo>
                  <a:cubicBezTo>
                    <a:pt x="177" y="233"/>
                    <a:pt x="182" y="235"/>
                    <a:pt x="184" y="239"/>
                  </a:cubicBezTo>
                  <a:close/>
                  <a:moveTo>
                    <a:pt x="231" y="322"/>
                  </a:moveTo>
                  <a:lnTo>
                    <a:pt x="248" y="353"/>
                  </a:lnTo>
                  <a:cubicBezTo>
                    <a:pt x="248" y="354"/>
                    <a:pt x="249" y="354"/>
                    <a:pt x="249" y="355"/>
                  </a:cubicBezTo>
                  <a:lnTo>
                    <a:pt x="253" y="366"/>
                  </a:lnTo>
                  <a:cubicBezTo>
                    <a:pt x="254" y="371"/>
                    <a:pt x="252" y="375"/>
                    <a:pt x="248" y="377"/>
                  </a:cubicBezTo>
                  <a:cubicBezTo>
                    <a:pt x="244" y="378"/>
                    <a:pt x="239" y="376"/>
                    <a:pt x="238" y="372"/>
                  </a:cubicBezTo>
                  <a:lnTo>
                    <a:pt x="234" y="360"/>
                  </a:lnTo>
                  <a:lnTo>
                    <a:pt x="234" y="361"/>
                  </a:lnTo>
                  <a:lnTo>
                    <a:pt x="217" y="330"/>
                  </a:lnTo>
                  <a:cubicBezTo>
                    <a:pt x="215" y="326"/>
                    <a:pt x="216" y="321"/>
                    <a:pt x="220" y="319"/>
                  </a:cubicBezTo>
                  <a:cubicBezTo>
                    <a:pt x="224" y="317"/>
                    <a:pt x="229" y="319"/>
                    <a:pt x="231" y="322"/>
                  </a:cubicBezTo>
                  <a:close/>
                  <a:moveTo>
                    <a:pt x="268" y="412"/>
                  </a:moveTo>
                  <a:lnTo>
                    <a:pt x="284" y="457"/>
                  </a:lnTo>
                  <a:cubicBezTo>
                    <a:pt x="285" y="461"/>
                    <a:pt x="283" y="466"/>
                    <a:pt x="279" y="467"/>
                  </a:cubicBezTo>
                  <a:cubicBezTo>
                    <a:pt x="275" y="469"/>
                    <a:pt x="270" y="467"/>
                    <a:pt x="269" y="462"/>
                  </a:cubicBezTo>
                  <a:lnTo>
                    <a:pt x="253" y="417"/>
                  </a:lnTo>
                  <a:cubicBezTo>
                    <a:pt x="252" y="413"/>
                    <a:pt x="254" y="408"/>
                    <a:pt x="258" y="407"/>
                  </a:cubicBezTo>
                  <a:cubicBezTo>
                    <a:pt x="262" y="405"/>
                    <a:pt x="267" y="408"/>
                    <a:pt x="268" y="412"/>
                  </a:cubicBezTo>
                  <a:close/>
                  <a:moveTo>
                    <a:pt x="300" y="503"/>
                  </a:moveTo>
                  <a:lnTo>
                    <a:pt x="309" y="530"/>
                  </a:lnTo>
                  <a:cubicBezTo>
                    <a:pt x="309" y="531"/>
                    <a:pt x="309" y="531"/>
                    <a:pt x="309" y="532"/>
                  </a:cubicBezTo>
                  <a:lnTo>
                    <a:pt x="312" y="551"/>
                  </a:lnTo>
                  <a:cubicBezTo>
                    <a:pt x="312" y="555"/>
                    <a:pt x="309" y="559"/>
                    <a:pt x="305" y="559"/>
                  </a:cubicBezTo>
                  <a:cubicBezTo>
                    <a:pt x="300" y="560"/>
                    <a:pt x="296" y="557"/>
                    <a:pt x="296" y="553"/>
                  </a:cubicBezTo>
                  <a:lnTo>
                    <a:pt x="293" y="534"/>
                  </a:lnTo>
                  <a:lnTo>
                    <a:pt x="294" y="535"/>
                  </a:lnTo>
                  <a:lnTo>
                    <a:pt x="284" y="508"/>
                  </a:lnTo>
                  <a:cubicBezTo>
                    <a:pt x="283" y="504"/>
                    <a:pt x="285" y="499"/>
                    <a:pt x="289" y="498"/>
                  </a:cubicBezTo>
                  <a:cubicBezTo>
                    <a:pt x="294" y="496"/>
                    <a:pt x="298" y="499"/>
                    <a:pt x="300" y="503"/>
                  </a:cubicBezTo>
                  <a:close/>
                  <a:moveTo>
                    <a:pt x="318" y="598"/>
                  </a:moveTo>
                  <a:lnTo>
                    <a:pt x="324" y="646"/>
                  </a:lnTo>
                  <a:cubicBezTo>
                    <a:pt x="325" y="650"/>
                    <a:pt x="322" y="654"/>
                    <a:pt x="317" y="655"/>
                  </a:cubicBezTo>
                  <a:cubicBezTo>
                    <a:pt x="313" y="655"/>
                    <a:pt x="309" y="652"/>
                    <a:pt x="308" y="648"/>
                  </a:cubicBezTo>
                  <a:lnTo>
                    <a:pt x="302" y="600"/>
                  </a:lnTo>
                  <a:cubicBezTo>
                    <a:pt x="301" y="596"/>
                    <a:pt x="305" y="592"/>
                    <a:pt x="309" y="591"/>
                  </a:cubicBezTo>
                  <a:cubicBezTo>
                    <a:pt x="313" y="591"/>
                    <a:pt x="317" y="594"/>
                    <a:pt x="318" y="598"/>
                  </a:cubicBezTo>
                  <a:close/>
                  <a:moveTo>
                    <a:pt x="330" y="693"/>
                  </a:moveTo>
                  <a:lnTo>
                    <a:pt x="332" y="708"/>
                  </a:lnTo>
                  <a:cubicBezTo>
                    <a:pt x="332" y="709"/>
                    <a:pt x="332" y="710"/>
                    <a:pt x="332" y="710"/>
                  </a:cubicBezTo>
                  <a:lnTo>
                    <a:pt x="330" y="743"/>
                  </a:lnTo>
                  <a:cubicBezTo>
                    <a:pt x="329" y="747"/>
                    <a:pt x="325" y="750"/>
                    <a:pt x="321" y="750"/>
                  </a:cubicBezTo>
                  <a:cubicBezTo>
                    <a:pt x="317" y="750"/>
                    <a:pt x="313" y="746"/>
                    <a:pt x="314" y="741"/>
                  </a:cubicBezTo>
                  <a:lnTo>
                    <a:pt x="316" y="709"/>
                  </a:lnTo>
                  <a:lnTo>
                    <a:pt x="316" y="711"/>
                  </a:lnTo>
                  <a:lnTo>
                    <a:pt x="314" y="695"/>
                  </a:lnTo>
                  <a:cubicBezTo>
                    <a:pt x="314" y="691"/>
                    <a:pt x="317" y="687"/>
                    <a:pt x="321" y="686"/>
                  </a:cubicBezTo>
                  <a:cubicBezTo>
                    <a:pt x="326" y="686"/>
                    <a:pt x="330" y="689"/>
                    <a:pt x="330" y="693"/>
                  </a:cubicBezTo>
                  <a:close/>
                  <a:moveTo>
                    <a:pt x="326" y="791"/>
                  </a:moveTo>
                  <a:lnTo>
                    <a:pt x="322" y="838"/>
                  </a:lnTo>
                  <a:cubicBezTo>
                    <a:pt x="321" y="843"/>
                    <a:pt x="318" y="846"/>
                    <a:pt x="313" y="846"/>
                  </a:cubicBezTo>
                  <a:cubicBezTo>
                    <a:pt x="309" y="845"/>
                    <a:pt x="306" y="842"/>
                    <a:pt x="306" y="837"/>
                  </a:cubicBezTo>
                  <a:lnTo>
                    <a:pt x="310" y="789"/>
                  </a:lnTo>
                  <a:cubicBezTo>
                    <a:pt x="310" y="785"/>
                    <a:pt x="314" y="782"/>
                    <a:pt x="318" y="782"/>
                  </a:cubicBezTo>
                  <a:cubicBezTo>
                    <a:pt x="323" y="782"/>
                    <a:pt x="326" y="786"/>
                    <a:pt x="326" y="791"/>
                  </a:cubicBezTo>
                  <a:close/>
                  <a:moveTo>
                    <a:pt x="318" y="886"/>
                  </a:moveTo>
                  <a:lnTo>
                    <a:pt x="318" y="888"/>
                  </a:lnTo>
                  <a:cubicBezTo>
                    <a:pt x="318" y="888"/>
                    <a:pt x="318" y="889"/>
                    <a:pt x="318" y="890"/>
                  </a:cubicBezTo>
                  <a:lnTo>
                    <a:pt x="305" y="934"/>
                  </a:lnTo>
                  <a:cubicBezTo>
                    <a:pt x="303" y="938"/>
                    <a:pt x="299" y="941"/>
                    <a:pt x="295" y="940"/>
                  </a:cubicBezTo>
                  <a:cubicBezTo>
                    <a:pt x="290" y="938"/>
                    <a:pt x="288" y="934"/>
                    <a:pt x="289" y="930"/>
                  </a:cubicBezTo>
                  <a:lnTo>
                    <a:pt x="302" y="885"/>
                  </a:lnTo>
                  <a:lnTo>
                    <a:pt x="302" y="887"/>
                  </a:lnTo>
                  <a:lnTo>
                    <a:pt x="302" y="885"/>
                  </a:lnTo>
                  <a:cubicBezTo>
                    <a:pt x="302" y="881"/>
                    <a:pt x="306" y="877"/>
                    <a:pt x="311" y="878"/>
                  </a:cubicBezTo>
                  <a:cubicBezTo>
                    <a:pt x="315" y="878"/>
                    <a:pt x="318" y="882"/>
                    <a:pt x="318" y="886"/>
                  </a:cubicBezTo>
                  <a:close/>
                  <a:moveTo>
                    <a:pt x="291" y="980"/>
                  </a:moveTo>
                  <a:lnTo>
                    <a:pt x="278" y="1026"/>
                  </a:lnTo>
                  <a:cubicBezTo>
                    <a:pt x="277" y="1031"/>
                    <a:pt x="272" y="1033"/>
                    <a:pt x="268" y="1032"/>
                  </a:cubicBezTo>
                  <a:cubicBezTo>
                    <a:pt x="264" y="1030"/>
                    <a:pt x="261" y="1026"/>
                    <a:pt x="263" y="1022"/>
                  </a:cubicBezTo>
                  <a:lnTo>
                    <a:pt x="276" y="976"/>
                  </a:lnTo>
                  <a:cubicBezTo>
                    <a:pt x="277" y="971"/>
                    <a:pt x="282" y="969"/>
                    <a:pt x="286" y="970"/>
                  </a:cubicBezTo>
                  <a:cubicBezTo>
                    <a:pt x="290" y="971"/>
                    <a:pt x="293" y="976"/>
                    <a:pt x="291" y="980"/>
                  </a:cubicBezTo>
                  <a:close/>
                  <a:moveTo>
                    <a:pt x="263" y="1073"/>
                  </a:moveTo>
                  <a:lnTo>
                    <a:pt x="242" y="1116"/>
                  </a:lnTo>
                  <a:cubicBezTo>
                    <a:pt x="240" y="1120"/>
                    <a:pt x="235" y="1122"/>
                    <a:pt x="231" y="1120"/>
                  </a:cubicBezTo>
                  <a:cubicBezTo>
                    <a:pt x="227" y="1118"/>
                    <a:pt x="226" y="1113"/>
                    <a:pt x="228" y="1109"/>
                  </a:cubicBezTo>
                  <a:lnTo>
                    <a:pt x="249" y="1066"/>
                  </a:lnTo>
                  <a:cubicBezTo>
                    <a:pt x="251" y="1062"/>
                    <a:pt x="256" y="1061"/>
                    <a:pt x="260" y="1063"/>
                  </a:cubicBezTo>
                  <a:cubicBezTo>
                    <a:pt x="264" y="1065"/>
                    <a:pt x="265" y="1069"/>
                    <a:pt x="263" y="1073"/>
                  </a:cubicBezTo>
                  <a:close/>
                  <a:moveTo>
                    <a:pt x="221" y="1159"/>
                  </a:moveTo>
                  <a:lnTo>
                    <a:pt x="199" y="1202"/>
                  </a:lnTo>
                  <a:cubicBezTo>
                    <a:pt x="198" y="1206"/>
                    <a:pt x="193" y="1208"/>
                    <a:pt x="189" y="1206"/>
                  </a:cubicBezTo>
                  <a:cubicBezTo>
                    <a:pt x="185" y="1204"/>
                    <a:pt x="183" y="1199"/>
                    <a:pt x="185" y="1195"/>
                  </a:cubicBezTo>
                  <a:lnTo>
                    <a:pt x="206" y="1152"/>
                  </a:lnTo>
                  <a:cubicBezTo>
                    <a:pt x="208" y="1148"/>
                    <a:pt x="213" y="1147"/>
                    <a:pt x="217" y="1149"/>
                  </a:cubicBezTo>
                  <a:cubicBezTo>
                    <a:pt x="221" y="1151"/>
                    <a:pt x="223" y="1156"/>
                    <a:pt x="221" y="1159"/>
                  </a:cubicBezTo>
                  <a:close/>
                  <a:moveTo>
                    <a:pt x="178" y="1245"/>
                  </a:moveTo>
                  <a:lnTo>
                    <a:pt x="176" y="1250"/>
                  </a:lnTo>
                  <a:cubicBezTo>
                    <a:pt x="176" y="1250"/>
                    <a:pt x="176" y="1250"/>
                    <a:pt x="175" y="1251"/>
                  </a:cubicBezTo>
                  <a:lnTo>
                    <a:pt x="151" y="1286"/>
                  </a:lnTo>
                  <a:cubicBezTo>
                    <a:pt x="148" y="1290"/>
                    <a:pt x="143" y="1291"/>
                    <a:pt x="140" y="1288"/>
                  </a:cubicBezTo>
                  <a:cubicBezTo>
                    <a:pt x="136" y="1286"/>
                    <a:pt x="135" y="1281"/>
                    <a:pt x="138" y="1277"/>
                  </a:cubicBezTo>
                  <a:lnTo>
                    <a:pt x="162" y="1242"/>
                  </a:lnTo>
                  <a:lnTo>
                    <a:pt x="162" y="1243"/>
                  </a:lnTo>
                  <a:lnTo>
                    <a:pt x="164" y="1238"/>
                  </a:lnTo>
                  <a:cubicBezTo>
                    <a:pt x="166" y="1234"/>
                    <a:pt x="171" y="1233"/>
                    <a:pt x="175" y="1235"/>
                  </a:cubicBezTo>
                  <a:cubicBezTo>
                    <a:pt x="179" y="1237"/>
                    <a:pt x="180" y="1242"/>
                    <a:pt x="178" y="1245"/>
                  </a:cubicBezTo>
                  <a:close/>
                  <a:moveTo>
                    <a:pt x="123" y="1326"/>
                  </a:moveTo>
                  <a:lnTo>
                    <a:pt x="96" y="1365"/>
                  </a:lnTo>
                  <a:cubicBezTo>
                    <a:pt x="93" y="1369"/>
                    <a:pt x="88" y="1369"/>
                    <a:pt x="85" y="1367"/>
                  </a:cubicBezTo>
                  <a:cubicBezTo>
                    <a:pt x="81" y="1364"/>
                    <a:pt x="80" y="1359"/>
                    <a:pt x="83" y="1356"/>
                  </a:cubicBezTo>
                  <a:lnTo>
                    <a:pt x="110" y="1316"/>
                  </a:lnTo>
                  <a:cubicBezTo>
                    <a:pt x="113" y="1313"/>
                    <a:pt x="118" y="1312"/>
                    <a:pt x="121" y="1314"/>
                  </a:cubicBezTo>
                  <a:cubicBezTo>
                    <a:pt x="125" y="1317"/>
                    <a:pt x="126" y="1322"/>
                    <a:pt x="123" y="1326"/>
                  </a:cubicBezTo>
                  <a:close/>
                  <a:moveTo>
                    <a:pt x="68" y="1404"/>
                  </a:moveTo>
                  <a:lnTo>
                    <a:pt x="49" y="1432"/>
                  </a:lnTo>
                  <a:cubicBezTo>
                    <a:pt x="47" y="1435"/>
                    <a:pt x="42" y="1436"/>
                    <a:pt x="38" y="1434"/>
                  </a:cubicBezTo>
                  <a:cubicBezTo>
                    <a:pt x="34" y="1431"/>
                    <a:pt x="33" y="1426"/>
                    <a:pt x="36" y="1423"/>
                  </a:cubicBezTo>
                  <a:lnTo>
                    <a:pt x="55" y="1395"/>
                  </a:lnTo>
                  <a:cubicBezTo>
                    <a:pt x="58" y="1392"/>
                    <a:pt x="63" y="1391"/>
                    <a:pt x="66" y="1393"/>
                  </a:cubicBezTo>
                  <a:cubicBezTo>
                    <a:pt x="70" y="1396"/>
                    <a:pt x="71" y="1401"/>
                    <a:pt x="68" y="1404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74680" y="3960360"/>
              <a:ext cx="51840" cy="51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9" y="0"/>
                  </a:moveTo>
                  <a:lnTo>
                    <a:pt x="0" y="40"/>
                  </a:lnTo>
                  <a:lnTo>
                    <a:pt x="37" y="2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91320" y="18720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0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91320" y="23508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1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91320" y="25088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2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91320" y="299052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3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91320" y="36324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5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91320" y="315108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4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91320" y="426960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7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91320" y="3790440"/>
              <a:ext cx="6598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03040" indent="-203040">
                <a:lnSpc>
                  <a:spcPct val="75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(6,7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9031-3F80-4C94-976D-275687263D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的矩阵转置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带状划分的矩阵转置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带状划分的矩阵转置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26680" y="1483920"/>
            <a:ext cx="7932600" cy="4801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n×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成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n/p)×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大小的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i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-1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n/p)×(n/p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大小子块发送到另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-1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个处理器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②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每个处理器本地交换相应的元素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③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时间分析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649600" y="1916280"/>
          <a:ext cx="3578040" cy="31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0" y="1916280"/>
                    <a:ext cx="357804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58D0-86EC-4DCD-8DA3-5627170049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矩阵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的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的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的脉动乘法</a:t>
            </a:r>
            <a:br>
              <a:rPr sz="3900"/>
            </a:br>
            <a:r>
              <a:rPr b="0" lang="zh-CN" sz="3900" spc="-1" strike="noStrike">
                <a:solidFill>
                  <a:srgbClr val="000000"/>
                </a:solidFill>
                <a:latin typeface="Comic Sans MS"/>
                <a:ea typeface="宋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77800" y="1484280"/>
            <a:ext cx="8097840" cy="4838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=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串行算法计算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n)=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403280" y="2152800"/>
                <a:ext cx="5400720" cy="33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/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57FB-C48B-4747-AF30-6A504B4B0E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0611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三篇 并行数值算法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第九章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十二章 数值计算的基本支撑技术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3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带状划分的矩阵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向量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的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的脉动乘法</a:t>
            </a:r>
            <a:br>
              <a:rPr sz="39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带状划分的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77800" y="1484280"/>
            <a:ext cx="8097840" cy="415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行带状划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存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n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输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=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情形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每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其他处理器播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多到多播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每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做相应计算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&lt;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情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算法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要播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中相应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n/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个分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超立方连接的计算时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网孔连接的计算时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1281240" y="3957480"/>
                <a:ext cx="74674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前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项是乘法时间，</m:t>
                        </m:r>
                        <m:r>
                          <m:t xml:space="preserve"> </m:t>
                        </m:r>
                        <m:r>
                          <m:t xml:space="preserve">后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项是多到多的播送时间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充分大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6200" y="5364000"/>
                <a:ext cx="7472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前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项是乘法时间，</m:t>
                        </m:r>
                        <m:r>
                          <m:t xml:space="preserve"> </m:t>
                        </m:r>
                        <m:r>
                          <m:t xml:space="preserve">后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项是多到多的播送时间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充分大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33A8-9099-4703-B723-513BB1F348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带状划分的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77800" y="1483920"/>
            <a:ext cx="8097840" cy="417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641600" y="1414440"/>
          <a:ext cx="676404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1600" y="1414440"/>
                    <a:ext cx="676404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0DA3-136E-4FAE-AAEE-105D634182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的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3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棋盘划分的矩阵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向量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的脉动乘法</a:t>
            </a:r>
            <a:br>
              <a:rPr sz="39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棋盘划分的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298160"/>
            <a:ext cx="8424720" cy="501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块棋盘划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j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存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置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算法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=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情形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每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j,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播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一到多播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按行方向进行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加与积累运算，最后一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n-1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收集的结果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注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&lt;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情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个处理器排成          的二维网孔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算法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j,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播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中相应的        个分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网孔连接的计算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CT)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X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中相应分量置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i,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通讯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按列一到多播送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按行单点积累的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572000" y="4467240"/>
                <a:ext cx="3960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4965840" y="3716280"/>
                <a:ext cx="901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073480" y="4199040"/>
                <a:ext cx="6508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479920" y="4919760"/>
                <a:ext cx="1684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287960" y="5373720"/>
                <a:ext cx="2948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4067280" y="5805360"/>
                <a:ext cx="2948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1236-342F-42C2-8F5A-93F3A84300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棋盘划分的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743040" y="1143000"/>
            <a:ext cx="4174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77800" y="1483920"/>
            <a:ext cx="8097840" cy="417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763640" y="1268280"/>
          <a:ext cx="5538960" cy="590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68280"/>
                    <a:ext cx="5538960" cy="590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0602-4A48-49F4-A969-4A570B9A5D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带状与棋盘划分比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7800" y="1557000"/>
            <a:ext cx="8097840" cy="3925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网孔链接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190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网孔上带状划分的运行时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190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网孔上棋盘划分的运行时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棋盘划分要比带状划分快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000160" y="2506680"/>
                <a:ext cx="6337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496880" y="3573360"/>
                <a:ext cx="6840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2D0F-E6DD-4CD6-8B87-2A444BAC88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的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的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3.3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矩阵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向量的脉动乘法</a:t>
            </a:r>
            <a:br>
              <a:rPr sz="43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的脉动算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77800" y="1483920"/>
            <a:ext cx="8097840" cy="417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900000" y="2084400"/>
            <a:ext cx="7129440" cy="29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08F30-9BB8-4CDC-A34A-C43ACE0A43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矩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向量乘法的脉动算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77800" y="1483920"/>
            <a:ext cx="8097840" cy="417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424160" y="1927080"/>
            <a:ext cx="5678280" cy="37339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1424160" y="1927080"/>
            <a:ext cx="5676840" cy="37324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1420920" y="1927080"/>
            <a:ext cx="5676840" cy="37324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1424160" y="1927080"/>
            <a:ext cx="5676840" cy="373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68B9-C4E1-490C-9B0D-A7DE2FBF0E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619200"/>
            <a:ext cx="842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4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简单并行分块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2 Cannon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3 Fo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4 Systolic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5 DNS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矩阵乘法符号及定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66560" y="1547640"/>
                <a:ext cx="820908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设A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0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0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/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/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/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/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0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,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3" name=""/>
          <p:cNvGrpSpPr/>
          <p:nvPr/>
        </p:nvGrpSpPr>
        <p:grpSpPr>
          <a:xfrm>
            <a:off x="1116000" y="3357720"/>
            <a:ext cx="6264000" cy="1656720"/>
            <a:chOff x="1116000" y="3357720"/>
            <a:chExt cx="6264000" cy="1656720"/>
          </a:xfrm>
        </p:grpSpPr>
        <p:sp>
          <p:nvSpPr>
            <p:cNvPr id="504" name=""/>
            <p:cNvSpPr/>
            <p:nvPr/>
          </p:nvSpPr>
          <p:spPr>
            <a:xfrm rot="16200000">
              <a:off x="1617120" y="3664800"/>
              <a:ext cx="1258560" cy="14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6200000">
              <a:off x="6030360" y="3664800"/>
              <a:ext cx="1258560" cy="14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6200000">
              <a:off x="4199040" y="3664800"/>
              <a:ext cx="1258560" cy="14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12120" y="3755880"/>
              <a:ext cx="1440" cy="12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259000" y="3755880"/>
              <a:ext cx="1080" cy="12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26400" y="4062240"/>
              <a:ext cx="144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26400" y="4198320"/>
              <a:ext cx="1440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08320" y="4084560"/>
              <a:ext cx="1440360" cy="1134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52280" y="3755880"/>
              <a:ext cx="131040" cy="1258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12120" y="4050720"/>
              <a:ext cx="155520" cy="147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98760" y="4206600"/>
              <a:ext cx="326160" cy="6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98760" y="4344120"/>
              <a:ext cx="326160" cy="6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25360" y="3357720"/>
              <a:ext cx="2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40920" y="3948840"/>
              <a:ext cx="32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13840" y="3380400"/>
              <a:ext cx="32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46600" y="3380400"/>
              <a:ext cx="32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16000" y="3370320"/>
              <a:ext cx="32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343160" y="1371600"/>
                <a:ext cx="6603840" cy="44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611280" y="5013360"/>
                <a:ext cx="26431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 flipH="1" flipV="1">
            <a:off x="2557440" y="5967360"/>
            <a:ext cx="109440" cy="3477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687760" y="5947920"/>
            <a:ext cx="22860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3419640" y="5619600"/>
            <a:ext cx="6624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元素的第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标与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元素的第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标相一致（对准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EFFF-9EDC-405F-9433-8865879205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矩阵乘法并行实现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6624720" cy="3554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计算结构：二维阵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空间对准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元素已加载到阵列中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Cannon’s ,   Fox’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时间对准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元素未加载到阵列中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Systol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924360" y="3573360"/>
            <a:ext cx="3239640" cy="2808360"/>
            <a:chOff x="3924360" y="3573360"/>
            <a:chExt cx="3239640" cy="2808360"/>
          </a:xfrm>
        </p:grpSpPr>
        <p:sp>
          <p:nvSpPr>
            <p:cNvPr id="529" name=""/>
            <p:cNvSpPr/>
            <p:nvPr/>
          </p:nvSpPr>
          <p:spPr>
            <a:xfrm>
              <a:off x="3924360" y="3573360"/>
              <a:ext cx="81072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24360" y="4275000"/>
              <a:ext cx="81072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24360" y="4976640"/>
              <a:ext cx="810720" cy="70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24360" y="5679720"/>
              <a:ext cx="810720" cy="70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35080" y="3573360"/>
              <a:ext cx="80928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35080" y="4275000"/>
              <a:ext cx="80928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35080" y="4976640"/>
              <a:ext cx="809280" cy="70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735080" y="5679720"/>
              <a:ext cx="809280" cy="70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44360" y="3573360"/>
              <a:ext cx="81036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44360" y="4275000"/>
              <a:ext cx="81036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44360" y="4976640"/>
              <a:ext cx="810360" cy="70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44360" y="5679720"/>
              <a:ext cx="810360" cy="70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54720" y="3573360"/>
              <a:ext cx="80928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54720" y="4275000"/>
              <a:ext cx="809280" cy="70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54720" y="4976640"/>
              <a:ext cx="809280" cy="70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54720" y="5679720"/>
              <a:ext cx="809280" cy="70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4A78-FCE8-42F5-96D3-EB1E714BAA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简单并行分块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569440" cy="4602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成              的方块阵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小均为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编号为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存放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行处理器进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矩阵块的多到多播送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到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k=0~       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列处理器进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矩阵块的多到多播送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到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,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k=0~       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②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运算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行时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超立方连接：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间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②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间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220920" y="1557360"/>
                <a:ext cx="9921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8066160" y="1469880"/>
                <a:ext cx="7538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510000" y="1990800"/>
                <a:ext cx="2566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,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8317080" y="2894040"/>
                <a:ext cx="50292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2994120" y="3573360"/>
                <a:ext cx="13618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2340000" y="4869000"/>
                <a:ext cx="3114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57280" y="5425920"/>
                <a:ext cx="22924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7740720" y="3317760"/>
                <a:ext cx="5032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763640" y="5805360"/>
                <a:ext cx="2881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2308-CDB0-446A-9D0D-763B3A1C20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简单并行分块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1338120"/>
            <a:ext cx="8569440" cy="512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行时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超立方连接：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维环绕网孔连接：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间：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②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时间：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算法的缺点是对处理器的存储要求过大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处理器有        个块，每块大小为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p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需要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p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共需要            ，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串行算法的       倍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p=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n)=O(n), c(n)=O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411280" y="2543040"/>
                <a:ext cx="41738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）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547640" y="3405240"/>
                <a:ext cx="2951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771640" y="4818240"/>
                <a:ext cx="503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195640" y="5224320"/>
                <a:ext cx="10792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524560" y="5249880"/>
                <a:ext cx="847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700360" y="5610240"/>
                <a:ext cx="431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 flipH="1">
            <a:off x="4376880" y="2060640"/>
            <a:ext cx="122400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80000" y="1773360"/>
                <a:ext cx="8031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5F2C-BE2D-47B8-A71F-66190098BA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619200"/>
            <a:ext cx="842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简单并行分块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4.2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Cannon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3 Fo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4 Systolic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5 DNS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136000" cy="3169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成               的方块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小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均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编号为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存放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n &gt; &gt; 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51120" y="1628640"/>
                <a:ext cx="1208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900000" y="1949400"/>
                <a:ext cx="792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668840" y="2092320"/>
                <a:ext cx="25671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,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2" name=""/>
          <p:cNvGrpSpPr/>
          <p:nvPr/>
        </p:nvGrpSpPr>
        <p:grpSpPr>
          <a:xfrm>
            <a:off x="2556000" y="2932200"/>
            <a:ext cx="3454200" cy="2801520"/>
            <a:chOff x="2556000" y="2932200"/>
            <a:chExt cx="3454200" cy="2801520"/>
          </a:xfrm>
        </p:grpSpPr>
        <p:sp>
          <p:nvSpPr>
            <p:cNvPr id="573" name=""/>
            <p:cNvSpPr/>
            <p:nvPr/>
          </p:nvSpPr>
          <p:spPr>
            <a:xfrm>
              <a:off x="2556000" y="2932200"/>
              <a:ext cx="86400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56000" y="3632040"/>
              <a:ext cx="86400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56000" y="4332240"/>
              <a:ext cx="864000" cy="70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56000" y="5033520"/>
              <a:ext cx="864000" cy="7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20000" y="2932200"/>
              <a:ext cx="86292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20000" y="3632040"/>
              <a:ext cx="86292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20000" y="4332240"/>
              <a:ext cx="862920" cy="70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0000" y="5033520"/>
              <a:ext cx="862920" cy="7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83280" y="2932200"/>
              <a:ext cx="86400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83280" y="3632040"/>
              <a:ext cx="86400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3280" y="4332240"/>
              <a:ext cx="864000" cy="70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83280" y="5033520"/>
              <a:ext cx="864000" cy="7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47280" y="2932200"/>
              <a:ext cx="86292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47280" y="3632040"/>
              <a:ext cx="862920" cy="69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47280" y="4332240"/>
              <a:ext cx="862920" cy="70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47280" y="5033520"/>
              <a:ext cx="862920" cy="7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084720" y="2924280"/>
            <a:ext cx="263520" cy="2770200"/>
          </a:xfrm>
          <a:custGeom>
            <a:avLst/>
            <a:gdLst>
              <a:gd name="textAreaLeft" fmla="*/ 0 w 263520"/>
              <a:gd name="textAreaRight" fmla="*/ 95040 w 263520"/>
              <a:gd name="textAreaTop" fmla="*/ 72000 h 2770200"/>
              <a:gd name="textAreaBottom" fmla="*/ 2698200 h 277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2332080" y="2957400"/>
            <a:ext cx="152280" cy="6876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7600"/>
              <a:gd name="textAreaBottom" fmla="*/ 669960 h 68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08000" y="2997360"/>
                <a:ext cx="4194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423120" y="4178160"/>
                <a:ext cx="2365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 rot="5400000">
            <a:off x="4140000" y="4221000"/>
            <a:ext cx="287640" cy="3456000"/>
          </a:xfrm>
          <a:custGeom>
            <a:avLst/>
            <a:gdLst>
              <a:gd name="textAreaLeft" fmla="*/ 0 w 287640"/>
              <a:gd name="textAreaRight" fmla="*/ 103680 w 28764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4067280" y="6093000"/>
                <a:ext cx="412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E96D-E01F-4656-A930-4B24E79E71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36000" cy="4226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原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形式描述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69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0≤i,j≤        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左循环移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行移位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0≤i,j≤         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上循环移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列移位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处理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执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运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每个块向左循环移动一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每个块向上循环移动一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执行         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565440" y="2141640"/>
                <a:ext cx="719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565440" y="2581200"/>
                <a:ext cx="7192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484360" y="4365720"/>
                <a:ext cx="719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5B3FC-F7A7-4544-81D9-646DD6DBE4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511280"/>
            <a:ext cx="8136000" cy="1341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p=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84360" y="2108160"/>
            <a:ext cx="7832520" cy="4200480"/>
            <a:chOff x="684360" y="2108160"/>
            <a:chExt cx="7832520" cy="4200480"/>
          </a:xfrm>
        </p:grpSpPr>
        <p:sp>
          <p:nvSpPr>
            <p:cNvPr id="603" name=""/>
            <p:cNvSpPr/>
            <p:nvPr/>
          </p:nvSpPr>
          <p:spPr>
            <a:xfrm>
              <a:off x="684360" y="2735280"/>
              <a:ext cx="84276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4360" y="3629160"/>
              <a:ext cx="842760" cy="89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4360" y="4521240"/>
              <a:ext cx="84276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4360" y="5415120"/>
              <a:ext cx="842760" cy="89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7120" y="2735280"/>
              <a:ext cx="84132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27120" y="3629160"/>
              <a:ext cx="841320" cy="89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527120" y="4521240"/>
              <a:ext cx="84132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27120" y="5415120"/>
              <a:ext cx="841320" cy="89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68440" y="2735280"/>
              <a:ext cx="84312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68440" y="3629160"/>
              <a:ext cx="843120" cy="89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68440" y="4521240"/>
              <a:ext cx="84312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68440" y="5415120"/>
              <a:ext cx="843120" cy="89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11560" y="2735280"/>
              <a:ext cx="84132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11560" y="3629160"/>
              <a:ext cx="841320" cy="89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11560" y="4521240"/>
              <a:ext cx="841320" cy="89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11560" y="5415120"/>
              <a:ext cx="841320" cy="89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84840" y="2735280"/>
              <a:ext cx="84276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84840" y="3629160"/>
              <a:ext cx="842760" cy="8920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884840" y="4521240"/>
              <a:ext cx="84276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84840" y="5415120"/>
              <a:ext cx="842760" cy="893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27600" y="2735280"/>
              <a:ext cx="84132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27600" y="3629160"/>
              <a:ext cx="841320" cy="8920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27600" y="4521240"/>
              <a:ext cx="84132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27600" y="5415120"/>
              <a:ext cx="841320" cy="893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68920" y="2735280"/>
              <a:ext cx="84312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68920" y="3629160"/>
              <a:ext cx="843120" cy="8920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568920" y="4521240"/>
              <a:ext cx="84312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68920" y="5415120"/>
              <a:ext cx="843120" cy="893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12040" y="2735280"/>
              <a:ext cx="84132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12040" y="3629160"/>
              <a:ext cx="841320" cy="8920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12040" y="4521240"/>
              <a:ext cx="841320" cy="89388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12040" y="5415120"/>
              <a:ext cx="841320" cy="893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4480" y="2108160"/>
              <a:ext cx="352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itial alignment of 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908600" y="2108160"/>
              <a:ext cx="36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itial alignment of 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1046160" y="3755880"/>
              <a:ext cx="2646000" cy="255240"/>
              <a:chOff x="1046160" y="3755880"/>
              <a:chExt cx="2646000" cy="255240"/>
            </a:xfrm>
          </p:grpSpPr>
          <p:sp>
            <p:nvSpPr>
              <p:cNvPr id="638" name=""/>
              <p:cNvSpPr/>
              <p:nvPr/>
            </p:nvSpPr>
            <p:spPr>
              <a:xfrm>
                <a:off x="1046160" y="3755880"/>
                <a:ext cx="2646000" cy="25524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2729880" y="3883320"/>
                <a:ext cx="961920" cy="12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1046160" y="4649760"/>
              <a:ext cx="2646360" cy="255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008080" y="4756320"/>
              <a:ext cx="1684440" cy="149040"/>
            </a:xfrm>
            <a:custGeom>
              <a:avLst/>
              <a:gdLst/>
              <a:ahLst/>
              <a:rect l="l" t="t" r="r" b="b"/>
              <a:pathLst>
                <a:path w="672" h="56">
                  <a:moveTo>
                    <a:pt x="672" y="56"/>
                  </a:moveTo>
                  <a:cubicBezTo>
                    <a:pt x="560" y="36"/>
                    <a:pt x="448" y="16"/>
                    <a:pt x="336" y="8"/>
                  </a:cubicBezTo>
                  <a:cubicBezTo>
                    <a:pt x="224" y="0"/>
                    <a:pt x="112" y="4"/>
                    <a:pt x="0" y="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46160" y="5543640"/>
              <a:ext cx="2646360" cy="253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1046160" y="5649840"/>
              <a:ext cx="2646360" cy="147600"/>
            </a:xfrm>
            <a:custGeom>
              <a:avLst/>
              <a:gdLst/>
              <a:ahLst/>
              <a:rect l="l" t="t" r="r" b="b"/>
              <a:pathLst>
                <a:path w="1056" h="56">
                  <a:moveTo>
                    <a:pt x="1056" y="56"/>
                  </a:moveTo>
                  <a:cubicBezTo>
                    <a:pt x="924" y="36"/>
                    <a:pt x="792" y="16"/>
                    <a:pt x="672" y="8"/>
                  </a:cubicBezTo>
                  <a:cubicBezTo>
                    <a:pt x="552" y="0"/>
                    <a:pt x="448" y="0"/>
                    <a:pt x="336" y="8"/>
                  </a:cubicBezTo>
                  <a:cubicBezTo>
                    <a:pt x="224" y="16"/>
                    <a:pt x="112" y="36"/>
                    <a:pt x="0" y="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724360" y="3244680"/>
              <a:ext cx="242640" cy="2808000"/>
              <a:chOff x="5724360" y="3244680"/>
              <a:chExt cx="242640" cy="2808000"/>
            </a:xfrm>
          </p:grpSpPr>
          <p:sp>
            <p:nvSpPr>
              <p:cNvPr id="645" name=""/>
              <p:cNvSpPr/>
              <p:nvPr/>
            </p:nvSpPr>
            <p:spPr>
              <a:xfrm flipV="1" rot="5400000">
                <a:off x="4440600" y="4528440"/>
                <a:ext cx="2808000" cy="24048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5846760" y="5031360"/>
                <a:ext cx="120240" cy="10206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 flipV="1" rot="5400000">
              <a:off x="5285520" y="4527000"/>
              <a:ext cx="2808360" cy="24156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 rot="16200000">
              <a:off x="5845320" y="5086080"/>
              <a:ext cx="1787400" cy="141480"/>
            </a:xfrm>
            <a:custGeom>
              <a:avLst/>
              <a:gdLst/>
              <a:ahLst/>
              <a:rect l="l" t="t" r="r" b="b"/>
              <a:pathLst>
                <a:path w="672" h="56">
                  <a:moveTo>
                    <a:pt x="672" y="56"/>
                  </a:moveTo>
                  <a:cubicBezTo>
                    <a:pt x="560" y="36"/>
                    <a:pt x="448" y="16"/>
                    <a:pt x="336" y="8"/>
                  </a:cubicBezTo>
                  <a:cubicBezTo>
                    <a:pt x="224" y="0"/>
                    <a:pt x="112" y="4"/>
                    <a:pt x="0" y="8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 rot="5400000">
              <a:off x="6125040" y="4525560"/>
              <a:ext cx="2808360" cy="24120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flipV="1" rot="16200000">
              <a:off x="6177600" y="4576320"/>
              <a:ext cx="2808360" cy="139680"/>
            </a:xfrm>
            <a:custGeom>
              <a:avLst/>
              <a:gdLst/>
              <a:ahLst/>
              <a:rect l="l" t="t" r="r" b="b"/>
              <a:pathLst>
                <a:path w="1056" h="56">
                  <a:moveTo>
                    <a:pt x="1056" y="56"/>
                  </a:moveTo>
                  <a:cubicBezTo>
                    <a:pt x="924" y="36"/>
                    <a:pt x="792" y="16"/>
                    <a:pt x="672" y="8"/>
                  </a:cubicBezTo>
                  <a:cubicBezTo>
                    <a:pt x="552" y="0"/>
                    <a:pt x="448" y="0"/>
                    <a:pt x="336" y="8"/>
                  </a:cubicBezTo>
                  <a:cubicBezTo>
                    <a:pt x="224" y="16"/>
                    <a:pt x="112" y="36"/>
                    <a:pt x="0" y="56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7FAD-CD87-4018-A12C-C9C58B0A62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1341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p=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260360" y="2125800"/>
            <a:ext cx="6696360" cy="4194000"/>
            <a:chOff x="1260360" y="2125800"/>
            <a:chExt cx="6696360" cy="4194000"/>
          </a:xfrm>
        </p:grpSpPr>
        <p:grpSp>
          <p:nvGrpSpPr>
            <p:cNvPr id="654" name=""/>
            <p:cNvGrpSpPr/>
            <p:nvPr/>
          </p:nvGrpSpPr>
          <p:grpSpPr>
            <a:xfrm>
              <a:off x="2543040" y="5381640"/>
              <a:ext cx="3485520" cy="267840"/>
              <a:chOff x="2543040" y="5381640"/>
              <a:chExt cx="3485520" cy="267840"/>
            </a:xfrm>
          </p:grpSpPr>
          <p:sp>
            <p:nvSpPr>
              <p:cNvPr id="655" name=""/>
              <p:cNvSpPr/>
              <p:nvPr/>
            </p:nvSpPr>
            <p:spPr>
              <a:xfrm>
                <a:off x="2543040" y="5381640"/>
                <a:ext cx="3485520" cy="26784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4761360" y="5515560"/>
                <a:ext cx="1267200" cy="13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2543040" y="2565360"/>
              <a:ext cx="3485520" cy="267840"/>
              <a:chOff x="2543040" y="2565360"/>
              <a:chExt cx="3485520" cy="267840"/>
            </a:xfrm>
          </p:grpSpPr>
          <p:sp>
            <p:nvSpPr>
              <p:cNvPr id="658" name=""/>
              <p:cNvSpPr/>
              <p:nvPr/>
            </p:nvSpPr>
            <p:spPr>
              <a:xfrm>
                <a:off x="2543040" y="2565360"/>
                <a:ext cx="3485520" cy="26784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4761360" y="2699280"/>
                <a:ext cx="1267200" cy="13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543040" y="3503520"/>
              <a:ext cx="3485520" cy="268200"/>
              <a:chOff x="2543040" y="3503520"/>
              <a:chExt cx="3485520" cy="268200"/>
            </a:xfrm>
          </p:grpSpPr>
          <p:sp>
            <p:nvSpPr>
              <p:cNvPr id="661" name=""/>
              <p:cNvSpPr/>
              <p:nvPr/>
            </p:nvSpPr>
            <p:spPr>
              <a:xfrm>
                <a:off x="2543040" y="3503520"/>
                <a:ext cx="3485520" cy="2682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4761360" y="3637440"/>
                <a:ext cx="1267200" cy="13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2543040" y="4441680"/>
              <a:ext cx="3485520" cy="268200"/>
              <a:chOff x="2543040" y="4441680"/>
              <a:chExt cx="3485520" cy="268200"/>
            </a:xfrm>
          </p:grpSpPr>
          <p:sp>
            <p:nvSpPr>
              <p:cNvPr id="664" name=""/>
              <p:cNvSpPr/>
              <p:nvPr/>
            </p:nvSpPr>
            <p:spPr>
              <a:xfrm>
                <a:off x="2543040" y="4441680"/>
                <a:ext cx="3485520" cy="2682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4761360" y="4575600"/>
                <a:ext cx="1267200" cy="13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1260360" y="2125800"/>
              <a:ext cx="66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and B after initial alignment and shifts after every ste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68560" y="2565360"/>
              <a:ext cx="11095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68560" y="3503520"/>
              <a:ext cx="11095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68560" y="4441680"/>
              <a:ext cx="11095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68560" y="5381640"/>
              <a:ext cx="11095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78080" y="2565360"/>
              <a:ext cx="11080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78080" y="3503520"/>
              <a:ext cx="11080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178080" y="4441680"/>
              <a:ext cx="110808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78080" y="5381640"/>
              <a:ext cx="11080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86160" y="2565360"/>
              <a:ext cx="11098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86160" y="3503520"/>
              <a:ext cx="11098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86160" y="4441680"/>
              <a:ext cx="110988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86160" y="5381640"/>
              <a:ext cx="11098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96040" y="2565360"/>
              <a:ext cx="11080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96040" y="3503520"/>
              <a:ext cx="11080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96040" y="4441680"/>
              <a:ext cx="110808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96040" y="5381640"/>
              <a:ext cx="110808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2092320" y="3102120"/>
              <a:ext cx="320040" cy="2949120"/>
              <a:chOff x="2092320" y="3102120"/>
              <a:chExt cx="320040" cy="2949120"/>
            </a:xfrm>
          </p:grpSpPr>
          <p:sp>
            <p:nvSpPr>
              <p:cNvPr id="684" name=""/>
              <p:cNvSpPr/>
              <p:nvPr/>
            </p:nvSpPr>
            <p:spPr>
              <a:xfrm flipV="1" rot="5400000">
                <a:off x="776160" y="4417920"/>
                <a:ext cx="2949120" cy="31716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2253960" y="4979160"/>
                <a:ext cx="15840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249720" y="3102120"/>
              <a:ext cx="318240" cy="2949120"/>
              <a:chOff x="3249720" y="3102120"/>
              <a:chExt cx="318240" cy="2949120"/>
            </a:xfrm>
          </p:grpSpPr>
          <p:sp>
            <p:nvSpPr>
              <p:cNvPr id="687" name=""/>
              <p:cNvSpPr/>
              <p:nvPr/>
            </p:nvSpPr>
            <p:spPr>
              <a:xfrm flipV="1" rot="5400000">
                <a:off x="1932840" y="4419000"/>
                <a:ext cx="2949120" cy="31536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3410280" y="4979160"/>
                <a:ext cx="15768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357800" y="3102120"/>
              <a:ext cx="319680" cy="2949120"/>
              <a:chOff x="4357800" y="3102120"/>
              <a:chExt cx="319680" cy="2949120"/>
            </a:xfrm>
          </p:grpSpPr>
          <p:sp>
            <p:nvSpPr>
              <p:cNvPr id="690" name=""/>
              <p:cNvSpPr/>
              <p:nvPr/>
            </p:nvSpPr>
            <p:spPr>
              <a:xfrm flipV="1" rot="5400000">
                <a:off x="3041640" y="4418280"/>
                <a:ext cx="2949120" cy="31680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4519080" y="4979160"/>
                <a:ext cx="15840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405400" y="3102120"/>
              <a:ext cx="318240" cy="2949120"/>
              <a:chOff x="5405400" y="3102120"/>
              <a:chExt cx="318240" cy="2949120"/>
            </a:xfrm>
          </p:grpSpPr>
          <p:sp>
            <p:nvSpPr>
              <p:cNvPr id="693" name=""/>
              <p:cNvSpPr/>
              <p:nvPr/>
            </p:nvSpPr>
            <p:spPr>
              <a:xfrm flipV="1" rot="5400000">
                <a:off x="4088520" y="4419000"/>
                <a:ext cx="2949120" cy="31536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565960" y="4979160"/>
                <a:ext cx="15768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5D91-A5F5-4171-90B2-E21A160AF8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划分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07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triped partitioning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dimensional, row or colum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ock or cycl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heckerboard partitioning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imensional, block or cycl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B28C-30FA-49F9-A68D-18F979CCBC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1341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p=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95200" y="2130480"/>
            <a:ext cx="8956800" cy="3603600"/>
            <a:chOff x="295200" y="2130480"/>
            <a:chExt cx="8956800" cy="3603600"/>
          </a:xfrm>
        </p:grpSpPr>
        <p:sp>
          <p:nvSpPr>
            <p:cNvPr id="698" name=""/>
            <p:cNvSpPr/>
            <p:nvPr/>
          </p:nvSpPr>
          <p:spPr>
            <a:xfrm>
              <a:off x="654120" y="2130480"/>
              <a:ext cx="21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fter first shi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4840" y="285120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4840" y="357192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4840" y="429264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4840" y="501336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0484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0484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0484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0484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33400" y="285120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33400" y="357192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33400" y="429264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33400" y="501336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6232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6232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6232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6232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98840" y="21304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fter second shi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08480" y="285120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08480" y="357192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08480" y="429264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408480" y="5013360"/>
              <a:ext cx="630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038480" y="285120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38480" y="357192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38480" y="429264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38480" y="5013360"/>
              <a:ext cx="62892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6740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6740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6740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6740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9596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9596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9596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9596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65960" y="21304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fter third shi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28668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8668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8668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8668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1524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91524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91524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91524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43800" y="2851200"/>
              <a:ext cx="6303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543800" y="3571920"/>
              <a:ext cx="6303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43800" y="4292640"/>
              <a:ext cx="6303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43800" y="5013360"/>
              <a:ext cx="6303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74160" y="285120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174160" y="357192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174160" y="429264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174160" y="5013360"/>
              <a:ext cx="6285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295200" y="3160080"/>
              <a:ext cx="180720" cy="2263320"/>
              <a:chOff x="295200" y="3160080"/>
              <a:chExt cx="180720" cy="2263320"/>
            </a:xfrm>
          </p:grpSpPr>
          <p:sp>
            <p:nvSpPr>
              <p:cNvPr id="750" name=""/>
              <p:cNvSpPr/>
              <p:nvPr/>
            </p:nvSpPr>
            <p:spPr>
              <a:xfrm flipV="1" rot="5400000">
                <a:off x="-746640" y="4201560"/>
                <a:ext cx="2263320" cy="17928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386280" y="4600800"/>
                <a:ext cx="89640" cy="8226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6107040" y="3160080"/>
              <a:ext cx="180720" cy="2263320"/>
              <a:chOff x="6107040" y="3160080"/>
              <a:chExt cx="180720" cy="2263320"/>
            </a:xfrm>
          </p:grpSpPr>
          <p:sp>
            <p:nvSpPr>
              <p:cNvPr id="753" name=""/>
              <p:cNvSpPr/>
              <p:nvPr/>
            </p:nvSpPr>
            <p:spPr>
              <a:xfrm flipV="1" rot="5400000">
                <a:off x="5064840" y="4201560"/>
                <a:ext cx="2263320" cy="17928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6198120" y="4600800"/>
                <a:ext cx="89640" cy="8226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3227400" y="3057480"/>
              <a:ext cx="180720" cy="2265120"/>
              <a:chOff x="3227400" y="3057480"/>
              <a:chExt cx="180720" cy="2265120"/>
            </a:xfrm>
          </p:grpSpPr>
          <p:sp>
            <p:nvSpPr>
              <p:cNvPr id="756" name=""/>
              <p:cNvSpPr/>
              <p:nvPr/>
            </p:nvSpPr>
            <p:spPr>
              <a:xfrm flipV="1" rot="5400000">
                <a:off x="2184480" y="4100400"/>
                <a:ext cx="2265120" cy="17928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3318480" y="4498920"/>
                <a:ext cx="89640" cy="8233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744480" y="2644920"/>
              <a:ext cx="1977840" cy="205920"/>
              <a:chOff x="744480" y="2644920"/>
              <a:chExt cx="1977840" cy="205920"/>
            </a:xfrm>
          </p:grpSpPr>
          <p:sp>
            <p:nvSpPr>
              <p:cNvPr id="759" name=""/>
              <p:cNvSpPr/>
              <p:nvPr/>
            </p:nvSpPr>
            <p:spPr>
              <a:xfrm>
                <a:off x="744480" y="2644920"/>
                <a:ext cx="1977840" cy="2059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2003040" y="2747880"/>
                <a:ext cx="719280" cy="10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3678120" y="2644920"/>
              <a:ext cx="1977840" cy="205920"/>
              <a:chOff x="3678120" y="2644920"/>
              <a:chExt cx="1977840" cy="205920"/>
            </a:xfrm>
          </p:grpSpPr>
          <p:sp>
            <p:nvSpPr>
              <p:cNvPr id="762" name=""/>
              <p:cNvSpPr/>
              <p:nvPr/>
            </p:nvSpPr>
            <p:spPr>
              <a:xfrm>
                <a:off x="3678120" y="2644920"/>
                <a:ext cx="1977840" cy="2059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4936680" y="2747880"/>
                <a:ext cx="719280" cy="10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6556320" y="2644920"/>
              <a:ext cx="1976040" cy="205920"/>
              <a:chOff x="6556320" y="2644920"/>
              <a:chExt cx="1976040" cy="205920"/>
            </a:xfrm>
          </p:grpSpPr>
          <p:sp>
            <p:nvSpPr>
              <p:cNvPr id="765" name=""/>
              <p:cNvSpPr/>
              <p:nvPr/>
            </p:nvSpPr>
            <p:spPr>
              <a:xfrm>
                <a:off x="6556320" y="2644920"/>
                <a:ext cx="1976040" cy="2059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813800" y="2747880"/>
                <a:ext cx="718560" cy="102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05CC-1AF1-4B2D-B448-29673BADD76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52360" y="1423800"/>
            <a:ext cx="8136000" cy="548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描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Cannon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块乘法算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×n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×n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;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×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for k=0 to          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ll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-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 if i&gt;k th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(j+1)m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i)if j&gt;k th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(i+1)mod      , 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for all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-do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0 endfor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4356000" y="2103480"/>
            <a:ext cx="446400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for k=0 to          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ll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-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i)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(j+1)m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ii)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(i+1)mod     , 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for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4500720" y="4518000"/>
            <a:ext cx="3617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初步的时间分析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572000" y="4941720"/>
                <a:ext cx="43210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484360" y="2637000"/>
                <a:ext cx="536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7728120" y="3213000"/>
                <a:ext cx="2286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924360" y="3772080"/>
                <a:ext cx="2458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3751200" y="4802040"/>
                <a:ext cx="244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870680" y="2924280"/>
                <a:ext cx="230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6443640" y="1981080"/>
                <a:ext cx="576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－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A828-34B3-432A-95A3-2E39BE0F49E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52360" y="1423800"/>
            <a:ext cx="8136000" cy="473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分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超立方连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②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执行        次，所以运行时间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二维网孔连接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选路模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②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执行        次，所以运行时间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049480" y="3089160"/>
                <a:ext cx="6508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3416400"/>
                <a:ext cx="46706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138320" y="4581360"/>
                <a:ext cx="60260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）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1152360" y="2289240"/>
                <a:ext cx="6804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）</m:t>
                    </m:r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050920" y="5322960"/>
                <a:ext cx="596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1125360" y="5589720"/>
                <a:ext cx="46706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AB34-D630-4149-9F51-A7EB663D58C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8360" y="619200"/>
            <a:ext cx="842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简单并行分块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2 Cannon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4.3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Fox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4 Systolic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5 DNS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x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68360" y="1681200"/>
            <a:ext cx="8136000" cy="474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nnon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块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原理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8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①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所在行的其他处理器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一到多播送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处理器将收到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与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进行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运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向上循环移动一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上次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播送的块，本次选择               向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行的其他处理器进行一到多播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执行        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193840" y="5877000"/>
                <a:ext cx="793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6627960" y="5072040"/>
                <a:ext cx="1184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91" name=""/>
          <p:cNvGrpSpPr/>
          <p:nvPr/>
        </p:nvGrpSpPr>
        <p:grpSpPr>
          <a:xfrm>
            <a:off x="4788000" y="1628640"/>
            <a:ext cx="4031640" cy="3455640"/>
            <a:chOff x="4788000" y="1628640"/>
            <a:chExt cx="4031640" cy="3455640"/>
          </a:xfrm>
        </p:grpSpPr>
        <p:sp>
          <p:nvSpPr>
            <p:cNvPr id="792" name=""/>
            <p:cNvSpPr/>
            <p:nvPr/>
          </p:nvSpPr>
          <p:spPr>
            <a:xfrm>
              <a:off x="4788000" y="1628640"/>
              <a:ext cx="100872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788000" y="2491920"/>
              <a:ext cx="100872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788000" y="3355560"/>
              <a:ext cx="1008720" cy="86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88000" y="4220640"/>
              <a:ext cx="100872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96720" y="1628640"/>
              <a:ext cx="100692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96720" y="2491920"/>
              <a:ext cx="100692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96720" y="3355560"/>
              <a:ext cx="1006920" cy="86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96720" y="4220640"/>
              <a:ext cx="100692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04000" y="1628640"/>
              <a:ext cx="100836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04000" y="2491920"/>
              <a:ext cx="100836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804000" y="3355560"/>
              <a:ext cx="1008360" cy="86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04000" y="4220640"/>
              <a:ext cx="100836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812720" y="1628640"/>
              <a:ext cx="100692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12720" y="2491920"/>
              <a:ext cx="1006920" cy="86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12720" y="3355560"/>
              <a:ext cx="1006920" cy="86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812720" y="4220640"/>
              <a:ext cx="1006920" cy="8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96CE-D455-4E67-B68F-895748A8E5D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x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8360" y="1511280"/>
            <a:ext cx="8136000" cy="48236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p=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)                                                        (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95280" y="2133720"/>
            <a:ext cx="8569440" cy="3754440"/>
            <a:chOff x="395280" y="2133720"/>
            <a:chExt cx="8569440" cy="3754440"/>
          </a:xfrm>
        </p:grpSpPr>
        <p:sp>
          <p:nvSpPr>
            <p:cNvPr id="811" name=""/>
            <p:cNvSpPr/>
            <p:nvPr/>
          </p:nvSpPr>
          <p:spPr>
            <a:xfrm>
              <a:off x="395280" y="213372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5280" y="307188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5280" y="4010040"/>
              <a:ext cx="10447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5280" y="495000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40000" y="2133720"/>
              <a:ext cx="1044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0000" y="3071880"/>
              <a:ext cx="1044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40000" y="4010040"/>
              <a:ext cx="104436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40000" y="4950000"/>
              <a:ext cx="1044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84360" y="213372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84360" y="307188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484360" y="4010040"/>
              <a:ext cx="10447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84360" y="495000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29080" y="2133720"/>
              <a:ext cx="10429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29080" y="3071880"/>
              <a:ext cx="10429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29080" y="4010040"/>
              <a:ext cx="10429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29080" y="4950000"/>
              <a:ext cx="10429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17600" y="2670120"/>
              <a:ext cx="300960" cy="2949120"/>
              <a:chOff x="417600" y="2670120"/>
              <a:chExt cx="300960" cy="2949120"/>
            </a:xfrm>
          </p:grpSpPr>
          <p:sp>
            <p:nvSpPr>
              <p:cNvPr id="828" name=""/>
              <p:cNvSpPr/>
              <p:nvPr/>
            </p:nvSpPr>
            <p:spPr>
              <a:xfrm flipV="1" rot="5400000">
                <a:off x="-907560" y="3995280"/>
                <a:ext cx="2949120" cy="29844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569520" y="4547160"/>
                <a:ext cx="14904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1508040" y="2670120"/>
              <a:ext cx="299520" cy="2949120"/>
              <a:chOff x="1508040" y="2670120"/>
              <a:chExt cx="299520" cy="2949120"/>
            </a:xfrm>
          </p:grpSpPr>
          <p:sp>
            <p:nvSpPr>
              <p:cNvPr id="831" name=""/>
              <p:cNvSpPr/>
              <p:nvPr/>
            </p:nvSpPr>
            <p:spPr>
              <a:xfrm flipV="1" rot="5400000">
                <a:off x="181800" y="3996000"/>
                <a:ext cx="2949120" cy="29700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1659240" y="4547160"/>
                <a:ext cx="14832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2550960" y="2670120"/>
              <a:ext cx="300960" cy="2949120"/>
              <a:chOff x="2550960" y="2670120"/>
              <a:chExt cx="300960" cy="2949120"/>
            </a:xfrm>
          </p:grpSpPr>
          <p:sp>
            <p:nvSpPr>
              <p:cNvPr id="834" name=""/>
              <p:cNvSpPr/>
              <p:nvPr/>
            </p:nvSpPr>
            <p:spPr>
              <a:xfrm flipV="1" rot="5400000">
                <a:off x="1225440" y="3995280"/>
                <a:ext cx="2949120" cy="29844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2702880" y="4547160"/>
                <a:ext cx="14904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3537000" y="2670120"/>
              <a:ext cx="300960" cy="2949120"/>
              <a:chOff x="3537000" y="2670120"/>
              <a:chExt cx="300960" cy="2949120"/>
            </a:xfrm>
          </p:grpSpPr>
          <p:sp>
            <p:nvSpPr>
              <p:cNvPr id="837" name=""/>
              <p:cNvSpPr/>
              <p:nvPr/>
            </p:nvSpPr>
            <p:spPr>
              <a:xfrm flipV="1" rot="5400000">
                <a:off x="2211480" y="3995280"/>
                <a:ext cx="2949120" cy="29844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3688920" y="4547160"/>
                <a:ext cx="14904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1227240" y="2430360"/>
              <a:ext cx="8110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41560" y="2430360"/>
              <a:ext cx="10144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59280" y="2421000"/>
              <a:ext cx="10126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27320" y="3438360"/>
              <a:ext cx="8110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43080" y="3438360"/>
              <a:ext cx="10130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243240" y="437508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70120" y="3438360"/>
              <a:ext cx="8092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90720" y="437508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70120" y="4375080"/>
              <a:ext cx="10126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08440" y="531180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87480" y="5311800"/>
              <a:ext cx="10130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0120" y="5311800"/>
              <a:ext cx="10126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788000" y="2133720"/>
              <a:ext cx="1044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88000" y="3071880"/>
              <a:ext cx="1044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788000" y="4010040"/>
              <a:ext cx="104436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32360" y="213372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832360" y="307188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32360" y="4010040"/>
              <a:ext cx="10447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32360" y="495000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877080" y="213372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77080" y="4010040"/>
              <a:ext cx="10447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77080" y="4950000"/>
              <a:ext cx="10447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921800" y="2133720"/>
              <a:ext cx="10429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1800" y="3071880"/>
              <a:ext cx="10429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21800" y="4950000"/>
              <a:ext cx="104292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4809960" y="2670120"/>
              <a:ext cx="300960" cy="2949120"/>
              <a:chOff x="4809960" y="2670120"/>
              <a:chExt cx="300960" cy="2949120"/>
            </a:xfrm>
          </p:grpSpPr>
          <p:sp>
            <p:nvSpPr>
              <p:cNvPr id="865" name=""/>
              <p:cNvSpPr/>
              <p:nvPr/>
            </p:nvSpPr>
            <p:spPr>
              <a:xfrm flipV="1" rot="5400000">
                <a:off x="3484440" y="3995280"/>
                <a:ext cx="2949120" cy="29844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4961880" y="4547160"/>
                <a:ext cx="14904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5900760" y="2670120"/>
              <a:ext cx="299160" cy="2949120"/>
              <a:chOff x="5900760" y="2670120"/>
              <a:chExt cx="299160" cy="2949120"/>
            </a:xfrm>
          </p:grpSpPr>
          <p:sp>
            <p:nvSpPr>
              <p:cNvPr id="868" name=""/>
              <p:cNvSpPr/>
              <p:nvPr/>
            </p:nvSpPr>
            <p:spPr>
              <a:xfrm flipV="1" rot="5400000">
                <a:off x="4574520" y="3996360"/>
                <a:ext cx="2949120" cy="29664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6051600" y="4547160"/>
                <a:ext cx="14832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6943680" y="2670120"/>
              <a:ext cx="300960" cy="2949120"/>
              <a:chOff x="6943680" y="2670120"/>
              <a:chExt cx="300960" cy="2949120"/>
            </a:xfrm>
          </p:grpSpPr>
          <p:sp>
            <p:nvSpPr>
              <p:cNvPr id="871" name=""/>
              <p:cNvSpPr/>
              <p:nvPr/>
            </p:nvSpPr>
            <p:spPr>
              <a:xfrm flipV="1" rot="5400000">
                <a:off x="5618160" y="3995280"/>
                <a:ext cx="2949120" cy="29844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095600" y="4547160"/>
                <a:ext cx="14904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7929720" y="2670120"/>
              <a:ext cx="300600" cy="2949120"/>
              <a:chOff x="7929720" y="2670120"/>
              <a:chExt cx="300600" cy="2949120"/>
            </a:xfrm>
          </p:grpSpPr>
          <p:sp>
            <p:nvSpPr>
              <p:cNvPr id="874" name=""/>
              <p:cNvSpPr/>
              <p:nvPr/>
            </p:nvSpPr>
            <p:spPr>
              <a:xfrm flipV="1" rot="5400000">
                <a:off x="6604200" y="3995640"/>
                <a:ext cx="2949120" cy="298080"/>
              </a:xfrm>
              <a:prstGeom prst="ellipse">
                <a:avLst/>
              </a:prstGeom>
              <a:noFill/>
              <a:ln w="25560">
                <a:solidFill>
                  <a:srgbClr val="000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8081280" y="4547160"/>
                <a:ext cx="149040" cy="1072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6576840" y="2430360"/>
              <a:ext cx="8114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32560" y="2430360"/>
              <a:ext cx="10130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635960" y="343044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3440" y="343044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62480" y="3430440"/>
              <a:ext cx="10130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249880" y="244800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75640" y="3070080"/>
              <a:ext cx="104436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20000" y="4006800"/>
              <a:ext cx="10447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3,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88000" y="4941720"/>
              <a:ext cx="104436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Comic Sans MS"/>
                </a:rPr>
                <a:t>3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Comic Sans MS"/>
                </a:rPr>
                <a:t>B</a:t>
              </a:r>
              <a:r>
                <a:rPr b="1" lang="en-US" sz="1800" spc="-1" strike="noStrike" baseline="-25000">
                  <a:solidFill>
                    <a:srgbClr val="003399"/>
                  </a:solidFill>
                  <a:latin typeface="Comic Sans MS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80000" y="5297400"/>
              <a:ext cx="8114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394320" y="5297400"/>
              <a:ext cx="10144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12040" y="5302080"/>
              <a:ext cx="10126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08720" y="4367160"/>
              <a:ext cx="809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8120" y="4367160"/>
              <a:ext cx="101268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270400" y="4367160"/>
              <a:ext cx="10130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BC33-2BB7-4F56-B1FA-8030313D2C9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x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68360" y="1511280"/>
            <a:ext cx="8136000" cy="48236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×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p=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                                               (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324000" y="212256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324000" y="306072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"/>
          <p:cNvSpPr/>
          <p:nvPr/>
        </p:nvSpPr>
        <p:spPr>
          <a:xfrm>
            <a:off x="1368360" y="2122560"/>
            <a:ext cx="10447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1368360" y="3060720"/>
            <a:ext cx="10447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1368360" y="3998880"/>
            <a:ext cx="104472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2413080" y="306072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"/>
          <p:cNvSpPr/>
          <p:nvPr/>
        </p:nvSpPr>
        <p:spPr>
          <a:xfrm>
            <a:off x="2413080" y="3998880"/>
            <a:ext cx="104436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2413080" y="493884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3457440" y="2122560"/>
            <a:ext cx="104328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3457440" y="3998880"/>
            <a:ext cx="104328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3457440" y="4938840"/>
            <a:ext cx="104328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345960" y="2658240"/>
            <a:ext cx="300960" cy="2949840"/>
            <a:chOff x="345960" y="2658240"/>
            <a:chExt cx="300960" cy="2949840"/>
          </a:xfrm>
        </p:grpSpPr>
        <p:sp>
          <p:nvSpPr>
            <p:cNvPr id="905" name=""/>
            <p:cNvSpPr/>
            <p:nvPr/>
          </p:nvSpPr>
          <p:spPr>
            <a:xfrm flipV="1" rot="5400000">
              <a:off x="-979560" y="3983400"/>
              <a:ext cx="2949480" cy="2984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497880" y="4536000"/>
              <a:ext cx="14904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1436760" y="2658240"/>
            <a:ext cx="299160" cy="2949840"/>
            <a:chOff x="1436760" y="2658240"/>
            <a:chExt cx="299160" cy="2949840"/>
          </a:xfrm>
        </p:grpSpPr>
        <p:sp>
          <p:nvSpPr>
            <p:cNvPr id="908" name=""/>
            <p:cNvSpPr/>
            <p:nvPr/>
          </p:nvSpPr>
          <p:spPr>
            <a:xfrm flipV="1" rot="5400000">
              <a:off x="110160" y="3984120"/>
              <a:ext cx="2949480" cy="2966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587600" y="4536000"/>
              <a:ext cx="14832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2479680" y="2658240"/>
            <a:ext cx="300960" cy="2949840"/>
            <a:chOff x="2479680" y="2658240"/>
            <a:chExt cx="300960" cy="2949840"/>
          </a:xfrm>
        </p:grpSpPr>
        <p:sp>
          <p:nvSpPr>
            <p:cNvPr id="911" name=""/>
            <p:cNvSpPr/>
            <p:nvPr/>
          </p:nvSpPr>
          <p:spPr>
            <a:xfrm flipV="1" rot="5400000">
              <a:off x="1154160" y="3983400"/>
              <a:ext cx="2949480" cy="2984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2631600" y="4536000"/>
              <a:ext cx="14904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3465360" y="2658240"/>
            <a:ext cx="300960" cy="2949840"/>
            <a:chOff x="3465360" y="2658240"/>
            <a:chExt cx="300960" cy="2949840"/>
          </a:xfrm>
        </p:grpSpPr>
        <p:sp>
          <p:nvSpPr>
            <p:cNvPr id="914" name=""/>
            <p:cNvSpPr/>
            <p:nvPr/>
          </p:nvSpPr>
          <p:spPr>
            <a:xfrm flipV="1" rot="5400000">
              <a:off x="2139840" y="3983400"/>
              <a:ext cx="2949480" cy="2984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3617280" y="4536000"/>
              <a:ext cx="14904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1136520" y="4282920"/>
            <a:ext cx="8114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"/>
          <p:cNvSpPr/>
          <p:nvPr/>
        </p:nvSpPr>
        <p:spPr>
          <a:xfrm>
            <a:off x="1951200" y="4282920"/>
            <a:ext cx="101412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2968560" y="4287960"/>
            <a:ext cx="10130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2155680" y="5291280"/>
            <a:ext cx="8114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29128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"/>
          <p:cNvSpPr/>
          <p:nvPr/>
        </p:nvSpPr>
        <p:spPr>
          <a:xfrm>
            <a:off x="3171960" y="248292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"/>
          <p:cNvSpPr/>
          <p:nvPr/>
        </p:nvSpPr>
        <p:spPr>
          <a:xfrm>
            <a:off x="798480" y="529128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"/>
          <p:cNvSpPr/>
          <p:nvPr/>
        </p:nvSpPr>
        <p:spPr>
          <a:xfrm>
            <a:off x="1819440" y="248292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"/>
          <p:cNvSpPr/>
          <p:nvPr/>
        </p:nvSpPr>
        <p:spPr>
          <a:xfrm>
            <a:off x="798480" y="248292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"/>
          <p:cNvSpPr/>
          <p:nvPr/>
        </p:nvSpPr>
        <p:spPr>
          <a:xfrm>
            <a:off x="2836800" y="341964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"/>
          <p:cNvSpPr/>
          <p:nvPr/>
        </p:nvSpPr>
        <p:spPr>
          <a:xfrm>
            <a:off x="1816200" y="341964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798480" y="341964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4716360" y="2122560"/>
            <a:ext cx="10447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4716360" y="3998880"/>
            <a:ext cx="104472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5761080" y="212256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5761080" y="306072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5761080" y="493884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6805440" y="2122560"/>
            <a:ext cx="10447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6805440" y="3998880"/>
            <a:ext cx="104472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7850160" y="3060720"/>
            <a:ext cx="10429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7850160" y="4938840"/>
            <a:ext cx="10429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738680" y="2658240"/>
            <a:ext cx="300960" cy="2949840"/>
            <a:chOff x="4738680" y="2658240"/>
            <a:chExt cx="300960" cy="2949840"/>
          </a:xfrm>
        </p:grpSpPr>
        <p:sp>
          <p:nvSpPr>
            <p:cNvPr id="938" name=""/>
            <p:cNvSpPr/>
            <p:nvPr/>
          </p:nvSpPr>
          <p:spPr>
            <a:xfrm flipV="1" rot="5400000">
              <a:off x="3413160" y="3983400"/>
              <a:ext cx="2949480" cy="2984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890600" y="4536000"/>
              <a:ext cx="14904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5829480" y="2658240"/>
            <a:ext cx="299160" cy="2949840"/>
            <a:chOff x="5829480" y="2658240"/>
            <a:chExt cx="299160" cy="2949840"/>
          </a:xfrm>
        </p:grpSpPr>
        <p:sp>
          <p:nvSpPr>
            <p:cNvPr id="941" name=""/>
            <p:cNvSpPr/>
            <p:nvPr/>
          </p:nvSpPr>
          <p:spPr>
            <a:xfrm flipV="1" rot="5400000">
              <a:off x="4502880" y="3984120"/>
              <a:ext cx="2949480" cy="2966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5980320" y="4536000"/>
              <a:ext cx="14832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72400" y="2658240"/>
            <a:ext cx="300960" cy="2949840"/>
            <a:chOff x="6872400" y="2658240"/>
            <a:chExt cx="300960" cy="2949840"/>
          </a:xfrm>
        </p:grpSpPr>
        <p:sp>
          <p:nvSpPr>
            <p:cNvPr id="944" name=""/>
            <p:cNvSpPr/>
            <p:nvPr/>
          </p:nvSpPr>
          <p:spPr>
            <a:xfrm flipV="1" rot="5400000">
              <a:off x="5546880" y="3983400"/>
              <a:ext cx="2949480" cy="2984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7024320" y="4536000"/>
              <a:ext cx="14904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858080" y="2658240"/>
            <a:ext cx="300960" cy="2949840"/>
            <a:chOff x="7858080" y="2658240"/>
            <a:chExt cx="300960" cy="2949840"/>
          </a:xfrm>
        </p:grpSpPr>
        <p:sp>
          <p:nvSpPr>
            <p:cNvPr id="947" name=""/>
            <p:cNvSpPr/>
            <p:nvPr/>
          </p:nvSpPr>
          <p:spPr>
            <a:xfrm flipV="1" rot="5400000">
              <a:off x="6532560" y="3983400"/>
              <a:ext cx="2949480" cy="298440"/>
            </a:xfrm>
            <a:prstGeom prst="ellipse">
              <a:avLst/>
            </a:prstGeom>
            <a:noFill/>
            <a:ln w="2556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8010000" y="4536000"/>
              <a:ext cx="149040" cy="1072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6505560" y="4290840"/>
            <a:ext cx="8110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7361280" y="429084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7564320" y="529128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>
            <a:off x="6211800" y="529128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5191200" y="529128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5178600" y="4308480"/>
            <a:ext cx="8092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6804000" y="3059280"/>
            <a:ext cx="1044720" cy="93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7848720" y="3995640"/>
            <a:ext cx="104436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4716360" y="4930920"/>
            <a:ext cx="1044720" cy="93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5508720" y="3413160"/>
            <a:ext cx="8110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6323040" y="3413160"/>
            <a:ext cx="10144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7340760" y="341784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7237440" y="2482920"/>
            <a:ext cx="8096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6216480" y="2482920"/>
            <a:ext cx="10130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5199120" y="2482920"/>
            <a:ext cx="10126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2413080" y="212256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3456000" y="3057480"/>
            <a:ext cx="104472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324000" y="3995640"/>
            <a:ext cx="104436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2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324000" y="4930920"/>
            <a:ext cx="1044360" cy="93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1368360" y="4930920"/>
            <a:ext cx="1044720" cy="93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3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7848720" y="2122560"/>
            <a:ext cx="104436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4716360" y="3056040"/>
            <a:ext cx="1044720" cy="93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5759280" y="3995640"/>
            <a:ext cx="104472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"/>
          <p:cNvSpPr/>
          <p:nvPr/>
        </p:nvSpPr>
        <p:spPr>
          <a:xfrm>
            <a:off x="6804000" y="4930920"/>
            <a:ext cx="1044720" cy="93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mic Sans MS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mic Sans MS"/>
              </a:rPr>
              <a:t>B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Comic Sans MS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84AA9-6D35-4D09-B6F3-7F93DAEE8A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x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68000" y="1510920"/>
            <a:ext cx="8280360" cy="4088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运行时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超立方连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②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执行   次，所以运行时间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=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 t(n)=O(nlog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二维网孔连接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CT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选路模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思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995640" y="3357720"/>
                <a:ext cx="358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1100160" y="3873600"/>
                <a:ext cx="5292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136520" y="2492280"/>
                <a:ext cx="63597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，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088A-AFD2-45EC-83E7-A33212DF1B1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68360" y="619200"/>
            <a:ext cx="842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简单并行分块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2 Cannon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3 Fo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4.4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Systolic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乘法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5 DNS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"/>
          <p:cNvSpPr/>
          <p:nvPr/>
        </p:nvSpPr>
        <p:spPr>
          <a:xfrm>
            <a:off x="275184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3745800" y="25732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3745800" y="22845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"/>
          <p:cNvSpPr/>
          <p:nvPr/>
        </p:nvSpPr>
        <p:spPr>
          <a:xfrm>
            <a:off x="3745800" y="19972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/>
          <p:cNvSpPr/>
          <p:nvPr/>
        </p:nvSpPr>
        <p:spPr>
          <a:xfrm>
            <a:off x="4898520" y="17082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"/>
          <p:cNvSpPr/>
          <p:nvPr/>
        </p:nvSpPr>
        <p:spPr>
          <a:xfrm>
            <a:off x="4898520" y="22845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"/>
          <p:cNvSpPr/>
          <p:nvPr/>
        </p:nvSpPr>
        <p:spPr>
          <a:xfrm>
            <a:off x="4898520" y="19972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"/>
          <p:cNvSpPr/>
          <p:nvPr/>
        </p:nvSpPr>
        <p:spPr>
          <a:xfrm>
            <a:off x="5986080" y="14209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5986080" y="17082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"/>
          <p:cNvSpPr/>
          <p:nvPr/>
        </p:nvSpPr>
        <p:spPr>
          <a:xfrm>
            <a:off x="5986080" y="19972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7273440" y="11336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7273440" y="14209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7273440" y="17082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231372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"/>
          <p:cNvSpPr/>
          <p:nvPr/>
        </p:nvSpPr>
        <p:spPr>
          <a:xfrm>
            <a:off x="145008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188208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231372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"/>
          <p:cNvSpPr/>
          <p:nvPr/>
        </p:nvSpPr>
        <p:spPr>
          <a:xfrm>
            <a:off x="101844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"/>
          <p:cNvSpPr/>
          <p:nvPr/>
        </p:nvSpPr>
        <p:spPr>
          <a:xfrm>
            <a:off x="145008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"/>
          <p:cNvSpPr/>
          <p:nvPr/>
        </p:nvSpPr>
        <p:spPr>
          <a:xfrm>
            <a:off x="188208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"/>
          <p:cNvSpPr/>
          <p:nvPr/>
        </p:nvSpPr>
        <p:spPr>
          <a:xfrm>
            <a:off x="58500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"/>
          <p:cNvSpPr/>
          <p:nvPr/>
        </p:nvSpPr>
        <p:spPr>
          <a:xfrm>
            <a:off x="101844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"/>
          <p:cNvSpPr/>
          <p:nvPr/>
        </p:nvSpPr>
        <p:spPr>
          <a:xfrm>
            <a:off x="145008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188208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3744360" y="16938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4906440" y="1405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5986080" y="11095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"/>
          <p:cNvSpPr/>
          <p:nvPr/>
        </p:nvSpPr>
        <p:spPr>
          <a:xfrm>
            <a:off x="7273440" y="8208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"/>
          <p:cNvSpPr/>
          <p:nvPr/>
        </p:nvSpPr>
        <p:spPr>
          <a:xfrm>
            <a:off x="3693960" y="32554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"/>
          <p:cNvSpPr/>
          <p:nvPr/>
        </p:nvSpPr>
        <p:spPr>
          <a:xfrm>
            <a:off x="4869000" y="32554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"/>
          <p:cNvSpPr/>
          <p:nvPr/>
        </p:nvSpPr>
        <p:spPr>
          <a:xfrm>
            <a:off x="6046920" y="32554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7223040" y="32554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3693960" y="42634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4869000" y="42634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6046920" y="42634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7223040" y="42634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3693960" y="52714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4869000" y="52714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6046920" y="52714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7223040" y="52714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4579920" y="363204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5757840" y="363204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6934320" y="363204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4579920" y="46404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"/>
          <p:cNvSpPr/>
          <p:nvPr/>
        </p:nvSpPr>
        <p:spPr>
          <a:xfrm>
            <a:off x="5757840" y="46404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6934320" y="464040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4148280" y="399240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"/>
          <p:cNvSpPr/>
          <p:nvPr/>
        </p:nvSpPr>
        <p:spPr>
          <a:xfrm>
            <a:off x="5300640" y="399240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"/>
          <p:cNvSpPr/>
          <p:nvPr/>
        </p:nvSpPr>
        <p:spPr>
          <a:xfrm>
            <a:off x="6453360" y="399240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7677000" y="399240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"/>
          <p:cNvSpPr/>
          <p:nvPr/>
        </p:nvSpPr>
        <p:spPr>
          <a:xfrm>
            <a:off x="4579920" y="56484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"/>
          <p:cNvSpPr/>
          <p:nvPr/>
        </p:nvSpPr>
        <p:spPr>
          <a:xfrm>
            <a:off x="5757840" y="56484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"/>
          <p:cNvSpPr/>
          <p:nvPr/>
        </p:nvSpPr>
        <p:spPr>
          <a:xfrm>
            <a:off x="6934320" y="564840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"/>
          <p:cNvSpPr/>
          <p:nvPr/>
        </p:nvSpPr>
        <p:spPr>
          <a:xfrm>
            <a:off x="4148280" y="50007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5300640" y="50007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6453360" y="50007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7677000" y="50007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"/>
          <p:cNvSpPr/>
          <p:nvPr/>
        </p:nvSpPr>
        <p:spPr>
          <a:xfrm>
            <a:off x="3355920" y="36561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3355920" y="46641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3355920" y="56721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C865-1481-41F5-AAED-3F6BFCEA2AB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1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带状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棋盘划分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374580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374580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4898520" y="20527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489852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489852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"/>
          <p:cNvSpPr/>
          <p:nvPr/>
        </p:nvSpPr>
        <p:spPr>
          <a:xfrm>
            <a:off x="5986080" y="1765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"/>
          <p:cNvSpPr/>
          <p:nvPr/>
        </p:nvSpPr>
        <p:spPr>
          <a:xfrm>
            <a:off x="5986080" y="20527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"/>
          <p:cNvSpPr/>
          <p:nvPr/>
        </p:nvSpPr>
        <p:spPr>
          <a:xfrm>
            <a:off x="598608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"/>
          <p:cNvSpPr/>
          <p:nvPr/>
        </p:nvSpPr>
        <p:spPr>
          <a:xfrm>
            <a:off x="7273440" y="14781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"/>
          <p:cNvSpPr/>
          <p:nvPr/>
        </p:nvSpPr>
        <p:spPr>
          <a:xfrm>
            <a:off x="7273440" y="1765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"/>
          <p:cNvSpPr/>
          <p:nvPr/>
        </p:nvSpPr>
        <p:spPr>
          <a:xfrm>
            <a:off x="7273440" y="20527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"/>
          <p:cNvSpPr/>
          <p:nvPr/>
        </p:nvSpPr>
        <p:spPr>
          <a:xfrm>
            <a:off x="275040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/>
          <p:nvPr/>
        </p:nvSpPr>
        <p:spPr>
          <a:xfrm>
            <a:off x="188676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"/>
          <p:cNvSpPr/>
          <p:nvPr/>
        </p:nvSpPr>
        <p:spPr>
          <a:xfrm>
            <a:off x="2318400" y="35085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275040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145512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"/>
          <p:cNvSpPr/>
          <p:nvPr/>
        </p:nvSpPr>
        <p:spPr>
          <a:xfrm>
            <a:off x="188676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"/>
          <p:cNvSpPr/>
          <p:nvPr/>
        </p:nvSpPr>
        <p:spPr>
          <a:xfrm>
            <a:off x="2318400" y="4525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"/>
          <p:cNvSpPr/>
          <p:nvPr/>
        </p:nvSpPr>
        <p:spPr>
          <a:xfrm>
            <a:off x="102168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"/>
          <p:cNvSpPr/>
          <p:nvPr/>
        </p:nvSpPr>
        <p:spPr>
          <a:xfrm>
            <a:off x="145512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"/>
          <p:cNvSpPr/>
          <p:nvPr/>
        </p:nvSpPr>
        <p:spPr>
          <a:xfrm>
            <a:off x="188676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2318400" y="55339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3744360" y="20383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4906440" y="17496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5986080" y="14540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7273440" y="11653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3542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3898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"/>
          <p:cNvSpPr/>
          <p:nvPr/>
        </p:nvSpPr>
        <p:spPr>
          <a:xfrm>
            <a:off x="4376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"/>
          <p:cNvSpPr/>
          <p:nvPr/>
        </p:nvSpPr>
        <p:spPr>
          <a:xfrm>
            <a:off x="4102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8BBB-759D-40D2-987D-C6BD48D47A7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"/>
          <p:cNvSpPr/>
          <p:nvPr/>
        </p:nvSpPr>
        <p:spPr>
          <a:xfrm>
            <a:off x="3745800" y="26449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"/>
          <p:cNvSpPr/>
          <p:nvPr/>
        </p:nvSpPr>
        <p:spPr>
          <a:xfrm>
            <a:off x="4898520" y="23558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4898520" y="26449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5986080" y="20685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"/>
          <p:cNvSpPr/>
          <p:nvPr/>
        </p:nvSpPr>
        <p:spPr>
          <a:xfrm>
            <a:off x="5986080" y="23558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"/>
          <p:cNvSpPr/>
          <p:nvPr/>
        </p:nvSpPr>
        <p:spPr>
          <a:xfrm>
            <a:off x="5986080" y="26449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"/>
          <p:cNvSpPr/>
          <p:nvPr/>
        </p:nvSpPr>
        <p:spPr>
          <a:xfrm>
            <a:off x="7273440" y="17812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"/>
          <p:cNvSpPr/>
          <p:nvPr/>
        </p:nvSpPr>
        <p:spPr>
          <a:xfrm>
            <a:off x="7273440" y="20685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"/>
          <p:cNvSpPr/>
          <p:nvPr/>
        </p:nvSpPr>
        <p:spPr>
          <a:xfrm>
            <a:off x="7273440" y="23558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"/>
          <p:cNvSpPr/>
          <p:nvPr/>
        </p:nvSpPr>
        <p:spPr>
          <a:xfrm>
            <a:off x="2313720" y="348444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"/>
          <p:cNvSpPr/>
          <p:nvPr/>
        </p:nvSpPr>
        <p:spPr>
          <a:xfrm>
            <a:off x="2745720" y="348444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"/>
          <p:cNvSpPr/>
          <p:nvPr/>
        </p:nvSpPr>
        <p:spPr>
          <a:xfrm>
            <a:off x="1882080" y="4502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"/>
          <p:cNvSpPr/>
          <p:nvPr/>
        </p:nvSpPr>
        <p:spPr>
          <a:xfrm>
            <a:off x="2313720" y="4502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"/>
          <p:cNvSpPr/>
          <p:nvPr/>
        </p:nvSpPr>
        <p:spPr>
          <a:xfrm>
            <a:off x="2745720" y="4502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"/>
          <p:cNvSpPr/>
          <p:nvPr/>
        </p:nvSpPr>
        <p:spPr>
          <a:xfrm>
            <a:off x="144864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"/>
          <p:cNvSpPr/>
          <p:nvPr/>
        </p:nvSpPr>
        <p:spPr>
          <a:xfrm>
            <a:off x="188208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"/>
          <p:cNvSpPr/>
          <p:nvPr/>
        </p:nvSpPr>
        <p:spPr>
          <a:xfrm>
            <a:off x="231372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"/>
          <p:cNvSpPr/>
          <p:nvPr/>
        </p:nvSpPr>
        <p:spPr>
          <a:xfrm>
            <a:off x="274572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374436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"/>
          <p:cNvSpPr/>
          <p:nvPr/>
        </p:nvSpPr>
        <p:spPr>
          <a:xfrm>
            <a:off x="4906440" y="20527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"/>
          <p:cNvSpPr/>
          <p:nvPr/>
        </p:nvSpPr>
        <p:spPr>
          <a:xfrm>
            <a:off x="5986080" y="175752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"/>
          <p:cNvSpPr/>
          <p:nvPr/>
        </p:nvSpPr>
        <p:spPr>
          <a:xfrm>
            <a:off x="7273440" y="1468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"/>
          <p:cNvSpPr/>
          <p:nvPr/>
        </p:nvSpPr>
        <p:spPr>
          <a:xfrm>
            <a:off x="3542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"/>
          <p:cNvSpPr/>
          <p:nvPr/>
        </p:nvSpPr>
        <p:spPr>
          <a:xfrm>
            <a:off x="3898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"/>
          <p:cNvSpPr/>
          <p:nvPr/>
        </p:nvSpPr>
        <p:spPr>
          <a:xfrm>
            <a:off x="4376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4102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"/>
          <p:cNvSpPr/>
          <p:nvPr/>
        </p:nvSpPr>
        <p:spPr>
          <a:xfrm>
            <a:off x="4685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"/>
          <p:cNvSpPr/>
          <p:nvPr/>
        </p:nvSpPr>
        <p:spPr>
          <a:xfrm>
            <a:off x="5041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"/>
          <p:cNvSpPr/>
          <p:nvPr/>
        </p:nvSpPr>
        <p:spPr>
          <a:xfrm>
            <a:off x="5519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"/>
          <p:cNvSpPr/>
          <p:nvPr/>
        </p:nvSpPr>
        <p:spPr>
          <a:xfrm>
            <a:off x="5245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"/>
          <p:cNvSpPr/>
          <p:nvPr/>
        </p:nvSpPr>
        <p:spPr>
          <a:xfrm>
            <a:off x="353772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389376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4371840" y="4653000"/>
            <a:ext cx="14472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409752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4BD3-11F8-46D1-8530-7684F1A7E8F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"/>
          <p:cNvSpPr/>
          <p:nvPr/>
        </p:nvSpPr>
        <p:spPr>
          <a:xfrm>
            <a:off x="489852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"/>
          <p:cNvSpPr/>
          <p:nvPr/>
        </p:nvSpPr>
        <p:spPr>
          <a:xfrm>
            <a:off x="598608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598608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"/>
          <p:cNvSpPr/>
          <p:nvPr/>
        </p:nvSpPr>
        <p:spPr>
          <a:xfrm>
            <a:off x="7273440" y="20541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"/>
          <p:cNvSpPr/>
          <p:nvPr/>
        </p:nvSpPr>
        <p:spPr>
          <a:xfrm>
            <a:off x="727344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"/>
          <p:cNvSpPr/>
          <p:nvPr/>
        </p:nvSpPr>
        <p:spPr>
          <a:xfrm>
            <a:off x="727344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"/>
          <p:cNvSpPr/>
          <p:nvPr/>
        </p:nvSpPr>
        <p:spPr>
          <a:xfrm>
            <a:off x="2750400" y="348444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"/>
          <p:cNvSpPr/>
          <p:nvPr/>
        </p:nvSpPr>
        <p:spPr>
          <a:xfrm>
            <a:off x="2318400" y="4502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"/>
          <p:cNvSpPr/>
          <p:nvPr/>
        </p:nvSpPr>
        <p:spPr>
          <a:xfrm>
            <a:off x="2750400" y="4502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"/>
          <p:cNvSpPr/>
          <p:nvPr/>
        </p:nvSpPr>
        <p:spPr>
          <a:xfrm>
            <a:off x="188532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231840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275040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"/>
          <p:cNvSpPr/>
          <p:nvPr/>
        </p:nvSpPr>
        <p:spPr>
          <a:xfrm>
            <a:off x="3744360" y="26146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"/>
          <p:cNvSpPr/>
          <p:nvPr/>
        </p:nvSpPr>
        <p:spPr>
          <a:xfrm>
            <a:off x="4906440" y="23256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"/>
          <p:cNvSpPr/>
          <p:nvPr/>
        </p:nvSpPr>
        <p:spPr>
          <a:xfrm>
            <a:off x="5986080" y="203040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"/>
          <p:cNvSpPr/>
          <p:nvPr/>
        </p:nvSpPr>
        <p:spPr>
          <a:xfrm>
            <a:off x="7273440" y="17416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3542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"/>
          <p:cNvSpPr/>
          <p:nvPr/>
        </p:nvSpPr>
        <p:spPr>
          <a:xfrm>
            <a:off x="3898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"/>
          <p:cNvSpPr/>
          <p:nvPr/>
        </p:nvSpPr>
        <p:spPr>
          <a:xfrm>
            <a:off x="4376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4102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>
            <a:off x="4685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"/>
          <p:cNvSpPr/>
          <p:nvPr/>
        </p:nvSpPr>
        <p:spPr>
          <a:xfrm>
            <a:off x="5041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"/>
          <p:cNvSpPr/>
          <p:nvPr/>
        </p:nvSpPr>
        <p:spPr>
          <a:xfrm>
            <a:off x="5519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"/>
          <p:cNvSpPr/>
          <p:nvPr/>
        </p:nvSpPr>
        <p:spPr>
          <a:xfrm>
            <a:off x="5245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"/>
          <p:cNvSpPr/>
          <p:nvPr/>
        </p:nvSpPr>
        <p:spPr>
          <a:xfrm>
            <a:off x="353772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"/>
          <p:cNvSpPr/>
          <p:nvPr/>
        </p:nvSpPr>
        <p:spPr>
          <a:xfrm>
            <a:off x="389376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"/>
          <p:cNvSpPr/>
          <p:nvPr/>
        </p:nvSpPr>
        <p:spPr>
          <a:xfrm>
            <a:off x="4371840" y="4653000"/>
            <a:ext cx="14472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409752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5909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6265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6743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6469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353772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"/>
          <p:cNvSpPr/>
          <p:nvPr/>
        </p:nvSpPr>
        <p:spPr>
          <a:xfrm>
            <a:off x="389376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4371840" y="5661000"/>
            <a:ext cx="14472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409752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"/>
          <p:cNvSpPr/>
          <p:nvPr/>
        </p:nvSpPr>
        <p:spPr>
          <a:xfrm>
            <a:off x="46854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66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"/>
          <p:cNvSpPr/>
          <p:nvPr/>
        </p:nvSpPr>
        <p:spPr>
          <a:xfrm>
            <a:off x="504144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"/>
          <p:cNvSpPr/>
          <p:nvPr/>
        </p:nvSpPr>
        <p:spPr>
          <a:xfrm>
            <a:off x="551988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"/>
          <p:cNvSpPr/>
          <p:nvPr/>
        </p:nvSpPr>
        <p:spPr>
          <a:xfrm>
            <a:off x="52452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0031-6297-48C0-9B82-832CA6635DF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"/>
          <p:cNvSpPr/>
          <p:nvPr/>
        </p:nvSpPr>
        <p:spPr>
          <a:xfrm>
            <a:off x="598608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"/>
          <p:cNvSpPr/>
          <p:nvPr/>
        </p:nvSpPr>
        <p:spPr>
          <a:xfrm>
            <a:off x="7273440" y="23414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"/>
          <p:cNvSpPr/>
          <p:nvPr/>
        </p:nvSpPr>
        <p:spPr>
          <a:xfrm>
            <a:off x="727344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"/>
          <p:cNvSpPr/>
          <p:nvPr/>
        </p:nvSpPr>
        <p:spPr>
          <a:xfrm>
            <a:off x="2750400" y="4502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"/>
          <p:cNvSpPr/>
          <p:nvPr/>
        </p:nvSpPr>
        <p:spPr>
          <a:xfrm>
            <a:off x="231696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"/>
          <p:cNvSpPr/>
          <p:nvPr/>
        </p:nvSpPr>
        <p:spPr>
          <a:xfrm>
            <a:off x="275040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4906440" y="2613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"/>
          <p:cNvSpPr/>
          <p:nvPr/>
        </p:nvSpPr>
        <p:spPr>
          <a:xfrm>
            <a:off x="5986080" y="23176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"/>
          <p:cNvSpPr/>
          <p:nvPr/>
        </p:nvSpPr>
        <p:spPr>
          <a:xfrm>
            <a:off x="7273440" y="20289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3542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"/>
          <p:cNvSpPr/>
          <p:nvPr/>
        </p:nvSpPr>
        <p:spPr>
          <a:xfrm>
            <a:off x="3898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4376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4102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"/>
          <p:cNvSpPr/>
          <p:nvPr/>
        </p:nvSpPr>
        <p:spPr>
          <a:xfrm>
            <a:off x="4685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"/>
          <p:cNvSpPr/>
          <p:nvPr/>
        </p:nvSpPr>
        <p:spPr>
          <a:xfrm>
            <a:off x="5041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"/>
          <p:cNvSpPr/>
          <p:nvPr/>
        </p:nvSpPr>
        <p:spPr>
          <a:xfrm>
            <a:off x="5519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"/>
          <p:cNvSpPr/>
          <p:nvPr/>
        </p:nvSpPr>
        <p:spPr>
          <a:xfrm>
            <a:off x="5245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"/>
          <p:cNvSpPr/>
          <p:nvPr/>
        </p:nvSpPr>
        <p:spPr>
          <a:xfrm>
            <a:off x="353772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"/>
          <p:cNvSpPr/>
          <p:nvPr/>
        </p:nvSpPr>
        <p:spPr>
          <a:xfrm>
            <a:off x="389376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"/>
          <p:cNvSpPr/>
          <p:nvPr/>
        </p:nvSpPr>
        <p:spPr>
          <a:xfrm>
            <a:off x="4371840" y="4653000"/>
            <a:ext cx="14472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"/>
          <p:cNvSpPr/>
          <p:nvPr/>
        </p:nvSpPr>
        <p:spPr>
          <a:xfrm>
            <a:off x="409752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"/>
          <p:cNvSpPr/>
          <p:nvPr/>
        </p:nvSpPr>
        <p:spPr>
          <a:xfrm>
            <a:off x="5909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6265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6743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"/>
          <p:cNvSpPr/>
          <p:nvPr/>
        </p:nvSpPr>
        <p:spPr>
          <a:xfrm>
            <a:off x="6469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"/>
          <p:cNvSpPr/>
          <p:nvPr/>
        </p:nvSpPr>
        <p:spPr>
          <a:xfrm>
            <a:off x="353772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"/>
          <p:cNvSpPr/>
          <p:nvPr/>
        </p:nvSpPr>
        <p:spPr>
          <a:xfrm>
            <a:off x="389376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"/>
          <p:cNvSpPr/>
          <p:nvPr/>
        </p:nvSpPr>
        <p:spPr>
          <a:xfrm>
            <a:off x="4371840" y="5661000"/>
            <a:ext cx="14472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409752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"/>
          <p:cNvSpPr/>
          <p:nvPr/>
        </p:nvSpPr>
        <p:spPr>
          <a:xfrm>
            <a:off x="46854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"/>
          <p:cNvSpPr/>
          <p:nvPr/>
        </p:nvSpPr>
        <p:spPr>
          <a:xfrm>
            <a:off x="504144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"/>
          <p:cNvSpPr/>
          <p:nvPr/>
        </p:nvSpPr>
        <p:spPr>
          <a:xfrm>
            <a:off x="551988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"/>
          <p:cNvSpPr/>
          <p:nvPr/>
        </p:nvSpPr>
        <p:spPr>
          <a:xfrm>
            <a:off x="52452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"/>
          <p:cNvSpPr/>
          <p:nvPr/>
        </p:nvSpPr>
        <p:spPr>
          <a:xfrm>
            <a:off x="706212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"/>
          <p:cNvSpPr/>
          <p:nvPr/>
        </p:nvSpPr>
        <p:spPr>
          <a:xfrm>
            <a:off x="741780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"/>
          <p:cNvSpPr/>
          <p:nvPr/>
        </p:nvSpPr>
        <p:spPr>
          <a:xfrm>
            <a:off x="789624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"/>
          <p:cNvSpPr/>
          <p:nvPr/>
        </p:nvSpPr>
        <p:spPr>
          <a:xfrm>
            <a:off x="762192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"/>
          <p:cNvSpPr/>
          <p:nvPr/>
        </p:nvSpPr>
        <p:spPr>
          <a:xfrm>
            <a:off x="591408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627012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"/>
          <p:cNvSpPr/>
          <p:nvPr/>
        </p:nvSpPr>
        <p:spPr>
          <a:xfrm>
            <a:off x="674856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"/>
          <p:cNvSpPr/>
          <p:nvPr/>
        </p:nvSpPr>
        <p:spPr>
          <a:xfrm>
            <a:off x="647388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"/>
          <p:cNvSpPr/>
          <p:nvPr/>
        </p:nvSpPr>
        <p:spPr>
          <a:xfrm>
            <a:off x="475704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"/>
          <p:cNvSpPr/>
          <p:nvPr/>
        </p:nvSpPr>
        <p:spPr>
          <a:xfrm>
            <a:off x="51127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/>
          <p:nvPr/>
        </p:nvSpPr>
        <p:spPr>
          <a:xfrm>
            <a:off x="55911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"/>
          <p:cNvSpPr/>
          <p:nvPr/>
        </p:nvSpPr>
        <p:spPr>
          <a:xfrm>
            <a:off x="531684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8A3E-19B6-47FA-A564-22893191381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"/>
          <p:cNvSpPr/>
          <p:nvPr/>
        </p:nvSpPr>
        <p:spPr>
          <a:xfrm>
            <a:off x="727344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"/>
          <p:cNvSpPr/>
          <p:nvPr/>
        </p:nvSpPr>
        <p:spPr>
          <a:xfrm>
            <a:off x="2750400" y="551016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"/>
          <p:cNvSpPr/>
          <p:nvPr/>
        </p:nvSpPr>
        <p:spPr>
          <a:xfrm>
            <a:off x="5986080" y="260496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"/>
          <p:cNvSpPr/>
          <p:nvPr/>
        </p:nvSpPr>
        <p:spPr>
          <a:xfrm>
            <a:off x="7273440" y="2316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"/>
          <p:cNvSpPr/>
          <p:nvPr/>
        </p:nvSpPr>
        <p:spPr>
          <a:xfrm>
            <a:off x="4685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"/>
          <p:cNvSpPr/>
          <p:nvPr/>
        </p:nvSpPr>
        <p:spPr>
          <a:xfrm>
            <a:off x="5041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"/>
          <p:cNvSpPr/>
          <p:nvPr/>
        </p:nvSpPr>
        <p:spPr>
          <a:xfrm>
            <a:off x="5519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"/>
          <p:cNvSpPr/>
          <p:nvPr/>
        </p:nvSpPr>
        <p:spPr>
          <a:xfrm>
            <a:off x="5245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"/>
          <p:cNvSpPr/>
          <p:nvPr/>
        </p:nvSpPr>
        <p:spPr>
          <a:xfrm>
            <a:off x="353772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"/>
          <p:cNvSpPr/>
          <p:nvPr/>
        </p:nvSpPr>
        <p:spPr>
          <a:xfrm>
            <a:off x="389376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"/>
          <p:cNvSpPr/>
          <p:nvPr/>
        </p:nvSpPr>
        <p:spPr>
          <a:xfrm>
            <a:off x="4371840" y="4653000"/>
            <a:ext cx="14472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"/>
          <p:cNvSpPr/>
          <p:nvPr/>
        </p:nvSpPr>
        <p:spPr>
          <a:xfrm>
            <a:off x="409752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"/>
          <p:cNvSpPr/>
          <p:nvPr/>
        </p:nvSpPr>
        <p:spPr>
          <a:xfrm>
            <a:off x="5909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6265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6743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"/>
          <p:cNvSpPr/>
          <p:nvPr/>
        </p:nvSpPr>
        <p:spPr>
          <a:xfrm>
            <a:off x="6469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"/>
          <p:cNvSpPr/>
          <p:nvPr/>
        </p:nvSpPr>
        <p:spPr>
          <a:xfrm>
            <a:off x="353772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"/>
          <p:cNvSpPr/>
          <p:nvPr/>
        </p:nvSpPr>
        <p:spPr>
          <a:xfrm>
            <a:off x="389376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"/>
          <p:cNvSpPr/>
          <p:nvPr/>
        </p:nvSpPr>
        <p:spPr>
          <a:xfrm>
            <a:off x="4371840" y="5661000"/>
            <a:ext cx="14472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"/>
          <p:cNvSpPr/>
          <p:nvPr/>
        </p:nvSpPr>
        <p:spPr>
          <a:xfrm>
            <a:off x="409752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"/>
          <p:cNvSpPr/>
          <p:nvPr/>
        </p:nvSpPr>
        <p:spPr>
          <a:xfrm>
            <a:off x="46854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"/>
          <p:cNvSpPr/>
          <p:nvPr/>
        </p:nvSpPr>
        <p:spPr>
          <a:xfrm>
            <a:off x="504144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"/>
          <p:cNvSpPr/>
          <p:nvPr/>
        </p:nvSpPr>
        <p:spPr>
          <a:xfrm>
            <a:off x="551988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"/>
          <p:cNvSpPr/>
          <p:nvPr/>
        </p:nvSpPr>
        <p:spPr>
          <a:xfrm>
            <a:off x="52452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"/>
          <p:cNvSpPr/>
          <p:nvPr/>
        </p:nvSpPr>
        <p:spPr>
          <a:xfrm>
            <a:off x="706212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"/>
          <p:cNvSpPr/>
          <p:nvPr/>
        </p:nvSpPr>
        <p:spPr>
          <a:xfrm>
            <a:off x="741780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"/>
          <p:cNvSpPr/>
          <p:nvPr/>
        </p:nvSpPr>
        <p:spPr>
          <a:xfrm>
            <a:off x="789624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762192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"/>
          <p:cNvSpPr/>
          <p:nvPr/>
        </p:nvSpPr>
        <p:spPr>
          <a:xfrm>
            <a:off x="591408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"/>
          <p:cNvSpPr/>
          <p:nvPr/>
        </p:nvSpPr>
        <p:spPr>
          <a:xfrm>
            <a:off x="627012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"/>
          <p:cNvSpPr/>
          <p:nvPr/>
        </p:nvSpPr>
        <p:spPr>
          <a:xfrm>
            <a:off x="674856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"/>
          <p:cNvSpPr/>
          <p:nvPr/>
        </p:nvSpPr>
        <p:spPr>
          <a:xfrm>
            <a:off x="647388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"/>
          <p:cNvSpPr/>
          <p:nvPr/>
        </p:nvSpPr>
        <p:spPr>
          <a:xfrm>
            <a:off x="475704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"/>
          <p:cNvSpPr/>
          <p:nvPr/>
        </p:nvSpPr>
        <p:spPr>
          <a:xfrm>
            <a:off x="51127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"/>
          <p:cNvSpPr/>
          <p:nvPr/>
        </p:nvSpPr>
        <p:spPr>
          <a:xfrm>
            <a:off x="55911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"/>
          <p:cNvSpPr/>
          <p:nvPr/>
        </p:nvSpPr>
        <p:spPr>
          <a:xfrm>
            <a:off x="531684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"/>
          <p:cNvSpPr/>
          <p:nvPr/>
        </p:nvSpPr>
        <p:spPr>
          <a:xfrm>
            <a:off x="70668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"/>
          <p:cNvSpPr/>
          <p:nvPr/>
        </p:nvSpPr>
        <p:spPr>
          <a:xfrm>
            <a:off x="742248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"/>
          <p:cNvSpPr/>
          <p:nvPr/>
        </p:nvSpPr>
        <p:spPr>
          <a:xfrm>
            <a:off x="790092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"/>
          <p:cNvSpPr/>
          <p:nvPr/>
        </p:nvSpPr>
        <p:spPr>
          <a:xfrm>
            <a:off x="76266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"/>
          <p:cNvSpPr/>
          <p:nvPr/>
        </p:nvSpPr>
        <p:spPr>
          <a:xfrm>
            <a:off x="591408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"/>
          <p:cNvSpPr/>
          <p:nvPr/>
        </p:nvSpPr>
        <p:spPr>
          <a:xfrm>
            <a:off x="62701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67485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"/>
          <p:cNvSpPr/>
          <p:nvPr/>
        </p:nvSpPr>
        <p:spPr>
          <a:xfrm>
            <a:off x="647388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66EA-118F-42B6-9004-E547C3A0EAE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"/>
          <p:cNvSpPr/>
          <p:nvPr/>
        </p:nvSpPr>
        <p:spPr>
          <a:xfrm>
            <a:off x="7273440" y="262908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"/>
          <p:cNvSpPr/>
          <p:nvPr/>
        </p:nvSpPr>
        <p:spPr>
          <a:xfrm>
            <a:off x="590940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"/>
          <p:cNvSpPr/>
          <p:nvPr/>
        </p:nvSpPr>
        <p:spPr>
          <a:xfrm>
            <a:off x="626544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"/>
          <p:cNvSpPr/>
          <p:nvPr/>
        </p:nvSpPr>
        <p:spPr>
          <a:xfrm>
            <a:off x="674388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"/>
          <p:cNvSpPr/>
          <p:nvPr/>
        </p:nvSpPr>
        <p:spPr>
          <a:xfrm>
            <a:off x="646920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"/>
          <p:cNvSpPr/>
          <p:nvPr/>
        </p:nvSpPr>
        <p:spPr>
          <a:xfrm>
            <a:off x="353772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"/>
          <p:cNvSpPr/>
          <p:nvPr/>
        </p:nvSpPr>
        <p:spPr>
          <a:xfrm>
            <a:off x="389376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"/>
          <p:cNvSpPr/>
          <p:nvPr/>
        </p:nvSpPr>
        <p:spPr>
          <a:xfrm>
            <a:off x="4371840" y="5661000"/>
            <a:ext cx="14472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"/>
          <p:cNvSpPr/>
          <p:nvPr/>
        </p:nvSpPr>
        <p:spPr>
          <a:xfrm>
            <a:off x="409752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"/>
          <p:cNvSpPr/>
          <p:nvPr/>
        </p:nvSpPr>
        <p:spPr>
          <a:xfrm>
            <a:off x="46854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"/>
          <p:cNvSpPr/>
          <p:nvPr/>
        </p:nvSpPr>
        <p:spPr>
          <a:xfrm>
            <a:off x="504144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"/>
          <p:cNvSpPr/>
          <p:nvPr/>
        </p:nvSpPr>
        <p:spPr>
          <a:xfrm>
            <a:off x="551988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"/>
          <p:cNvSpPr/>
          <p:nvPr/>
        </p:nvSpPr>
        <p:spPr>
          <a:xfrm>
            <a:off x="52452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"/>
          <p:cNvSpPr/>
          <p:nvPr/>
        </p:nvSpPr>
        <p:spPr>
          <a:xfrm>
            <a:off x="706212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"/>
          <p:cNvSpPr/>
          <p:nvPr/>
        </p:nvSpPr>
        <p:spPr>
          <a:xfrm>
            <a:off x="741780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"/>
          <p:cNvSpPr/>
          <p:nvPr/>
        </p:nvSpPr>
        <p:spPr>
          <a:xfrm>
            <a:off x="789624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"/>
          <p:cNvSpPr/>
          <p:nvPr/>
        </p:nvSpPr>
        <p:spPr>
          <a:xfrm>
            <a:off x="762192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591408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627012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"/>
          <p:cNvSpPr/>
          <p:nvPr/>
        </p:nvSpPr>
        <p:spPr>
          <a:xfrm>
            <a:off x="674856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647388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"/>
          <p:cNvSpPr/>
          <p:nvPr/>
        </p:nvSpPr>
        <p:spPr>
          <a:xfrm>
            <a:off x="475704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"/>
          <p:cNvSpPr/>
          <p:nvPr/>
        </p:nvSpPr>
        <p:spPr>
          <a:xfrm>
            <a:off x="51127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"/>
          <p:cNvSpPr/>
          <p:nvPr/>
        </p:nvSpPr>
        <p:spPr>
          <a:xfrm>
            <a:off x="55911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"/>
          <p:cNvSpPr/>
          <p:nvPr/>
        </p:nvSpPr>
        <p:spPr>
          <a:xfrm>
            <a:off x="531684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"/>
          <p:cNvSpPr/>
          <p:nvPr/>
        </p:nvSpPr>
        <p:spPr>
          <a:xfrm>
            <a:off x="70668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"/>
          <p:cNvSpPr/>
          <p:nvPr/>
        </p:nvSpPr>
        <p:spPr>
          <a:xfrm>
            <a:off x="742248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790092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"/>
          <p:cNvSpPr/>
          <p:nvPr/>
        </p:nvSpPr>
        <p:spPr>
          <a:xfrm>
            <a:off x="76266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"/>
          <p:cNvSpPr/>
          <p:nvPr/>
        </p:nvSpPr>
        <p:spPr>
          <a:xfrm>
            <a:off x="591408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"/>
          <p:cNvSpPr/>
          <p:nvPr/>
        </p:nvSpPr>
        <p:spPr>
          <a:xfrm>
            <a:off x="62701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"/>
          <p:cNvSpPr/>
          <p:nvPr/>
        </p:nvSpPr>
        <p:spPr>
          <a:xfrm>
            <a:off x="67485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47388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"/>
          <p:cNvSpPr/>
          <p:nvPr/>
        </p:nvSpPr>
        <p:spPr>
          <a:xfrm>
            <a:off x="706680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"/>
          <p:cNvSpPr/>
          <p:nvPr/>
        </p:nvSpPr>
        <p:spPr>
          <a:xfrm>
            <a:off x="742248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"/>
          <p:cNvSpPr/>
          <p:nvPr/>
        </p:nvSpPr>
        <p:spPr>
          <a:xfrm>
            <a:off x="790092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762660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5EDC-11EF-4ACC-8BF4-84379D0F440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"/>
          <p:cNvSpPr/>
          <p:nvPr/>
        </p:nvSpPr>
        <p:spPr>
          <a:xfrm>
            <a:off x="7062120" y="3316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"/>
          <p:cNvSpPr/>
          <p:nvPr/>
        </p:nvSpPr>
        <p:spPr>
          <a:xfrm>
            <a:off x="7417800" y="3324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"/>
          <p:cNvSpPr/>
          <p:nvPr/>
        </p:nvSpPr>
        <p:spPr>
          <a:xfrm>
            <a:off x="7896240" y="3645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7621920" y="3645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"/>
          <p:cNvSpPr/>
          <p:nvPr/>
        </p:nvSpPr>
        <p:spPr>
          <a:xfrm>
            <a:off x="591408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"/>
          <p:cNvSpPr/>
          <p:nvPr/>
        </p:nvSpPr>
        <p:spPr>
          <a:xfrm>
            <a:off x="627012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"/>
          <p:cNvSpPr/>
          <p:nvPr/>
        </p:nvSpPr>
        <p:spPr>
          <a:xfrm>
            <a:off x="674856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"/>
          <p:cNvSpPr/>
          <p:nvPr/>
        </p:nvSpPr>
        <p:spPr>
          <a:xfrm>
            <a:off x="647388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"/>
          <p:cNvSpPr/>
          <p:nvPr/>
        </p:nvSpPr>
        <p:spPr>
          <a:xfrm>
            <a:off x="475704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51127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"/>
          <p:cNvSpPr/>
          <p:nvPr/>
        </p:nvSpPr>
        <p:spPr>
          <a:xfrm>
            <a:off x="55911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531684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"/>
          <p:cNvSpPr/>
          <p:nvPr/>
        </p:nvSpPr>
        <p:spPr>
          <a:xfrm>
            <a:off x="70668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"/>
          <p:cNvSpPr/>
          <p:nvPr/>
        </p:nvSpPr>
        <p:spPr>
          <a:xfrm>
            <a:off x="742248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"/>
          <p:cNvSpPr/>
          <p:nvPr/>
        </p:nvSpPr>
        <p:spPr>
          <a:xfrm>
            <a:off x="790092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"/>
          <p:cNvSpPr/>
          <p:nvPr/>
        </p:nvSpPr>
        <p:spPr>
          <a:xfrm>
            <a:off x="76266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"/>
          <p:cNvSpPr/>
          <p:nvPr/>
        </p:nvSpPr>
        <p:spPr>
          <a:xfrm>
            <a:off x="591408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"/>
          <p:cNvSpPr/>
          <p:nvPr/>
        </p:nvSpPr>
        <p:spPr>
          <a:xfrm>
            <a:off x="62701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"/>
          <p:cNvSpPr/>
          <p:nvPr/>
        </p:nvSpPr>
        <p:spPr>
          <a:xfrm>
            <a:off x="67485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"/>
          <p:cNvSpPr/>
          <p:nvPr/>
        </p:nvSpPr>
        <p:spPr>
          <a:xfrm>
            <a:off x="647388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"/>
          <p:cNvSpPr/>
          <p:nvPr/>
        </p:nvSpPr>
        <p:spPr>
          <a:xfrm>
            <a:off x="706680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"/>
          <p:cNvSpPr/>
          <p:nvPr/>
        </p:nvSpPr>
        <p:spPr>
          <a:xfrm>
            <a:off x="742248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"/>
          <p:cNvSpPr/>
          <p:nvPr/>
        </p:nvSpPr>
        <p:spPr>
          <a:xfrm>
            <a:off x="790092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"/>
          <p:cNvSpPr/>
          <p:nvPr/>
        </p:nvSpPr>
        <p:spPr>
          <a:xfrm>
            <a:off x="762660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9B18-B390-4083-91AF-8F26E487243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"/>
          <p:cNvSpPr/>
          <p:nvPr/>
        </p:nvSpPr>
        <p:spPr>
          <a:xfrm>
            <a:off x="7066800" y="4324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"/>
          <p:cNvSpPr/>
          <p:nvPr/>
        </p:nvSpPr>
        <p:spPr>
          <a:xfrm>
            <a:off x="7422480" y="4332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"/>
          <p:cNvSpPr/>
          <p:nvPr/>
        </p:nvSpPr>
        <p:spPr>
          <a:xfrm>
            <a:off x="7900920" y="4653000"/>
            <a:ext cx="144360" cy="28872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7626600" y="4653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"/>
          <p:cNvSpPr/>
          <p:nvPr/>
        </p:nvSpPr>
        <p:spPr>
          <a:xfrm>
            <a:off x="591408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"/>
          <p:cNvSpPr/>
          <p:nvPr/>
        </p:nvSpPr>
        <p:spPr>
          <a:xfrm>
            <a:off x="627012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"/>
          <p:cNvSpPr/>
          <p:nvPr/>
        </p:nvSpPr>
        <p:spPr>
          <a:xfrm>
            <a:off x="674856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647388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"/>
          <p:cNvSpPr/>
          <p:nvPr/>
        </p:nvSpPr>
        <p:spPr>
          <a:xfrm>
            <a:off x="706680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"/>
          <p:cNvSpPr/>
          <p:nvPr/>
        </p:nvSpPr>
        <p:spPr>
          <a:xfrm>
            <a:off x="742248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"/>
          <p:cNvSpPr/>
          <p:nvPr/>
        </p:nvSpPr>
        <p:spPr>
          <a:xfrm>
            <a:off x="790092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762660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"/>
          <p:cNvSpPr/>
          <p:nvPr/>
        </p:nvSpPr>
        <p:spPr>
          <a:xfrm>
            <a:off x="1408320" y="2182680"/>
            <a:ext cx="1447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C795C-9ADE-49CF-9C7B-A1128A4A7CA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370692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"/>
          <p:cNvSpPr/>
          <p:nvPr/>
        </p:nvSpPr>
        <p:spPr>
          <a:xfrm>
            <a:off x="488160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"/>
          <p:cNvSpPr/>
          <p:nvPr/>
        </p:nvSpPr>
        <p:spPr>
          <a:xfrm>
            <a:off x="6059520" y="3242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"/>
          <p:cNvSpPr/>
          <p:nvPr/>
        </p:nvSpPr>
        <p:spPr>
          <a:xfrm>
            <a:off x="7236000" y="3242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"/>
          <p:cNvSpPr/>
          <p:nvPr/>
        </p:nvSpPr>
        <p:spPr>
          <a:xfrm>
            <a:off x="370692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488160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"/>
          <p:cNvSpPr/>
          <p:nvPr/>
        </p:nvSpPr>
        <p:spPr>
          <a:xfrm>
            <a:off x="6059520" y="4250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"/>
          <p:cNvSpPr/>
          <p:nvPr/>
        </p:nvSpPr>
        <p:spPr>
          <a:xfrm>
            <a:off x="7236000" y="4250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"/>
          <p:cNvSpPr/>
          <p:nvPr/>
        </p:nvSpPr>
        <p:spPr>
          <a:xfrm>
            <a:off x="370692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"/>
          <p:cNvSpPr/>
          <p:nvPr/>
        </p:nvSpPr>
        <p:spPr>
          <a:xfrm>
            <a:off x="488160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"/>
          <p:cNvSpPr/>
          <p:nvPr/>
        </p:nvSpPr>
        <p:spPr>
          <a:xfrm>
            <a:off x="6059520" y="5258160"/>
            <a:ext cx="88596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"/>
          <p:cNvSpPr/>
          <p:nvPr/>
        </p:nvSpPr>
        <p:spPr>
          <a:xfrm>
            <a:off x="7236000" y="5258160"/>
            <a:ext cx="885600" cy="82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"/>
          <p:cNvSpPr/>
          <p:nvPr/>
        </p:nvSpPr>
        <p:spPr>
          <a:xfrm>
            <a:off x="7066800" y="5332320"/>
            <a:ext cx="881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"/>
          <p:cNvSpPr/>
          <p:nvPr/>
        </p:nvSpPr>
        <p:spPr>
          <a:xfrm>
            <a:off x="7422480" y="5340240"/>
            <a:ext cx="894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"/>
          <p:cNvSpPr/>
          <p:nvPr/>
        </p:nvSpPr>
        <p:spPr>
          <a:xfrm>
            <a:off x="7900920" y="5661000"/>
            <a:ext cx="144360" cy="289080"/>
          </a:xfrm>
          <a:custGeom>
            <a:avLst/>
            <a:gdLst/>
            <a:ahLst/>
            <a:rect l="l" t="t" r="r" b="b"/>
            <a:pathLst>
              <a:path w="91" h="137">
                <a:moveTo>
                  <a:pt x="0" y="0"/>
                </a:moveTo>
                <a:cubicBezTo>
                  <a:pt x="45" y="11"/>
                  <a:pt x="91" y="23"/>
                  <a:pt x="91" y="46"/>
                </a:cubicBezTo>
                <a:cubicBezTo>
                  <a:pt x="91" y="69"/>
                  <a:pt x="45" y="103"/>
                  <a:pt x="0" y="137"/>
                </a:cubicBezTo>
              </a:path>
            </a:pathLst>
          </a:custGeom>
          <a:noFill/>
          <a:ln w="255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7626600" y="5661360"/>
            <a:ext cx="652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>
            <a:off x="1324440" y="2182680"/>
            <a:ext cx="1617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4015-C31B-490B-B46D-FB0FABD106F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"/>
          <p:cNvSpPr/>
          <p:nvPr/>
        </p:nvSpPr>
        <p:spPr>
          <a:xfrm>
            <a:off x="3706920" y="32680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"/>
          <p:cNvSpPr/>
          <p:nvPr/>
        </p:nvSpPr>
        <p:spPr>
          <a:xfrm>
            <a:off x="4881600" y="32680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"/>
          <p:cNvSpPr/>
          <p:nvPr/>
        </p:nvSpPr>
        <p:spPr>
          <a:xfrm>
            <a:off x="6059520" y="32680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"/>
          <p:cNvSpPr/>
          <p:nvPr/>
        </p:nvSpPr>
        <p:spPr>
          <a:xfrm>
            <a:off x="7236000" y="32680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"/>
          <p:cNvSpPr/>
          <p:nvPr/>
        </p:nvSpPr>
        <p:spPr>
          <a:xfrm>
            <a:off x="3706920" y="42760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"/>
          <p:cNvSpPr/>
          <p:nvPr/>
        </p:nvSpPr>
        <p:spPr>
          <a:xfrm>
            <a:off x="4881600" y="42760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"/>
          <p:cNvSpPr/>
          <p:nvPr/>
        </p:nvSpPr>
        <p:spPr>
          <a:xfrm>
            <a:off x="6059520" y="42760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"/>
          <p:cNvSpPr/>
          <p:nvPr/>
        </p:nvSpPr>
        <p:spPr>
          <a:xfrm>
            <a:off x="7236000" y="42760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2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"/>
          <p:cNvSpPr/>
          <p:nvPr/>
        </p:nvSpPr>
        <p:spPr>
          <a:xfrm>
            <a:off x="3706920" y="52840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/>
          <p:cNvSpPr/>
          <p:nvPr/>
        </p:nvSpPr>
        <p:spPr>
          <a:xfrm>
            <a:off x="4881600" y="52840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"/>
          <p:cNvSpPr/>
          <p:nvPr/>
        </p:nvSpPr>
        <p:spPr>
          <a:xfrm>
            <a:off x="6059520" y="5284080"/>
            <a:ext cx="88596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"/>
          <p:cNvSpPr/>
          <p:nvPr/>
        </p:nvSpPr>
        <p:spPr>
          <a:xfrm>
            <a:off x="7236000" y="5284080"/>
            <a:ext cx="885600" cy="77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"/>
          <p:cNvSpPr/>
          <p:nvPr/>
        </p:nvSpPr>
        <p:spPr>
          <a:xfrm>
            <a:off x="1517760" y="2182680"/>
            <a:ext cx="1228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"/>
          <p:cNvSpPr/>
          <p:nvPr/>
        </p:nvSpPr>
        <p:spPr>
          <a:xfrm>
            <a:off x="45925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"/>
          <p:cNvSpPr/>
          <p:nvPr/>
        </p:nvSpPr>
        <p:spPr>
          <a:xfrm>
            <a:off x="577044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"/>
          <p:cNvSpPr/>
          <p:nvPr/>
        </p:nvSpPr>
        <p:spPr>
          <a:xfrm>
            <a:off x="6946920" y="3645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"/>
          <p:cNvSpPr/>
          <p:nvPr/>
        </p:nvSpPr>
        <p:spPr>
          <a:xfrm>
            <a:off x="45925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"/>
          <p:cNvSpPr/>
          <p:nvPr/>
        </p:nvSpPr>
        <p:spPr>
          <a:xfrm>
            <a:off x="577044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"/>
          <p:cNvSpPr/>
          <p:nvPr/>
        </p:nvSpPr>
        <p:spPr>
          <a:xfrm>
            <a:off x="6946920" y="4653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"/>
          <p:cNvSpPr/>
          <p:nvPr/>
        </p:nvSpPr>
        <p:spPr>
          <a:xfrm>
            <a:off x="416088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"/>
          <p:cNvSpPr/>
          <p:nvPr/>
        </p:nvSpPr>
        <p:spPr>
          <a:xfrm>
            <a:off x="531324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"/>
          <p:cNvSpPr/>
          <p:nvPr/>
        </p:nvSpPr>
        <p:spPr>
          <a:xfrm>
            <a:off x="6465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7689960" y="4005360"/>
            <a:ext cx="0" cy="312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"/>
          <p:cNvSpPr/>
          <p:nvPr/>
        </p:nvSpPr>
        <p:spPr>
          <a:xfrm>
            <a:off x="45925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"/>
          <p:cNvSpPr/>
          <p:nvPr/>
        </p:nvSpPr>
        <p:spPr>
          <a:xfrm>
            <a:off x="577044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"/>
          <p:cNvSpPr/>
          <p:nvPr/>
        </p:nvSpPr>
        <p:spPr>
          <a:xfrm>
            <a:off x="6946920" y="566100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"/>
          <p:cNvSpPr/>
          <p:nvPr/>
        </p:nvSpPr>
        <p:spPr>
          <a:xfrm>
            <a:off x="416088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"/>
          <p:cNvSpPr/>
          <p:nvPr/>
        </p:nvSpPr>
        <p:spPr>
          <a:xfrm>
            <a:off x="531324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"/>
          <p:cNvSpPr/>
          <p:nvPr/>
        </p:nvSpPr>
        <p:spPr>
          <a:xfrm>
            <a:off x="6465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"/>
          <p:cNvSpPr/>
          <p:nvPr/>
        </p:nvSpPr>
        <p:spPr>
          <a:xfrm>
            <a:off x="7689960" y="501336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416088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"/>
          <p:cNvSpPr/>
          <p:nvPr/>
        </p:nvSpPr>
        <p:spPr>
          <a:xfrm>
            <a:off x="531324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"/>
          <p:cNvSpPr/>
          <p:nvPr/>
        </p:nvSpPr>
        <p:spPr>
          <a:xfrm>
            <a:off x="6465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"/>
          <p:cNvSpPr/>
          <p:nvPr/>
        </p:nvSpPr>
        <p:spPr>
          <a:xfrm>
            <a:off x="7689960" y="2949480"/>
            <a:ext cx="0" cy="3128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"/>
          <p:cNvSpPr/>
          <p:nvPr/>
        </p:nvSpPr>
        <p:spPr>
          <a:xfrm>
            <a:off x="3368520" y="3668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"/>
          <p:cNvSpPr/>
          <p:nvPr/>
        </p:nvSpPr>
        <p:spPr>
          <a:xfrm>
            <a:off x="3368520" y="4676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"/>
          <p:cNvSpPr/>
          <p:nvPr/>
        </p:nvSpPr>
        <p:spPr>
          <a:xfrm>
            <a:off x="3368520" y="5684760"/>
            <a:ext cx="289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"/>
          <p:cNvSpPr/>
          <p:nvPr/>
        </p:nvSpPr>
        <p:spPr>
          <a:xfrm>
            <a:off x="4089240" y="1268280"/>
            <a:ext cx="5040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1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1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1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1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1,2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1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2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2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3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2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,4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2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cc0066"/>
                </a:solidFill>
                <a:latin typeface="Arial"/>
              </a:rPr>
              <a:t>3,4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1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1,4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2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2,4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3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3,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3,4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4,4</a:t>
            </a:r>
            <a:r>
              <a:rPr b="1" lang="en-US" sz="2000" spc="-1" strike="noStrike" baseline="-25000">
                <a:solidFill>
                  <a:srgbClr val="ffe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B150-4F33-40F3-B6EA-ADC7C49913A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带状划分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07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6×16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阶矩阵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=4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块带状划分                           行循环带状划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71560" y="2205000"/>
          <a:ext cx="715644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1560" y="2205000"/>
                    <a:ext cx="715644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E47F-D06B-4499-9A7E-4AC35BBC99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olic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"/>
          <p:cNvSpPr/>
          <p:nvPr/>
        </p:nvSpPr>
        <p:spPr>
          <a:xfrm>
            <a:off x="755640" y="1550880"/>
            <a:ext cx="633744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Systolic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.T. Kung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m×n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×k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;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m×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i=1 to m   par-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j=1 to k  par-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)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i)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收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+a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f  i &lt; m then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+1,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ndi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f  j &lt; k   then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+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ndi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wh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2D74-C688-4798-A822-4F0402A58DF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68360" y="619200"/>
            <a:ext cx="842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简单并行分块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2 Cannon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3 Fo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.4 Systolic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乘法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4.5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DNS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乘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S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395280" y="1501560"/>
            <a:ext cx="8424720" cy="993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tivation: From a good and common id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"/>
          <p:cNvSpPr/>
          <p:nvPr/>
        </p:nvSpPr>
        <p:spPr>
          <a:xfrm rot="16200000">
            <a:off x="1110960" y="2457000"/>
            <a:ext cx="167652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"/>
          <p:cNvSpPr/>
          <p:nvPr/>
        </p:nvSpPr>
        <p:spPr>
          <a:xfrm rot="16200000">
            <a:off x="6064200" y="245700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"/>
          <p:cNvSpPr/>
          <p:nvPr/>
        </p:nvSpPr>
        <p:spPr>
          <a:xfrm rot="16200000">
            <a:off x="4159080" y="245700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"/>
          <p:cNvSpPr/>
          <p:nvPr/>
        </p:nvSpPr>
        <p:spPr>
          <a:xfrm>
            <a:off x="1720800" y="24573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"/>
          <p:cNvSpPr/>
          <p:nvPr/>
        </p:nvSpPr>
        <p:spPr>
          <a:xfrm>
            <a:off x="1873080" y="24573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"/>
          <p:cNvSpPr/>
          <p:nvPr/>
        </p:nvSpPr>
        <p:spPr>
          <a:xfrm>
            <a:off x="1111320" y="3067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"/>
          <p:cNvSpPr/>
          <p:nvPr/>
        </p:nvSpPr>
        <p:spPr>
          <a:xfrm>
            <a:off x="1111320" y="3219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"/>
          <p:cNvSpPr/>
          <p:nvPr/>
        </p:nvSpPr>
        <p:spPr>
          <a:xfrm>
            <a:off x="4159080" y="3067200"/>
            <a:ext cx="167652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6597720" y="2457360"/>
            <a:ext cx="1522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"/>
          <p:cNvSpPr/>
          <p:nvPr/>
        </p:nvSpPr>
        <p:spPr>
          <a:xfrm>
            <a:off x="1720800" y="306720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"/>
          <p:cNvSpPr/>
          <p:nvPr/>
        </p:nvSpPr>
        <p:spPr>
          <a:xfrm>
            <a:off x="3321000" y="3143160"/>
            <a:ext cx="38088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"/>
          <p:cNvSpPr/>
          <p:nvPr/>
        </p:nvSpPr>
        <p:spPr>
          <a:xfrm>
            <a:off x="3321000" y="3295800"/>
            <a:ext cx="3808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"/>
          <p:cNvSpPr/>
          <p:nvPr/>
        </p:nvSpPr>
        <p:spPr>
          <a:xfrm>
            <a:off x="1630440" y="2076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"/>
          <p:cNvSpPr/>
          <p:nvPr/>
        </p:nvSpPr>
        <p:spPr>
          <a:xfrm>
            <a:off x="814320" y="2865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2124000" y="4654440"/>
            <a:ext cx="4495320" cy="1008720"/>
            <a:chOff x="2124000" y="4654440"/>
            <a:chExt cx="4495320" cy="1008720"/>
          </a:xfrm>
        </p:grpSpPr>
        <p:sp>
          <p:nvSpPr>
            <p:cNvPr id="1719" name=""/>
            <p:cNvSpPr/>
            <p:nvPr/>
          </p:nvSpPr>
          <p:spPr>
            <a:xfrm>
              <a:off x="3419280" y="480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2962080" y="4654440"/>
              <a:ext cx="533520" cy="1008720"/>
              <a:chOff x="2962080" y="4654440"/>
              <a:chExt cx="533520" cy="1008720"/>
            </a:xfrm>
          </p:grpSpPr>
          <p:sp>
            <p:nvSpPr>
              <p:cNvPr id="1721" name=""/>
              <p:cNvSpPr/>
              <p:nvPr/>
            </p:nvSpPr>
            <p:spPr>
              <a:xfrm>
                <a:off x="3038400" y="4654440"/>
                <a:ext cx="15228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rot="16200000">
                <a:off x="3038040" y="5340240"/>
                <a:ext cx="152640" cy="152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962080" y="4807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114720" y="46544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114720" y="52642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3800520" y="4654440"/>
              <a:ext cx="532800" cy="1008720"/>
              <a:chOff x="3800520" y="4654440"/>
              <a:chExt cx="532800" cy="1008720"/>
            </a:xfrm>
          </p:grpSpPr>
          <p:sp>
            <p:nvSpPr>
              <p:cNvPr id="1727" name=""/>
              <p:cNvSpPr/>
              <p:nvPr/>
            </p:nvSpPr>
            <p:spPr>
              <a:xfrm>
                <a:off x="3876480" y="4654440"/>
                <a:ext cx="15192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16200000">
                <a:off x="3876120" y="5340600"/>
                <a:ext cx="152640" cy="151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800520" y="480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952800" y="465444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952800" y="526428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4638600" y="4654440"/>
              <a:ext cx="533520" cy="1008720"/>
              <a:chOff x="4638600" y="4654440"/>
              <a:chExt cx="533520" cy="1008720"/>
            </a:xfrm>
          </p:grpSpPr>
          <p:sp>
            <p:nvSpPr>
              <p:cNvPr id="1733" name=""/>
              <p:cNvSpPr/>
              <p:nvPr/>
            </p:nvSpPr>
            <p:spPr>
              <a:xfrm>
                <a:off x="4714920" y="4654440"/>
                <a:ext cx="15228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rot="16200000">
                <a:off x="4714560" y="5340240"/>
                <a:ext cx="152640" cy="152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638600" y="4807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91240" y="46544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791240" y="52642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6086520" y="4654440"/>
              <a:ext cx="532800" cy="1008720"/>
              <a:chOff x="6086520" y="4654440"/>
              <a:chExt cx="532800" cy="1008720"/>
            </a:xfrm>
          </p:grpSpPr>
          <p:sp>
            <p:nvSpPr>
              <p:cNvPr id="1739" name=""/>
              <p:cNvSpPr/>
              <p:nvPr/>
            </p:nvSpPr>
            <p:spPr>
              <a:xfrm>
                <a:off x="6162480" y="4654440"/>
                <a:ext cx="15192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rot="16200000">
                <a:off x="6162120" y="5340600"/>
                <a:ext cx="152640" cy="151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086520" y="480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238800" y="465444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238800" y="526428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>
              <a:off x="4257720" y="480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095800" y="480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400720" y="480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705280" y="480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352600" y="480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24000" y="49593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854520" y="222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"/>
          <p:cNvSpPr/>
          <p:nvPr/>
        </p:nvSpPr>
        <p:spPr>
          <a:xfrm>
            <a:off x="5759280" y="22287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>
            <a:off x="806400" y="222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7405-4361-4204-B8BB-75AE349ACAD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S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286920" y="1441080"/>
            <a:ext cx="8821800" cy="488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tivation: From a good and common idea(Cont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use processors more effectively and practicall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"/>
          <p:cNvSpPr/>
          <p:nvPr/>
        </p:nvSpPr>
        <p:spPr>
          <a:xfrm>
            <a:off x="2170080" y="199872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"/>
          <p:cNvSpPr/>
          <p:nvPr/>
        </p:nvSpPr>
        <p:spPr>
          <a:xfrm>
            <a:off x="3846600" y="199872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3008160" y="199872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"/>
          <p:cNvSpPr/>
          <p:nvPr/>
        </p:nvSpPr>
        <p:spPr>
          <a:xfrm>
            <a:off x="5294160" y="199872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"/>
          <p:cNvSpPr/>
          <p:nvPr/>
        </p:nvSpPr>
        <p:spPr>
          <a:xfrm>
            <a:off x="2779560" y="2379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2322360" y="2227320"/>
            <a:ext cx="533520" cy="1008720"/>
            <a:chOff x="2322360" y="2227320"/>
            <a:chExt cx="533520" cy="1008720"/>
          </a:xfrm>
        </p:grpSpPr>
        <p:sp>
          <p:nvSpPr>
            <p:cNvPr id="1761" name=""/>
            <p:cNvSpPr/>
            <p:nvPr/>
          </p:nvSpPr>
          <p:spPr>
            <a:xfrm>
              <a:off x="2398680" y="222732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2" name=""/>
            <p:cNvSpPr/>
            <p:nvPr/>
          </p:nvSpPr>
          <p:spPr>
            <a:xfrm rot="16200000">
              <a:off x="2398320" y="291312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322360" y="2379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475000" y="2227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475000" y="2837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3160800" y="2227320"/>
            <a:ext cx="532800" cy="1008720"/>
            <a:chOff x="3160800" y="2227320"/>
            <a:chExt cx="532800" cy="1008720"/>
          </a:xfrm>
        </p:grpSpPr>
        <p:sp>
          <p:nvSpPr>
            <p:cNvPr id="1767" name=""/>
            <p:cNvSpPr/>
            <p:nvPr/>
          </p:nvSpPr>
          <p:spPr>
            <a:xfrm>
              <a:off x="3236760" y="222732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6200000">
              <a:off x="3236400" y="2913480"/>
              <a:ext cx="152640" cy="151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160800" y="2379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313080" y="22273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313080" y="283716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3998880" y="2227320"/>
            <a:ext cx="533520" cy="1008720"/>
            <a:chOff x="3998880" y="2227320"/>
            <a:chExt cx="533520" cy="1008720"/>
          </a:xfrm>
        </p:grpSpPr>
        <p:sp>
          <p:nvSpPr>
            <p:cNvPr id="1773" name=""/>
            <p:cNvSpPr/>
            <p:nvPr/>
          </p:nvSpPr>
          <p:spPr>
            <a:xfrm>
              <a:off x="4075200" y="222732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4" name=""/>
            <p:cNvSpPr/>
            <p:nvPr/>
          </p:nvSpPr>
          <p:spPr>
            <a:xfrm rot="16200000">
              <a:off x="4074840" y="291312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998880" y="23799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151520" y="2227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151520" y="2837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5446800" y="2227320"/>
            <a:ext cx="532800" cy="1008720"/>
            <a:chOff x="5446800" y="2227320"/>
            <a:chExt cx="532800" cy="1008720"/>
          </a:xfrm>
        </p:grpSpPr>
        <p:sp>
          <p:nvSpPr>
            <p:cNvPr id="1779" name=""/>
            <p:cNvSpPr/>
            <p:nvPr/>
          </p:nvSpPr>
          <p:spPr>
            <a:xfrm>
              <a:off x="5522760" y="222732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0" name=""/>
            <p:cNvSpPr/>
            <p:nvPr/>
          </p:nvSpPr>
          <p:spPr>
            <a:xfrm rot="16200000">
              <a:off x="5522400" y="2913480"/>
              <a:ext cx="152640" cy="151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446800" y="2379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599080" y="22273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599080" y="283716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618000" y="2379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"/>
          <p:cNvSpPr/>
          <p:nvPr/>
        </p:nvSpPr>
        <p:spPr>
          <a:xfrm>
            <a:off x="4456080" y="2379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"/>
          <p:cNvSpPr/>
          <p:nvPr/>
        </p:nvSpPr>
        <p:spPr>
          <a:xfrm>
            <a:off x="4761000" y="2379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5065560" y="2379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"/>
          <p:cNvSpPr/>
          <p:nvPr/>
        </p:nvSpPr>
        <p:spPr>
          <a:xfrm>
            <a:off x="1712880" y="4741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"/>
          <p:cNvSpPr/>
          <p:nvPr/>
        </p:nvSpPr>
        <p:spPr>
          <a:xfrm>
            <a:off x="1484280" y="489420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"/>
          <p:cNvSpPr/>
          <p:nvPr/>
        </p:nvSpPr>
        <p:spPr>
          <a:xfrm>
            <a:off x="3008160" y="4056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"/>
          <p:cNvSpPr/>
          <p:nvPr/>
        </p:nvSpPr>
        <p:spPr>
          <a:xfrm>
            <a:off x="2170080" y="359892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"/>
          <p:cNvSpPr/>
          <p:nvPr/>
        </p:nvSpPr>
        <p:spPr>
          <a:xfrm>
            <a:off x="2322360" y="36752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3" name=""/>
          <p:cNvSpPr/>
          <p:nvPr/>
        </p:nvSpPr>
        <p:spPr>
          <a:xfrm>
            <a:off x="2550960" y="3370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2855880" y="337032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5" name=""/>
          <p:cNvSpPr/>
          <p:nvPr/>
        </p:nvSpPr>
        <p:spPr>
          <a:xfrm>
            <a:off x="4151160" y="3370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6" name=""/>
          <p:cNvSpPr/>
          <p:nvPr/>
        </p:nvSpPr>
        <p:spPr>
          <a:xfrm>
            <a:off x="2550960" y="4437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4532400" y="3370320"/>
            <a:ext cx="7617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"/>
          <p:cNvSpPr/>
          <p:nvPr/>
        </p:nvSpPr>
        <p:spPr>
          <a:xfrm>
            <a:off x="3846600" y="359892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"/>
          <p:cNvSpPr/>
          <p:nvPr/>
        </p:nvSpPr>
        <p:spPr>
          <a:xfrm>
            <a:off x="3998880" y="3675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"/>
          <p:cNvSpPr/>
          <p:nvPr/>
        </p:nvSpPr>
        <p:spPr>
          <a:xfrm>
            <a:off x="2170080" y="46656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2322360" y="4741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2" name=""/>
          <p:cNvSpPr/>
          <p:nvPr/>
        </p:nvSpPr>
        <p:spPr>
          <a:xfrm>
            <a:off x="5065560" y="3675240"/>
            <a:ext cx="3200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 processors for each result element implies n x n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= n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3" name=""/>
          <p:cNvSpPr/>
          <p:nvPr/>
        </p:nvSpPr>
        <p:spPr>
          <a:xfrm>
            <a:off x="5065560" y="5122800"/>
            <a:ext cx="32004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ime is log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4" name=""/>
          <p:cNvSpPr/>
          <p:nvPr/>
        </p:nvSpPr>
        <p:spPr>
          <a:xfrm flipH="1">
            <a:off x="2855520" y="4276800"/>
            <a:ext cx="9954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5" name=""/>
          <p:cNvSpPr/>
          <p:nvPr/>
        </p:nvSpPr>
        <p:spPr>
          <a:xfrm>
            <a:off x="3541680" y="428472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6" name=""/>
          <p:cNvSpPr/>
          <p:nvPr/>
        </p:nvSpPr>
        <p:spPr>
          <a:xfrm>
            <a:off x="4989600" y="3370320"/>
            <a:ext cx="75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F1FC-3CEC-468F-AEF9-F573579F8B0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NS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178920" y="1441080"/>
            <a:ext cx="8821800" cy="4829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背景</a:t>
            </a:r>
            <a:r>
              <a:rPr b="0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1981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由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ekel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assimi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ahni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出的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CC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矩阵乘法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器数目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000" spc="-1" strike="noStrike">
                <a:solidFill>
                  <a:srgbClr val="cc3300"/>
                </a:solidFill>
                <a:latin typeface="华文新魏"/>
                <a:ea typeface="华文新魏"/>
              </a:rPr>
              <a:t>运行时间为</a:t>
            </a:r>
            <a:r>
              <a:rPr b="0" lang="en-US" sz="2000" spc="-1" strike="noStrike">
                <a:solidFill>
                  <a:srgbClr val="cc3300"/>
                </a:solidFill>
                <a:latin typeface="华文新魏"/>
                <a:ea typeface="华文新魏"/>
              </a:rPr>
              <a:t>O(logn), </a:t>
            </a:r>
            <a:r>
              <a:rPr b="0" lang="zh-CN" sz="2000" spc="-1" strike="noStrike">
                <a:solidFill>
                  <a:srgbClr val="cc3300"/>
                </a:solidFill>
                <a:latin typeface="华文新魏"/>
                <a:ea typeface="华文新魏"/>
              </a:rPr>
              <a:t>是一种速度很快的算法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-2008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基本思想</a:t>
            </a:r>
            <a:r>
              <a:rPr b="0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一到一和一到多的播送办法，使得处理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k,i,j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拥有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,j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本地相乘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沿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进行单点积累求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果存储在处理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0,i,j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-2008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处理器编号</a:t>
            </a:r>
            <a:r>
              <a:rPr b="0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器数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=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(2</a:t>
            </a:r>
            <a:r>
              <a:rPr b="0" lang="en-US" sz="2000" spc="-1" strike="noStrike" baseline="40000">
                <a:solidFill>
                  <a:srgbClr val="000000"/>
                </a:solidFill>
                <a:latin typeface="华文新魏"/>
                <a:ea typeface="华文新魏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000" spc="-1" strike="noStrike" baseline="40000">
                <a:solidFill>
                  <a:srgbClr val="000000"/>
                </a:solidFill>
                <a:latin typeface="华文新魏"/>
                <a:ea typeface="华文新魏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于位置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k,i,j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r=k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+in+j, (0≤i, j, k≤n-1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位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k,i,j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处理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三个寄存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表示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[k,i,j], B[k,i,j]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[k,i,j],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始时均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-2008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算法</a:t>
            </a:r>
            <a:r>
              <a:rPr b="0" lang="en-US" sz="2400" spc="-1" strike="noStrike">
                <a:solidFill>
                  <a:srgbClr val="003399"/>
                </a:solidFill>
                <a:latin typeface="华文新魏"/>
                <a:ea typeface="华文新魏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始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,j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存储于寄存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[0,i,j]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[0,i,j]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①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据复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A,B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维复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到一播送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维复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到多播送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 B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维复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到多播送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②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乘运算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处理器的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寄存器两两相乘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和运算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沿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进行单点积累求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676C-F45A-4F52-A032-2FC2152216A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9" name=""/>
          <p:cNvGraphicFramePr/>
          <p:nvPr/>
        </p:nvGraphicFramePr>
        <p:xfrm>
          <a:off x="2324160" y="836640"/>
          <a:ext cx="6784920" cy="57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836640"/>
                    <a:ext cx="678492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1" name="PlaceHolder 1"/>
          <p:cNvSpPr>
            <a:spLocks noGrp="1"/>
          </p:cNvSpPr>
          <p:nvPr>
            <p:ph/>
          </p:nvPr>
        </p:nvSpPr>
        <p:spPr>
          <a:xfrm>
            <a:off x="20520" y="880560"/>
            <a:ext cx="4175280" cy="51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示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00=1×(-5)+2×7=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01=1×(-6)+2×8=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10=3×(-5)+4×7=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11=3×(-6)+4×8=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2" name=""/>
              <p:cNvSpPr txBox="1"/>
              <p:nvPr/>
            </p:nvSpPr>
            <p:spPr>
              <a:xfrm>
                <a:off x="463680" y="1268280"/>
                <a:ext cx="164448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  <m:e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求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13" name=""/>
          <p:cNvGrpSpPr/>
          <p:nvPr/>
        </p:nvGrpSpPr>
        <p:grpSpPr>
          <a:xfrm>
            <a:off x="680760" y="3284280"/>
            <a:ext cx="1342080" cy="856440"/>
            <a:chOff x="680760" y="3284280"/>
            <a:chExt cx="1342080" cy="856440"/>
          </a:xfrm>
        </p:grpSpPr>
        <p:sp>
          <p:nvSpPr>
            <p:cNvPr id="1814" name=""/>
            <p:cNvSpPr/>
            <p:nvPr/>
          </p:nvSpPr>
          <p:spPr>
            <a:xfrm flipV="1">
              <a:off x="992160" y="350064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992160" y="3715920"/>
              <a:ext cx="360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992160" y="407664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80760" y="3284280"/>
              <a:ext cx="675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ctr">
              <a:spAutoFit/>
            </a:bodyPr>
            <a:p>
              <a:pPr marL="203040" indent="-203040" algn="ctr">
                <a:lnSpc>
                  <a:spcPct val="7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080360" y="3500280"/>
              <a:ext cx="6188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ctr">
              <a:spAutoFit/>
            </a:bodyPr>
            <a:p>
              <a:pPr marL="203040" indent="-203040" algn="ctr">
                <a:lnSpc>
                  <a:spcPct val="7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419120" y="3860640"/>
              <a:ext cx="603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ctr">
              <a:spAutoFit/>
            </a:bodyPr>
            <a:p>
              <a:pPr marL="203040" indent="-203040" algn="ctr">
                <a:lnSpc>
                  <a:spcPct val="7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3207240" y="3027240"/>
            <a:ext cx="1082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初始加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>
            <a:off x="4771080" y="3068640"/>
            <a:ext cx="200232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A,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维复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"/>
          <p:cNvSpPr/>
          <p:nvPr/>
        </p:nvSpPr>
        <p:spPr>
          <a:xfrm>
            <a:off x="7215840" y="3068640"/>
            <a:ext cx="172944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维复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"/>
          <p:cNvSpPr/>
          <p:nvPr/>
        </p:nvSpPr>
        <p:spPr>
          <a:xfrm>
            <a:off x="2361240" y="5692680"/>
            <a:ext cx="172944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)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维复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"/>
          <p:cNvSpPr/>
          <p:nvPr/>
        </p:nvSpPr>
        <p:spPr>
          <a:xfrm>
            <a:off x="4993200" y="5692680"/>
            <a:ext cx="111708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点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"/>
          <p:cNvSpPr/>
          <p:nvPr/>
        </p:nvSpPr>
        <p:spPr>
          <a:xfrm>
            <a:off x="7273080" y="5692680"/>
            <a:ext cx="15894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维求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>
            <a:off x="3562560" y="3357720"/>
            <a:ext cx="69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"/>
          <p:cNvSpPr/>
          <p:nvPr/>
        </p:nvSpPr>
        <p:spPr>
          <a:xfrm flipH="1">
            <a:off x="3333600" y="34718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"/>
          <p:cNvSpPr/>
          <p:nvPr/>
        </p:nvSpPr>
        <p:spPr>
          <a:xfrm>
            <a:off x="2554560" y="5403960"/>
            <a:ext cx="69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3046320" y="55180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"/>
          <p:cNvSpPr/>
          <p:nvPr/>
        </p:nvSpPr>
        <p:spPr>
          <a:xfrm>
            <a:off x="7158240" y="836640"/>
            <a:ext cx="69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7149600" y="1052640"/>
            <a:ext cx="257400" cy="29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"/>
          <p:cNvSpPr/>
          <p:nvPr/>
        </p:nvSpPr>
        <p:spPr>
          <a:xfrm>
            <a:off x="8310960" y="2708280"/>
            <a:ext cx="698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8737560" y="2416320"/>
            <a:ext cx="270000" cy="291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9021600" y="4005000"/>
            <a:ext cx="0" cy="469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6645240" y="1412640"/>
            <a:ext cx="0" cy="469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"/>
          <p:cNvSpPr/>
          <p:nvPr/>
        </p:nvSpPr>
        <p:spPr>
          <a:xfrm>
            <a:off x="2482200" y="249228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"/>
          <p:cNvSpPr/>
          <p:nvPr/>
        </p:nvSpPr>
        <p:spPr>
          <a:xfrm>
            <a:off x="3490200" y="249228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"/>
          <p:cNvSpPr/>
          <p:nvPr/>
        </p:nvSpPr>
        <p:spPr>
          <a:xfrm>
            <a:off x="2982240" y="194796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"/>
          <p:cNvSpPr/>
          <p:nvPr/>
        </p:nvSpPr>
        <p:spPr>
          <a:xfrm>
            <a:off x="3990240" y="194796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>
            <a:off x="2410560" y="145260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"/>
          <p:cNvSpPr/>
          <p:nvPr/>
        </p:nvSpPr>
        <p:spPr>
          <a:xfrm>
            <a:off x="3418920" y="149076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"/>
          <p:cNvSpPr/>
          <p:nvPr/>
        </p:nvSpPr>
        <p:spPr>
          <a:xfrm>
            <a:off x="2910600" y="94608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"/>
          <p:cNvSpPr/>
          <p:nvPr/>
        </p:nvSpPr>
        <p:spPr>
          <a:xfrm>
            <a:off x="3918960" y="946080"/>
            <a:ext cx="912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"/>
          <p:cNvSpPr/>
          <p:nvPr/>
        </p:nvSpPr>
        <p:spPr>
          <a:xfrm>
            <a:off x="2483640" y="266580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"/>
          <p:cNvSpPr/>
          <p:nvPr/>
        </p:nvSpPr>
        <p:spPr>
          <a:xfrm>
            <a:off x="2991600" y="211968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"/>
          <p:cNvSpPr/>
          <p:nvPr/>
        </p:nvSpPr>
        <p:spPr>
          <a:xfrm>
            <a:off x="3488400" y="266580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"/>
          <p:cNvSpPr/>
          <p:nvPr/>
        </p:nvSpPr>
        <p:spPr>
          <a:xfrm>
            <a:off x="3996360" y="211968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"/>
          <p:cNvSpPr/>
          <p:nvPr/>
        </p:nvSpPr>
        <p:spPr>
          <a:xfrm>
            <a:off x="2440800" y="168300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"/>
          <p:cNvSpPr/>
          <p:nvPr/>
        </p:nvSpPr>
        <p:spPr>
          <a:xfrm>
            <a:off x="2948760" y="113688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"/>
          <p:cNvSpPr/>
          <p:nvPr/>
        </p:nvSpPr>
        <p:spPr>
          <a:xfrm>
            <a:off x="3445560" y="168300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"/>
          <p:cNvSpPr/>
          <p:nvPr/>
        </p:nvSpPr>
        <p:spPr>
          <a:xfrm>
            <a:off x="3953520" y="1136880"/>
            <a:ext cx="758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BC30-A279-4081-9383-BB2D5F450CD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/>
          </p:nvPr>
        </p:nvSpPr>
        <p:spPr>
          <a:xfrm>
            <a:off x="323640" y="1203120"/>
            <a:ext cx="5616360" cy="54626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描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(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的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位取反；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{p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d}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表示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(0</a:t>
            </a:r>
            <a:r>
              <a:rPr b="0" lang="en-US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≤r≤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p-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的集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这里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的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进制第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位为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输入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n×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n×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;    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输出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n×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  //</a:t>
            </a:r>
            <a:r>
              <a:rPr b="0" lang="zh-CN" sz="1400" spc="-1" strike="noStrike">
                <a:solidFill>
                  <a:srgbClr val="cc0066"/>
                </a:solidFill>
                <a:latin typeface="Comic Sans MS"/>
              </a:rPr>
              <a:t>以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n=2, p=8=2</a:t>
            </a:r>
            <a:r>
              <a:rPr b="0" lang="en-US" sz="1400" spc="-1" strike="noStrike" baseline="30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zh-CN" sz="1400" spc="-1" strike="noStrike">
                <a:solidFill>
                  <a:srgbClr val="cc0066"/>
                </a:solidFill>
                <a:latin typeface="Comic Sans MS"/>
              </a:rPr>
              <a:t>举例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, q=1, r=(r</a:t>
            </a:r>
            <a:r>
              <a:rPr b="0" lang="en-US" sz="1400" spc="-1" strike="noStrike" baseline="-25000">
                <a:solidFill>
                  <a:srgbClr val="cc0066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400" spc="-1" strike="noStrike" baseline="-25000">
                <a:solidFill>
                  <a:srgbClr val="cc0066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400" spc="-1" strike="noStrike" baseline="-25000">
                <a:solidFill>
                  <a:srgbClr val="cc0066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)</a:t>
            </a:r>
            <a:r>
              <a:rPr b="0" lang="en-US" sz="1400" spc="-1" strike="noStrike" baseline="-25000">
                <a:solidFill>
                  <a:srgbClr val="cc0066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for m=3q-1 to 2q do  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维复制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,B, 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m=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all r in {p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0} par-do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200" spc="-1" strike="noStrike" baseline="-25000">
                <a:solidFill>
                  <a:srgbClr val="cc0066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=0</a:t>
            </a:r>
            <a:r>
              <a:rPr b="0" lang="zh-CN" sz="1200" spc="-1" strike="noStrike">
                <a:solidFill>
                  <a:srgbClr val="cc0066"/>
                </a:solidFill>
                <a:latin typeface="Comic Sans MS"/>
              </a:rPr>
              <a:t>的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.1)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400" spc="-1" strike="noStrike" baseline="-5000">
                <a:solidFill>
                  <a:srgbClr val="000000"/>
                </a:solidFill>
                <a:latin typeface="Comic Sans MS"/>
              </a:rPr>
              <a:t>(m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A(100)</a:t>
            </a:r>
            <a:r>
              <a:rPr b="0" lang="en-US" sz="12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A(000)</a:t>
            </a:r>
            <a:r>
              <a:rPr b="0" lang="zh-CN" sz="1200" spc="-1" strike="noStrike">
                <a:solidFill>
                  <a:srgbClr val="cc0066"/>
                </a:solidFill>
                <a:latin typeface="Comic Sans MS"/>
              </a:rPr>
              <a:t>等</a:t>
            </a:r>
            <a:r>
              <a:rPr b="0" lang="zh-CN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.2)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400" spc="-1" strike="noStrike" baseline="-5000">
                <a:solidFill>
                  <a:srgbClr val="000000"/>
                </a:solidFill>
                <a:latin typeface="Comic Sans MS"/>
              </a:rPr>
              <a:t>(m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B(100)</a:t>
            </a:r>
            <a:r>
              <a:rPr b="0" lang="en-US" sz="12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B(000)</a:t>
            </a:r>
            <a:r>
              <a:rPr b="0" lang="zh-CN" sz="1200" spc="-1" strike="noStrike">
                <a:solidFill>
                  <a:srgbClr val="cc0066"/>
                </a:solidFill>
                <a:latin typeface="Comic Sans MS"/>
              </a:rPr>
              <a:t>等</a:t>
            </a:r>
            <a:r>
              <a:rPr b="0" lang="zh-CN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for m=q-1 to 0 do       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维复制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, 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all r in {p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q+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 par-do //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400" spc="-1" strike="noStrike" baseline="-25000">
                <a:solidFill>
                  <a:srgbClr val="cc0066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=r</a:t>
            </a:r>
            <a:r>
              <a:rPr b="0" lang="en-US" sz="1400" spc="-1" strike="noStrike" baseline="-25000">
                <a:solidFill>
                  <a:srgbClr val="cc0066"/>
                </a:solidFill>
                <a:latin typeface="Comic Sans MS"/>
              </a:rPr>
              <a:t>2</a:t>
            </a:r>
            <a:r>
              <a:rPr b="0" lang="zh-CN" sz="1400" spc="-1" strike="noStrike">
                <a:solidFill>
                  <a:srgbClr val="cc0066"/>
                </a:solidFill>
                <a:latin typeface="Comic Sans MS"/>
              </a:rPr>
              <a:t>的</a:t>
            </a:r>
            <a:r>
              <a:rPr b="0" lang="en-US" sz="14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400" spc="-1" strike="noStrike" baseline="-5000">
                <a:solidFill>
                  <a:srgbClr val="000000"/>
                </a:solidFill>
                <a:latin typeface="Comic Sans MS"/>
              </a:rPr>
              <a:t>(m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A(001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A(000),A(100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A(101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    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A(011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A(010),A(110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A(111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"/>
          <p:cNvSpPr/>
          <p:nvPr/>
        </p:nvSpPr>
        <p:spPr>
          <a:xfrm>
            <a:off x="4427640" y="2421000"/>
            <a:ext cx="457200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6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3)for m=2q-1 to q do  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维复制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,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m=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all r in {p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q+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} par-do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200" spc="-1" strike="noStrike" baseline="-25000">
                <a:solidFill>
                  <a:srgbClr val="cc0066"/>
                </a:solidFill>
                <a:latin typeface="Comic Sans MS"/>
              </a:rPr>
              <a:t>1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=r</a:t>
            </a:r>
            <a:r>
              <a:rPr b="0" lang="en-US" sz="1200" spc="-1" strike="noStrike" baseline="-25000">
                <a:solidFill>
                  <a:srgbClr val="cc0066"/>
                </a:solidFill>
                <a:latin typeface="Comic Sans MS"/>
              </a:rPr>
              <a:t>2</a:t>
            </a:r>
            <a:r>
              <a:rPr b="0" lang="zh-CN" sz="1200" spc="-1" strike="noStrike">
                <a:solidFill>
                  <a:srgbClr val="cc0066"/>
                </a:solidFill>
                <a:latin typeface="Comic Sans MS"/>
              </a:rPr>
              <a:t>的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400" spc="-1" strike="noStrike" baseline="-5000">
                <a:solidFill>
                  <a:srgbClr val="000000"/>
                </a:solidFill>
                <a:latin typeface="Comic Sans MS"/>
              </a:rPr>
              <a:t>(m)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B(010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B(000),B(100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B(110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    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B(011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B(001),B(101)</a:t>
            </a:r>
            <a:r>
              <a:rPr b="0" lang="en-US" sz="1000" spc="-1" strike="noStrike">
                <a:solidFill>
                  <a:srgbClr val="cc0066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cc0066"/>
                </a:solidFill>
                <a:latin typeface="Comic Sans MS"/>
              </a:rPr>
              <a:t>B(111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4)for r=0 to p-1 par-do     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相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all P</a:t>
            </a:r>
            <a:r>
              <a:rPr b="0" lang="en-US" sz="1200" spc="-1" strike="noStrike" baseline="-25000">
                <a:solidFill>
                  <a:srgbClr val="cc0066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×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5)for m=2q to 3q-1 do     //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求和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200" spc="-1" strike="noStrike">
                <a:solidFill>
                  <a:srgbClr val="cc0066"/>
                </a:solidFill>
                <a:latin typeface="Comic Sans MS"/>
              </a:rPr>
              <a:t>m=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r=0 to p-1 par-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+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400" spc="-1" strike="noStrike" baseline="-5000">
                <a:solidFill>
                  <a:srgbClr val="000000"/>
                </a:solidFill>
                <a:latin typeface="Comic Sans MS"/>
              </a:rPr>
              <a:t>(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for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NS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B779-7420-43D8-98F7-AA5414FAB76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5" name=""/>
          <p:cNvGraphicFramePr/>
          <p:nvPr/>
        </p:nvGraphicFramePr>
        <p:xfrm>
          <a:off x="684360" y="1484280"/>
          <a:ext cx="7632720" cy="50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6327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7" name="PlaceHolder 1"/>
          <p:cNvSpPr>
            <a:spLocks noGrp="1"/>
          </p:cNvSpPr>
          <p:nvPr>
            <p:ph/>
          </p:nvPr>
        </p:nvSpPr>
        <p:spPr>
          <a:xfrm>
            <a:off x="612720" y="1428840"/>
            <a:ext cx="4175280" cy="12146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示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NS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AB34-0406-49FF-8B56-3C06A4A2AAE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9" name=""/>
          <p:cNvGrpSpPr/>
          <p:nvPr/>
        </p:nvGrpSpPr>
        <p:grpSpPr>
          <a:xfrm>
            <a:off x="371160" y="3835440"/>
            <a:ext cx="1219680" cy="746640"/>
            <a:chOff x="371160" y="3835440"/>
            <a:chExt cx="1219680" cy="746640"/>
          </a:xfrm>
        </p:grpSpPr>
        <p:sp>
          <p:nvSpPr>
            <p:cNvPr id="1860" name=""/>
            <p:cNvSpPr/>
            <p:nvPr/>
          </p:nvSpPr>
          <p:spPr>
            <a:xfrm flipV="1">
              <a:off x="687240" y="4038120"/>
              <a:ext cx="0" cy="46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687240" y="4212360"/>
              <a:ext cx="297360" cy="29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7240" y="4503960"/>
              <a:ext cx="53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71160" y="3835440"/>
              <a:ext cx="675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ctr">
              <a:spAutoFit/>
            </a:bodyPr>
            <a:p>
              <a:pPr marL="203040" indent="-203040" algn="ctr">
                <a:lnSpc>
                  <a:spcPct val="7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06320" y="4011840"/>
              <a:ext cx="6188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ctr">
              <a:spAutoFit/>
            </a:bodyPr>
            <a:p>
              <a:pPr marL="203040" indent="-203040" algn="ctr">
                <a:lnSpc>
                  <a:spcPct val="7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87120" y="4302000"/>
              <a:ext cx="603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ctr">
              <a:spAutoFit/>
            </a:bodyPr>
            <a:p>
              <a:pPr marL="203040" indent="-203040" algn="ctr">
                <a:lnSpc>
                  <a:spcPct val="75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1866" name=""/>
          <p:cNvGraphicFramePr/>
          <p:nvPr/>
        </p:nvGraphicFramePr>
        <p:xfrm>
          <a:off x="1208160" y="1449360"/>
          <a:ext cx="7035840" cy="50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1449360"/>
                    <a:ext cx="703584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NS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乘法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B05C-E3DF-4D60-9E4A-35905B27CD8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395280" y="1785960"/>
            <a:ext cx="8424720" cy="1935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S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试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non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分块乘法算法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改为共享存储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M-EREW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模型上的算法，并分析其时间复杂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9(9.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DAD2-0238-4BBA-B047-56DEA90DD0D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带状划分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07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示例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27× 27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种带状划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7921800" cy="30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FE5C-9431-4838-8BD2-FEDCE99D10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432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的划分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1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带状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9.1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棋盘划分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转置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向量乘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9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矩阵乘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棋盘划分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07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×8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阶矩阵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=16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棋盘划分                               循环棋盘划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58800" y="1989000"/>
          <a:ext cx="7729560" cy="44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1989000"/>
                    <a:ext cx="7729560" cy="44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AE59-3D50-4087-BB36-829B1BA081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6:01Z</dcterms:created>
  <dc:creator>Xu Yun</dc:creator>
  <dc:description/>
  <dc:language>en-US</dc:language>
  <cp:lastModifiedBy>walkinnet</cp:lastModifiedBy>
  <dcterms:modified xsi:type="dcterms:W3CDTF">2014-07-16T07:50:25Z</dcterms:modified>
  <cp:revision>63</cp:revision>
  <dc:subject/>
  <dc:title>并行计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