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850248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3040" y="3245040"/>
            <a:ext cx="850248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304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9976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7640" y="114300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92600" y="114300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3040" y="324504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7640" y="324504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92600" y="324504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3040" y="1143000"/>
            <a:ext cx="8502480" cy="40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850248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25480" y="335160"/>
            <a:ext cx="8589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304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3040" y="1143000"/>
            <a:ext cx="8502480" cy="40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9976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3040" y="3245040"/>
            <a:ext cx="850248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850248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3040" y="3245040"/>
            <a:ext cx="850248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304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9976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7640" y="114300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92600" y="114300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3040" y="324504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7640" y="324504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92600" y="3245040"/>
            <a:ext cx="27374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850248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5480" y="335160"/>
            <a:ext cx="8589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304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99760" y="324504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9760" y="1143000"/>
            <a:ext cx="41490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3040" y="3245040"/>
            <a:ext cx="850248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85896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143000"/>
            <a:ext cx="850248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75000"/>
              </a:lnSpc>
              <a:spcBef>
                <a:spcPts val="2276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75000"/>
              </a:lnSpc>
              <a:spcBef>
                <a:spcPts val="2276"/>
              </a:spcBef>
              <a:buClr>
                <a:srgbClr val="00dfca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718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718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73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17FB-A513-4B21-8793-2938851288ED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1000" y="6249960"/>
            <a:ext cx="2063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并行与分布计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D336-36F1-43D0-AD90-D8E392690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Ch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6200" y="765000"/>
            <a:ext cx="76197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6520" y="2020680"/>
            <a:ext cx="5035680" cy="793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31000" y="6249960"/>
            <a:ext cx="2063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并行与分布计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65D6-1245-4A29-A0F7-3F49CB6A1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Ch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473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F24B-9B15-4C6F-818B-F2058E26EAFF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1001"/>
              </a:spcBef>
              <a:buClr>
                <a:srgbClr val="00dfca"/>
              </a:buClr>
              <a:buSzPct val="120000"/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76160" y="871200"/>
            <a:ext cx="8352000" cy="33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Parallel Comput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hapter 7  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Supplemen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Fundamental Techniques of Designing Parallel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78120" y="4653000"/>
            <a:ext cx="41911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 algn="ctr">
              <a:lnSpc>
                <a:spcPct val="7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er,  20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EFED2DF-7FF3-4AD6-8BD7-C8F3ED79A1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5120" y="198000"/>
            <a:ext cx="44895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04880" y="836640"/>
            <a:ext cx="8205840" cy="1195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3.2  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双调归并网络构造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依据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Batcher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定理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2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个输入的双调序列两两比较形成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个大小为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的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I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AX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I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AX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是双调的，可以递归重复进行下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857240" y="1989000"/>
            <a:ext cx="4608720" cy="453420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3436920" y="1989000"/>
            <a:ext cx="506520" cy="4248360"/>
            <a:chOff x="3436920" y="1989000"/>
            <a:chExt cx="506520" cy="4248360"/>
          </a:xfrm>
        </p:grpSpPr>
        <p:sp>
          <p:nvSpPr>
            <p:cNvPr id="208" name=""/>
            <p:cNvSpPr/>
            <p:nvPr/>
          </p:nvSpPr>
          <p:spPr>
            <a:xfrm>
              <a:off x="3510000" y="1989000"/>
              <a:ext cx="43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10000" y="256536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36920" y="530064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36920" y="59500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513240" y="2205000"/>
            <a:ext cx="503280" cy="4248360"/>
            <a:chOff x="3513240" y="2205000"/>
            <a:chExt cx="503280" cy="4248360"/>
          </a:xfrm>
        </p:grpSpPr>
        <p:sp>
          <p:nvSpPr>
            <p:cNvPr id="213" name=""/>
            <p:cNvSpPr/>
            <p:nvPr/>
          </p:nvSpPr>
          <p:spPr>
            <a:xfrm>
              <a:off x="3583080" y="220500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93"/>
                  </a:solidFill>
                  <a:latin typeface="Arial"/>
                  <a:ea typeface="宋体"/>
                </a:rPr>
                <a:t>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83080" y="285444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93"/>
                  </a:solidFill>
                  <a:latin typeface="Arial"/>
                  <a:ea typeface="宋体"/>
                </a:rPr>
                <a:t>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3240" y="551664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93"/>
                  </a:solidFill>
                  <a:latin typeface="Arial"/>
                  <a:ea typeface="宋体"/>
                </a:rPr>
                <a:t>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13240" y="6165720"/>
              <a:ext cx="43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93"/>
                  </a:solidFill>
                  <a:latin typeface="Arial"/>
                  <a:ea typeface="宋体"/>
                </a:rPr>
                <a:t>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136520" y="2637000"/>
            <a:ext cx="4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宋体"/>
              </a:rPr>
              <a:t>MIN</a:t>
            </a:r>
            <a:r>
              <a:rPr b="1" lang="zh-CN" sz="1800" spc="-1" strike="noStrike">
                <a:solidFill>
                  <a:srgbClr val="fc0128"/>
                </a:solidFill>
                <a:latin typeface="Arial"/>
                <a:ea typeface="宋体"/>
              </a:rPr>
              <a:t>双调序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36520" y="4797360"/>
            <a:ext cx="4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  <a:ea typeface="宋体"/>
              </a:rPr>
              <a:t>MAX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  <a:ea typeface="宋体"/>
              </a:rPr>
              <a:t>双调序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69240" y="2421000"/>
            <a:ext cx="0" cy="34560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91CFF-9258-4E1A-A2F1-270F89A99768}" type="datetime1">
              <a:rPr lang="en-US"/>
              <a:t>07/29/26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41600" y="1484280"/>
            <a:ext cx="5759280" cy="4264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5120" y="198000"/>
            <a:ext cx="44895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08120" y="836640"/>
            <a:ext cx="8205840" cy="325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3.3 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双调归并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双调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8,6,4,2,0,1,3,5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的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4,4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双调归并网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05240" y="5950080"/>
            <a:ext cx="266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fc0128"/>
                </a:solidFill>
                <a:latin typeface="Arial"/>
                <a:ea typeface="宋体"/>
              </a:rPr>
              <a:t>个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宋体"/>
              </a:rPr>
              <a:t>(2,2)</a:t>
            </a:r>
            <a:r>
              <a:rPr b="1" lang="zh-CN" sz="1800" spc="-1" strike="noStrike">
                <a:solidFill>
                  <a:srgbClr val="fc0128"/>
                </a:solidFill>
                <a:latin typeface="Arial"/>
                <a:ea typeface="宋体"/>
              </a:rPr>
              <a:t>双调归并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48160" y="1268280"/>
            <a:ext cx="2017800" cy="4608360"/>
            <a:chOff x="4448160" y="1268280"/>
            <a:chExt cx="2017800" cy="4608360"/>
          </a:xfrm>
        </p:grpSpPr>
        <p:sp>
          <p:nvSpPr>
            <p:cNvPr id="225" name=""/>
            <p:cNvSpPr/>
            <p:nvPr/>
          </p:nvSpPr>
          <p:spPr>
            <a:xfrm>
              <a:off x="4448160" y="1268280"/>
              <a:ext cx="2017800" cy="460836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48160" y="3571560"/>
              <a:ext cx="201780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27080" y="1557360"/>
            <a:ext cx="436320" cy="4103640"/>
            <a:chOff x="1927080" y="1557360"/>
            <a:chExt cx="436320" cy="4103640"/>
          </a:xfrm>
        </p:grpSpPr>
        <p:sp>
          <p:nvSpPr>
            <p:cNvPr id="228" name=""/>
            <p:cNvSpPr/>
            <p:nvPr/>
          </p:nvSpPr>
          <p:spPr>
            <a:xfrm>
              <a:off x="1928880" y="1557360"/>
              <a:ext cx="434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27080" y="1846440"/>
              <a:ext cx="434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28880" y="2709720"/>
              <a:ext cx="4345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28880" y="2997360"/>
              <a:ext cx="434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28880" y="3860640"/>
              <a:ext cx="4345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8880" y="4149720"/>
              <a:ext cx="434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28880" y="5086440"/>
              <a:ext cx="434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28880" y="5373720"/>
              <a:ext cx="4345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862360" y="1486080"/>
            <a:ext cx="434880" cy="4065480"/>
            <a:chOff x="2862360" y="1486080"/>
            <a:chExt cx="434880" cy="4065480"/>
          </a:xfrm>
        </p:grpSpPr>
        <p:sp>
          <p:nvSpPr>
            <p:cNvPr id="237" name=""/>
            <p:cNvSpPr/>
            <p:nvPr/>
          </p:nvSpPr>
          <p:spPr>
            <a:xfrm>
              <a:off x="2863800" y="14860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62360" y="177336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63800" y="259092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63800" y="292572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63800" y="37162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63800" y="407844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63800" y="4941720"/>
              <a:ext cx="43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63800" y="52642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510000" y="1484280"/>
            <a:ext cx="434880" cy="4065480"/>
            <a:chOff x="3510000" y="1484280"/>
            <a:chExt cx="434880" cy="4065480"/>
          </a:xfrm>
        </p:grpSpPr>
        <p:sp>
          <p:nvSpPr>
            <p:cNvPr id="246" name=""/>
            <p:cNvSpPr/>
            <p:nvPr/>
          </p:nvSpPr>
          <p:spPr>
            <a:xfrm>
              <a:off x="3511440" y="14842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  <a:ea typeface="宋体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10000" y="177156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11440" y="258912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11440" y="292392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11440" y="37144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11440" y="407664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11440" y="4939920"/>
              <a:ext cx="43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11440" y="52624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808520" y="1300320"/>
            <a:ext cx="1320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宋体"/>
              </a:rPr>
              <a:t>MIN</a:t>
            </a:r>
            <a:r>
              <a:rPr b="1" lang="zh-CN" sz="1800" spc="-1" strike="noStrike">
                <a:solidFill>
                  <a:srgbClr val="fc0128"/>
                </a:solidFill>
                <a:latin typeface="Arial"/>
                <a:ea typeface="宋体"/>
              </a:rPr>
              <a:t>归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3573360"/>
            <a:ext cx="1078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  <a:ea typeface="宋体"/>
              </a:rPr>
              <a:t>MAX</a:t>
            </a:r>
            <a:r>
              <a:rPr b="1" lang="zh-CN" sz="1800" spc="-1" strike="noStrike">
                <a:solidFill>
                  <a:srgbClr val="063de8"/>
                </a:solidFill>
                <a:latin typeface="Arial"/>
                <a:ea typeface="宋体"/>
              </a:rPr>
              <a:t>归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537240" y="1484280"/>
            <a:ext cx="434880" cy="4065480"/>
            <a:chOff x="6537240" y="1484280"/>
            <a:chExt cx="434880" cy="4065480"/>
          </a:xfrm>
        </p:grpSpPr>
        <p:sp>
          <p:nvSpPr>
            <p:cNvPr id="257" name=""/>
            <p:cNvSpPr/>
            <p:nvPr/>
          </p:nvSpPr>
          <p:spPr>
            <a:xfrm>
              <a:off x="6538680" y="14842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7240" y="177156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8680" y="258912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38680" y="292392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8680" y="37144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38680" y="407664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38680" y="4939920"/>
              <a:ext cx="43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38680" y="5262480"/>
              <a:ext cx="433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712880" y="5950080"/>
            <a:ext cx="29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c0128"/>
                </a:solidFill>
                <a:latin typeface="Arial"/>
                <a:ea typeface="宋体"/>
              </a:rPr>
              <a:t>两两比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1B460-4AF8-45AF-9596-634B4D32B433}" type="datetime1">
              <a:rPr lang="en-US"/>
              <a:t>07/29/26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641600" y="2295360"/>
            <a:ext cx="6191280" cy="4373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6215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520" y="1125000"/>
            <a:ext cx="8263080" cy="1195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3.4 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双调排序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于双调归并网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示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(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008160" y="2295360"/>
            <a:ext cx="1223640" cy="3265200"/>
            <a:chOff x="3008160" y="2295360"/>
            <a:chExt cx="1223640" cy="3265200"/>
          </a:xfrm>
        </p:grpSpPr>
        <p:sp>
          <p:nvSpPr>
            <p:cNvPr id="270" name=""/>
            <p:cNvSpPr/>
            <p:nvPr/>
          </p:nvSpPr>
          <p:spPr>
            <a:xfrm>
              <a:off x="3008160" y="2295360"/>
              <a:ext cx="1204200" cy="32652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08160" y="3965400"/>
              <a:ext cx="122364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337000" y="2305080"/>
            <a:ext cx="2063880" cy="32432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496880" y="2368440"/>
            <a:ext cx="360360" cy="3168360"/>
            <a:chOff x="1496880" y="2368440"/>
            <a:chExt cx="360360" cy="3168360"/>
          </a:xfrm>
        </p:grpSpPr>
        <p:sp>
          <p:nvSpPr>
            <p:cNvPr id="274" name=""/>
            <p:cNvSpPr/>
            <p:nvPr/>
          </p:nvSpPr>
          <p:spPr>
            <a:xfrm>
              <a:off x="1496880" y="23684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96880" y="26557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96880" y="315900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96880" y="34477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96880" y="40240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96880" y="43113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96880" y="48877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6880" y="51764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60520" y="2224080"/>
            <a:ext cx="360360" cy="3239640"/>
            <a:chOff x="2360520" y="2224080"/>
            <a:chExt cx="360360" cy="3239640"/>
          </a:xfrm>
        </p:grpSpPr>
        <p:sp>
          <p:nvSpPr>
            <p:cNvPr id="283" name=""/>
            <p:cNvSpPr/>
            <p:nvPr/>
          </p:nvSpPr>
          <p:spPr>
            <a:xfrm>
              <a:off x="2360520" y="222408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0520" y="251136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0520" y="301608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60520" y="337464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0520" y="395100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60520" y="424008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60520" y="474336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0520" y="510372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160880" y="2224080"/>
            <a:ext cx="360360" cy="3239640"/>
            <a:chOff x="4160880" y="2224080"/>
            <a:chExt cx="360360" cy="3239640"/>
          </a:xfrm>
        </p:grpSpPr>
        <p:sp>
          <p:nvSpPr>
            <p:cNvPr id="292" name=""/>
            <p:cNvSpPr/>
            <p:nvPr/>
          </p:nvSpPr>
          <p:spPr>
            <a:xfrm>
              <a:off x="4160880" y="222408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60880" y="251136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60880" y="301608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60880" y="337464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60880" y="387792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60880" y="416700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60880" y="474336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60880" y="510372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761240" y="2295360"/>
            <a:ext cx="360360" cy="3168720"/>
            <a:chOff x="7761240" y="2295360"/>
            <a:chExt cx="360360" cy="3168720"/>
          </a:xfrm>
        </p:grpSpPr>
        <p:sp>
          <p:nvSpPr>
            <p:cNvPr id="301" name=""/>
            <p:cNvSpPr/>
            <p:nvPr/>
          </p:nvSpPr>
          <p:spPr>
            <a:xfrm>
              <a:off x="7761240" y="22953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61240" y="25826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61240" y="30859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1240" y="33746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61240" y="395100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61240" y="42382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61240" y="48146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61240" y="51037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C8B1B-4F65-476A-AB5D-228018458C9F}" type="datetime1">
              <a:rPr lang="en-US"/>
              <a:t>07/29/26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54957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27040" y="901800"/>
            <a:ext cx="7881840" cy="4674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75000"/>
              </a:lnSpc>
              <a:spcBef>
                <a:spcPts val="1950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基于划分原理的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(m,n)-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选择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①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将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个输入数据划分成若干个大小相等的子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≥m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②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使用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Batcher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排序网络对各子序列排序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③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将有序子序列形成双调序列，进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两两对接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使用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Batcher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定理形成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AX,MI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列，弃去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AX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再使用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Batcher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排序网络将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I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排成有序序列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④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重复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③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直至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I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恰好包含所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的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个最小元素为止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889520" y="2060640"/>
            <a:ext cx="4240080" cy="42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7B6CF-9F06-40CA-9964-DBE8061B2F11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39800" y="1052640"/>
            <a:ext cx="6616800" cy="48211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54957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04880" y="836640"/>
            <a:ext cx="7881840" cy="923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1950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(m,n)-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选择示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68880" y="2997360"/>
            <a:ext cx="504720" cy="36036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00160" y="1144440"/>
            <a:ext cx="1933560" cy="11322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11320" y="2349360"/>
            <a:ext cx="1933560" cy="11322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00160" y="3573360"/>
            <a:ext cx="1933560" cy="11318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22480" y="4813200"/>
            <a:ext cx="1933560" cy="11318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4520" y="3276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宋体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c0128"/>
                </a:solidFill>
                <a:latin typeface="Arial"/>
                <a:ea typeface="宋体"/>
              </a:rPr>
              <a:t>奇偶排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920880" y="1773000"/>
            <a:ext cx="1511280" cy="1439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208160" y="2565000"/>
            <a:ext cx="1439640" cy="8636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36520" y="3789360"/>
            <a:ext cx="1440000" cy="5032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49240" y="3860640"/>
            <a:ext cx="1727280" cy="15843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208160" y="1052640"/>
            <a:ext cx="507960" cy="4903560"/>
            <a:chOff x="1208160" y="1052640"/>
            <a:chExt cx="507960" cy="4903560"/>
          </a:xfrm>
        </p:grpSpPr>
        <p:grpSp>
          <p:nvGrpSpPr>
            <p:cNvPr id="326" name=""/>
            <p:cNvGrpSpPr/>
            <p:nvPr/>
          </p:nvGrpSpPr>
          <p:grpSpPr>
            <a:xfrm>
              <a:off x="1281240" y="1052640"/>
              <a:ext cx="434880" cy="1231920"/>
              <a:chOff x="1281240" y="1052640"/>
              <a:chExt cx="434880" cy="1231920"/>
            </a:xfrm>
          </p:grpSpPr>
          <p:sp>
            <p:nvSpPr>
              <p:cNvPr id="327" name=""/>
              <p:cNvSpPr/>
              <p:nvPr/>
            </p:nvSpPr>
            <p:spPr>
              <a:xfrm>
                <a:off x="1281240" y="10526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282680" y="12682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282680" y="16286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282680" y="19162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1281240" y="2268360"/>
              <a:ext cx="434880" cy="1231920"/>
              <a:chOff x="1281240" y="2268360"/>
              <a:chExt cx="434880" cy="1231920"/>
            </a:xfrm>
          </p:grpSpPr>
          <p:sp>
            <p:nvSpPr>
              <p:cNvPr id="332" name=""/>
              <p:cNvSpPr/>
              <p:nvPr/>
            </p:nvSpPr>
            <p:spPr>
              <a:xfrm>
                <a:off x="1281240" y="226836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82680" y="2484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82680" y="284436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82680" y="3132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281240" y="3492360"/>
              <a:ext cx="434880" cy="1231920"/>
              <a:chOff x="1281240" y="3492360"/>
              <a:chExt cx="434880" cy="1231920"/>
            </a:xfrm>
          </p:grpSpPr>
          <p:sp>
            <p:nvSpPr>
              <p:cNvPr id="337" name=""/>
              <p:cNvSpPr/>
              <p:nvPr/>
            </p:nvSpPr>
            <p:spPr>
              <a:xfrm>
                <a:off x="1281240" y="349236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82680" y="3708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282680" y="406836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282680" y="4356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281240" y="4724280"/>
              <a:ext cx="434880" cy="1231920"/>
              <a:chOff x="1281240" y="4724280"/>
              <a:chExt cx="434880" cy="1231920"/>
            </a:xfrm>
          </p:grpSpPr>
          <p:sp>
            <p:nvSpPr>
              <p:cNvPr id="342" name=""/>
              <p:cNvSpPr/>
              <p:nvPr/>
            </p:nvSpPr>
            <p:spPr>
              <a:xfrm>
                <a:off x="1281240" y="47242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82680" y="493992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82680" y="53002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82680" y="558792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03040" indent="-2030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63de8"/>
                    </a:solidFill>
                    <a:latin typeface="Arial"/>
                    <a:ea typeface="宋体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1208160" y="1184400"/>
              <a:ext cx="144360" cy="93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08160" y="2421000"/>
              <a:ext cx="144360" cy="936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08160" y="3645000"/>
              <a:ext cx="144360" cy="93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08160" y="4869000"/>
              <a:ext cx="144360" cy="93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870360" y="973080"/>
            <a:ext cx="438120" cy="4977000"/>
            <a:chOff x="3870360" y="973080"/>
            <a:chExt cx="438120" cy="4977000"/>
          </a:xfrm>
        </p:grpSpPr>
        <p:sp>
          <p:nvSpPr>
            <p:cNvPr id="351" name=""/>
            <p:cNvSpPr/>
            <p:nvPr/>
          </p:nvSpPr>
          <p:spPr>
            <a:xfrm>
              <a:off x="3871800" y="973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73600" y="1268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73600" y="155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73600" y="18446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70360" y="2205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71800" y="25002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71800" y="2789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71800" y="30765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73600" y="34225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75040" y="3718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75040" y="40068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75040" y="42940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73600" y="47102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75040" y="50054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75040" y="52941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75040" y="55818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592520" y="907920"/>
            <a:ext cx="433440" cy="4618080"/>
            <a:chOff x="4592520" y="907920"/>
            <a:chExt cx="433440" cy="4618080"/>
          </a:xfrm>
        </p:grpSpPr>
        <p:sp>
          <p:nvSpPr>
            <p:cNvPr id="368" name=""/>
            <p:cNvSpPr/>
            <p:nvPr/>
          </p:nvSpPr>
          <p:spPr>
            <a:xfrm>
              <a:off x="4592520" y="9079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92520" y="155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92520" y="2133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92520" y="2781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92520" y="3357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92520" y="4005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92520" y="4653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92520" y="5157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168880" y="1700280"/>
            <a:ext cx="1871640" cy="11318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68880" y="4149720"/>
            <a:ext cx="1871640" cy="113184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208160" y="2421000"/>
            <a:ext cx="4537080" cy="10792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08160" y="3645000"/>
            <a:ext cx="4537080" cy="9363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897600" y="1628640"/>
            <a:ext cx="435240" cy="3745080"/>
            <a:chOff x="6897600" y="1628640"/>
            <a:chExt cx="435240" cy="3745080"/>
          </a:xfrm>
        </p:grpSpPr>
        <p:sp>
          <p:nvSpPr>
            <p:cNvPr id="381" name=""/>
            <p:cNvSpPr/>
            <p:nvPr/>
          </p:nvSpPr>
          <p:spPr>
            <a:xfrm>
              <a:off x="6899400" y="16286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99400" y="1916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99400" y="2133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97600" y="2556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99400" y="40784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9400" y="4365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99400" y="45831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97600" y="50054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121600" y="2349360"/>
            <a:ext cx="433440" cy="2168640"/>
            <a:chOff x="8121600" y="2349360"/>
            <a:chExt cx="433440" cy="2168640"/>
          </a:xfrm>
        </p:grpSpPr>
        <p:sp>
          <p:nvSpPr>
            <p:cNvPr id="390" name=""/>
            <p:cNvSpPr/>
            <p:nvPr/>
          </p:nvSpPr>
          <p:spPr>
            <a:xfrm>
              <a:off x="8121600" y="2349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21600" y="29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2160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21600" y="4149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06380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分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6088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双调对接比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取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45240" y="602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双调对接比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取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05240" y="609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分组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Batcher</a:t>
            </a: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奇偶排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88160" y="6084720"/>
            <a:ext cx="7207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分组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宋体"/>
              </a:rPr>
              <a:t>Batcher</a:t>
            </a:r>
            <a:r>
              <a:rPr b="1" lang="zh-CN" sz="1600" spc="-1" strike="noStrike">
                <a:solidFill>
                  <a:srgbClr val="fc0128"/>
                </a:solidFill>
                <a:latin typeface="Arial"/>
                <a:ea typeface="宋体"/>
              </a:rPr>
              <a:t>奇偶排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1D537-D192-415E-9E7E-D005FB63F8D3}" type="datetime1">
              <a:rPr lang="en-US"/>
              <a:t>07/29/26</a:t>
            </a:fld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400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stCxn id="404" idx="7"/>
              <a:endCxn id="406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08" name=""/>
            <p:cNvCxnSpPr>
              <a:stCxn id="406" idx="5"/>
              <a:endCxn id="405" idx="1"/>
            </p:cNvCxnSpPr>
            <p:nvPr/>
          </p:nvCxnSpPr>
          <p:spPr>
            <a:xfrm>
              <a:off x="4678920" y="289044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09" name=""/>
            <p:cNvCxnSpPr>
              <a:stCxn id="400" idx="0"/>
              <a:endCxn id="404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1" idx="0"/>
              <a:endCxn id="404" idx="5"/>
            </p:cNvCxnSpPr>
            <p:nvPr/>
          </p:nvCxnSpPr>
          <p:spPr>
            <a:xfrm flipH="1" flipV="1">
              <a:off x="3523320" y="426204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2" idx="0"/>
              <a:endCxn id="405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3" idx="0"/>
              <a:endCxn id="405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2405160" y="43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08440" y="43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99160" y="43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84880" y="43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33084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47A00-EAB1-4B6C-9457-C22BC485CF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420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,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,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7" name=""/>
            <p:cNvCxnSpPr>
              <a:stCxn id="424" idx="7"/>
              <a:endCxn id="426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28" name=""/>
            <p:cNvCxnSpPr>
              <a:stCxn id="426" idx="5"/>
              <a:endCxn id="425" idx="1"/>
            </p:cNvCxnSpPr>
            <p:nvPr/>
          </p:nvCxnSpPr>
          <p:spPr>
            <a:xfrm>
              <a:off x="4678920" y="289044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29" name=""/>
            <p:cNvCxnSpPr>
              <a:stCxn id="420" idx="0"/>
              <a:endCxn id="424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1" idx="0"/>
              <a:endCxn id="424" idx="5"/>
            </p:cNvCxnSpPr>
            <p:nvPr/>
          </p:nvCxnSpPr>
          <p:spPr>
            <a:xfrm flipH="1" flipV="1">
              <a:off x="3523320" y="426204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1" name=""/>
            <p:cNvCxnSpPr>
              <a:stCxn id="422" idx="0"/>
              <a:endCxn id="425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2" name=""/>
            <p:cNvCxnSpPr>
              <a:stCxn id="423" idx="0"/>
              <a:endCxn id="425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33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A1305-925D-4F9D-949A-D84D1560B8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436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,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,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3" name=""/>
            <p:cNvCxnSpPr>
              <a:stCxn id="440" idx="7"/>
              <a:endCxn id="442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6" idx="0"/>
              <a:endCxn id="440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45" name=""/>
            <p:cNvCxnSpPr>
              <a:stCxn id="438" idx="0"/>
              <a:endCxn id="441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46" name=""/>
            <p:cNvCxnSpPr>
              <a:stCxn id="439" idx="0"/>
              <a:endCxn id="441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47" name=""/>
            <p:cNvCxnSpPr>
              <a:stCxn id="441" idx="1"/>
              <a:endCxn id="442" idx="5"/>
            </p:cNvCxnSpPr>
            <p:nvPr/>
          </p:nvCxnSpPr>
          <p:spPr>
            <a:xfrm flipH="1" flipV="1">
              <a:off x="4678560" y="289008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0" idx="5"/>
              <a:endCxn id="437" idx="0"/>
            </p:cNvCxnSpPr>
            <p:nvPr/>
          </p:nvCxnSpPr>
          <p:spPr>
            <a:xfrm>
              <a:off x="3523680" y="426240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"/>
            <p:cNvCxnSpPr>
              <a:stCxn id="441" idx="5"/>
              <a:endCxn id="439" idx="0"/>
            </p:cNvCxnSpPr>
            <p:nvPr/>
          </p:nvCxnSpPr>
          <p:spPr>
            <a:xfrm>
              <a:off x="5917320" y="426240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0" name=""/>
            <p:cNvSpPr/>
            <p:nvPr/>
          </p:nvSpPr>
          <p:spPr>
            <a:xfrm>
              <a:off x="3725640" y="430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20000" y="4227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77960" y="300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26040" y="3048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1C0E8-4CFD-47C8-9863-EDE944E085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457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4" name=""/>
            <p:cNvCxnSpPr>
              <a:stCxn id="461" idx="7"/>
              <a:endCxn id="463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"/>
            <p:cNvCxnSpPr>
              <a:stCxn id="457" idx="0"/>
              <a:endCxn id="461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66" name=""/>
            <p:cNvCxnSpPr>
              <a:stCxn id="459" idx="0"/>
              <a:endCxn id="462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67" name=""/>
            <p:cNvCxnSpPr>
              <a:stCxn id="460" idx="0"/>
              <a:endCxn id="462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68" name=""/>
            <p:cNvCxnSpPr>
              <a:stCxn id="462" idx="1"/>
              <a:endCxn id="463" idx="5"/>
            </p:cNvCxnSpPr>
            <p:nvPr/>
          </p:nvCxnSpPr>
          <p:spPr>
            <a:xfrm flipH="1" flipV="1">
              <a:off x="4678560" y="289008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1" idx="5"/>
              <a:endCxn id="458" idx="0"/>
            </p:cNvCxnSpPr>
            <p:nvPr/>
          </p:nvCxnSpPr>
          <p:spPr>
            <a:xfrm>
              <a:off x="3523680" y="426240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2" idx="5"/>
              <a:endCxn id="460" idx="0"/>
            </p:cNvCxnSpPr>
            <p:nvPr/>
          </p:nvCxnSpPr>
          <p:spPr>
            <a:xfrm>
              <a:off x="5917320" y="426240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71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AEECB-7528-43E1-BA2E-B9DE6C0C2E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474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1" name=""/>
            <p:cNvCxnSpPr>
              <a:stCxn id="474" idx="0"/>
              <a:endCxn id="478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82" name=""/>
            <p:cNvCxnSpPr>
              <a:stCxn id="476" idx="0"/>
              <a:endCxn id="479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83" name=""/>
            <p:cNvCxnSpPr>
              <a:stCxn id="477" idx="0"/>
              <a:endCxn id="479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84" name=""/>
            <p:cNvCxnSpPr>
              <a:stCxn id="478" idx="5"/>
              <a:endCxn id="475" idx="0"/>
            </p:cNvCxnSpPr>
            <p:nvPr/>
          </p:nvCxnSpPr>
          <p:spPr>
            <a:xfrm>
              <a:off x="3523680" y="426240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85" name=""/>
            <p:cNvCxnSpPr>
              <a:stCxn id="478" idx="7"/>
              <a:endCxn id="480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86" name=""/>
            <p:cNvCxnSpPr>
              <a:stCxn id="480" idx="5"/>
              <a:endCxn id="479" idx="1"/>
            </p:cNvCxnSpPr>
            <p:nvPr/>
          </p:nvCxnSpPr>
          <p:spPr>
            <a:xfrm>
              <a:off x="4678920" y="289044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7" name=""/>
            <p:cNvSpPr/>
            <p:nvPr/>
          </p:nvSpPr>
          <p:spPr>
            <a:xfrm>
              <a:off x="5129280" y="300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56BDC-28F7-43D7-AAEB-6DA3C354AA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52038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基本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1440" y="1154160"/>
            <a:ext cx="8666280" cy="280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1 Partitioning Princi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2 Divide-and-Conquer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3 Balanced Trees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4 Doubling Techniques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5 Pipelining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56659-9E9F-4F2B-B8F7-F4CF16F02A49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491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8" name=""/>
            <p:cNvCxnSpPr>
              <a:stCxn id="491" idx="0"/>
              <a:endCxn id="495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93" idx="0"/>
              <a:endCxn id="496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00" name=""/>
            <p:cNvCxnSpPr>
              <a:stCxn id="494" idx="0"/>
              <a:endCxn id="496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01" name=""/>
            <p:cNvCxnSpPr>
              <a:stCxn id="495" idx="5"/>
              <a:endCxn id="492" idx="0"/>
            </p:cNvCxnSpPr>
            <p:nvPr/>
          </p:nvCxnSpPr>
          <p:spPr>
            <a:xfrm>
              <a:off x="3523680" y="426240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02" name=""/>
            <p:cNvCxnSpPr>
              <a:stCxn id="495" idx="7"/>
              <a:endCxn id="497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503" name=""/>
            <p:cNvSpPr/>
            <p:nvPr/>
          </p:nvSpPr>
          <p:spPr>
            <a:xfrm>
              <a:off x="4964040" y="430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02440" y="430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5" name=""/>
            <p:cNvCxnSpPr>
              <a:stCxn id="497" idx="5"/>
              <a:endCxn id="496" idx="1"/>
            </p:cNvCxnSpPr>
            <p:nvPr/>
          </p:nvCxnSpPr>
          <p:spPr>
            <a:xfrm>
              <a:off x="4678920" y="289044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06" name=""/>
            <p:cNvCxnSpPr>
              <a:stCxn id="496" idx="3"/>
              <a:endCxn id="493" idx="0"/>
            </p:cNvCxnSpPr>
            <p:nvPr/>
          </p:nvCxnSpPr>
          <p:spPr>
            <a:xfrm flipH="1">
              <a:off x="5076000" y="426240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496" idx="5"/>
              <a:endCxn id="494" idx="0"/>
            </p:cNvCxnSpPr>
            <p:nvPr/>
          </p:nvCxnSpPr>
          <p:spPr>
            <a:xfrm>
              <a:off x="5917320" y="426240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08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18D74-456F-4F8B-BA91-9AD7B22635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2228760" y="2286000"/>
            <a:ext cx="4457520" cy="3276720"/>
            <a:chOff x="2228760" y="2286000"/>
            <a:chExt cx="4457520" cy="3276720"/>
          </a:xfrm>
        </p:grpSpPr>
        <p:sp>
          <p:nvSpPr>
            <p:cNvPr id="511" name=""/>
            <p:cNvSpPr/>
            <p:nvPr/>
          </p:nvSpPr>
          <p:spPr>
            <a:xfrm>
              <a:off x="222876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668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052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43600" y="487692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89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3000" y="36576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4960" y="2286000"/>
              <a:ext cx="7426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8" name=""/>
            <p:cNvCxnSpPr>
              <a:stCxn id="511" idx="0"/>
              <a:endCxn id="515" idx="3"/>
            </p:cNvCxnSpPr>
            <p:nvPr/>
          </p:nvCxnSpPr>
          <p:spPr>
            <a:xfrm flipV="1">
              <a:off x="2600280" y="4262040"/>
              <a:ext cx="39744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19" name=""/>
            <p:cNvCxnSpPr>
              <a:stCxn id="513" idx="0"/>
              <a:endCxn id="516" idx="3"/>
            </p:cNvCxnSpPr>
            <p:nvPr/>
          </p:nvCxnSpPr>
          <p:spPr>
            <a:xfrm flipV="1">
              <a:off x="5076360" y="426204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20" name=""/>
            <p:cNvCxnSpPr>
              <a:stCxn id="514" idx="0"/>
              <a:endCxn id="516" idx="5"/>
            </p:cNvCxnSpPr>
            <p:nvPr/>
          </p:nvCxnSpPr>
          <p:spPr>
            <a:xfrm flipH="1" flipV="1">
              <a:off x="5916960" y="426204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21" name=""/>
            <p:cNvCxnSpPr>
              <a:stCxn id="515" idx="5"/>
              <a:endCxn id="512" idx="0"/>
            </p:cNvCxnSpPr>
            <p:nvPr/>
          </p:nvCxnSpPr>
          <p:spPr>
            <a:xfrm>
              <a:off x="3523680" y="4262400"/>
              <a:ext cx="31536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515" idx="7"/>
              <a:endCxn id="517" idx="3"/>
            </p:cNvCxnSpPr>
            <p:nvPr/>
          </p:nvCxnSpPr>
          <p:spPr>
            <a:xfrm flipV="1">
              <a:off x="3523320" y="2890080"/>
              <a:ext cx="6296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17" idx="5"/>
              <a:endCxn id="516" idx="1"/>
            </p:cNvCxnSpPr>
            <p:nvPr/>
          </p:nvCxnSpPr>
          <p:spPr>
            <a:xfrm>
              <a:off x="4678920" y="2890440"/>
              <a:ext cx="712440" cy="848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516" idx="3"/>
              <a:endCxn id="513" idx="0"/>
            </p:cNvCxnSpPr>
            <p:nvPr/>
          </p:nvCxnSpPr>
          <p:spPr>
            <a:xfrm flipH="1">
              <a:off x="5076000" y="4262400"/>
              <a:ext cx="3150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5" name=""/>
            <p:cNvCxnSpPr>
              <a:stCxn id="516" idx="5"/>
              <a:endCxn id="514" idx="0"/>
            </p:cNvCxnSpPr>
            <p:nvPr/>
          </p:nvCxnSpPr>
          <p:spPr>
            <a:xfrm>
              <a:off x="5917320" y="4262400"/>
              <a:ext cx="397800" cy="596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26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03EE0-C35D-4183-9A3B-35635F4E82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49240" y="1989000"/>
            <a:ext cx="8313840" cy="3890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2599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perti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time: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2 log 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n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processors: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2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 – 1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cos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	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O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(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 log </a:t>
            </a:r>
            <a:r>
              <a:rPr b="1" i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)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2599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mparison with PRAM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asymptotically equivalent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in practice, less efficient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1199"/>
              </a:spcBef>
              <a:buClr>
                <a:srgbClr val="00dfca"/>
              </a:buClr>
              <a:buSzPct val="12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weaker model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33084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72880" y="9176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Arial"/>
                <a:ea typeface="宋体"/>
              </a:rPr>
              <a:t>Prefix Sums on a Tree: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72666-8A72-4FF3-80AA-679723D34A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889240" y="3644640"/>
            <a:ext cx="32907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  <a:ea typeface="宋体"/>
              </a:rPr>
              <a:t>Specialized Circuit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660240" y="1219320"/>
            <a:ext cx="8991720" cy="5333760"/>
            <a:chOff x="660240" y="1219320"/>
            <a:chExt cx="8991720" cy="5333760"/>
          </a:xfrm>
        </p:grpSpPr>
        <p:sp>
          <p:nvSpPr>
            <p:cNvPr id="533" name=""/>
            <p:cNvSpPr/>
            <p:nvPr/>
          </p:nvSpPr>
          <p:spPr>
            <a:xfrm>
              <a:off x="660240" y="12193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0240" y="19051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0240" y="25909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0240" y="32767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0240" y="39625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0240" y="46483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240" y="53341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0240" y="60199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63520" y="12193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63520" y="19051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63520" y="25909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63520" y="32767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63520" y="39625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63520" y="46483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63520" y="53341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63520" y="6019920"/>
              <a:ext cx="57744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66800" y="12193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66800" y="19051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66800" y="25909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66800" y="32767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66800" y="39625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66800" y="46483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66800" y="53341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66800" y="60199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0080" y="12193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0080" y="19051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0080" y="25909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0080" y="32767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0080" y="39625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0080" y="46483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0080" y="53341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70080" y="6019920"/>
              <a:ext cx="57780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5" name=""/>
            <p:cNvCxnSpPr>
              <a:stCxn id="533" idx="3"/>
              <a:endCxn id="541" idx="1"/>
            </p:cNvCxnSpPr>
            <p:nvPr/>
          </p:nvCxnSpPr>
          <p:spPr>
            <a:xfrm>
              <a:off x="1258560" y="14857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66" name=""/>
            <p:cNvCxnSpPr>
              <a:stCxn id="534" idx="3"/>
              <a:endCxn id="542" idx="1"/>
            </p:cNvCxnSpPr>
            <p:nvPr/>
          </p:nvCxnSpPr>
          <p:spPr>
            <a:xfrm>
              <a:off x="1258560" y="21715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67" name=""/>
            <p:cNvCxnSpPr>
              <a:stCxn id="535" idx="3"/>
              <a:endCxn id="543" idx="1"/>
            </p:cNvCxnSpPr>
            <p:nvPr/>
          </p:nvCxnSpPr>
          <p:spPr>
            <a:xfrm>
              <a:off x="1258560" y="28573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68" name=""/>
            <p:cNvCxnSpPr>
              <a:stCxn id="536" idx="3"/>
              <a:endCxn id="544" idx="1"/>
            </p:cNvCxnSpPr>
            <p:nvPr/>
          </p:nvCxnSpPr>
          <p:spPr>
            <a:xfrm>
              <a:off x="1258560" y="35431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69" name=""/>
            <p:cNvCxnSpPr>
              <a:stCxn id="537" idx="3"/>
              <a:endCxn id="545" idx="1"/>
            </p:cNvCxnSpPr>
            <p:nvPr/>
          </p:nvCxnSpPr>
          <p:spPr>
            <a:xfrm>
              <a:off x="1258560" y="42289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0" name=""/>
            <p:cNvCxnSpPr>
              <a:stCxn id="538" idx="3"/>
              <a:endCxn id="546" idx="1"/>
            </p:cNvCxnSpPr>
            <p:nvPr/>
          </p:nvCxnSpPr>
          <p:spPr>
            <a:xfrm>
              <a:off x="1258560" y="49147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1" name=""/>
            <p:cNvCxnSpPr>
              <a:stCxn id="539" idx="3"/>
              <a:endCxn id="547" idx="1"/>
            </p:cNvCxnSpPr>
            <p:nvPr/>
          </p:nvCxnSpPr>
          <p:spPr>
            <a:xfrm>
              <a:off x="1258560" y="56005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2" name=""/>
            <p:cNvCxnSpPr>
              <a:stCxn id="540" idx="3"/>
              <a:endCxn id="548" idx="1"/>
            </p:cNvCxnSpPr>
            <p:nvPr/>
          </p:nvCxnSpPr>
          <p:spPr>
            <a:xfrm>
              <a:off x="1258560" y="62863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3" name=""/>
            <p:cNvCxnSpPr>
              <a:stCxn id="541" idx="3"/>
              <a:endCxn id="549" idx="1"/>
            </p:cNvCxnSpPr>
            <p:nvPr/>
          </p:nvCxnSpPr>
          <p:spPr>
            <a:xfrm>
              <a:off x="2661840" y="14857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4" name=""/>
            <p:cNvCxnSpPr>
              <a:stCxn id="542" idx="3"/>
              <a:endCxn id="550" idx="1"/>
            </p:cNvCxnSpPr>
            <p:nvPr/>
          </p:nvCxnSpPr>
          <p:spPr>
            <a:xfrm>
              <a:off x="2661840" y="21715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5" name=""/>
            <p:cNvCxnSpPr>
              <a:stCxn id="543" idx="3"/>
              <a:endCxn id="551" idx="1"/>
            </p:cNvCxnSpPr>
            <p:nvPr/>
          </p:nvCxnSpPr>
          <p:spPr>
            <a:xfrm>
              <a:off x="2661840" y="28573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6" name=""/>
            <p:cNvCxnSpPr>
              <a:stCxn id="544" idx="3"/>
              <a:endCxn id="552" idx="1"/>
            </p:cNvCxnSpPr>
            <p:nvPr/>
          </p:nvCxnSpPr>
          <p:spPr>
            <a:xfrm>
              <a:off x="2661840" y="35431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7" name=""/>
            <p:cNvCxnSpPr>
              <a:stCxn id="545" idx="3"/>
              <a:endCxn id="553" idx="1"/>
            </p:cNvCxnSpPr>
            <p:nvPr/>
          </p:nvCxnSpPr>
          <p:spPr>
            <a:xfrm>
              <a:off x="2661840" y="42289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8" name=""/>
            <p:cNvCxnSpPr>
              <a:stCxn id="546" idx="3"/>
              <a:endCxn id="554" idx="1"/>
            </p:cNvCxnSpPr>
            <p:nvPr/>
          </p:nvCxnSpPr>
          <p:spPr>
            <a:xfrm>
              <a:off x="2661840" y="49147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79" name=""/>
            <p:cNvCxnSpPr>
              <a:stCxn id="547" idx="3"/>
              <a:endCxn id="555" idx="1"/>
            </p:cNvCxnSpPr>
            <p:nvPr/>
          </p:nvCxnSpPr>
          <p:spPr>
            <a:xfrm>
              <a:off x="2661840" y="56005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0" name=""/>
            <p:cNvCxnSpPr>
              <a:stCxn id="548" idx="3"/>
              <a:endCxn id="556" idx="1"/>
            </p:cNvCxnSpPr>
            <p:nvPr/>
          </p:nvCxnSpPr>
          <p:spPr>
            <a:xfrm>
              <a:off x="2661840" y="6286320"/>
              <a:ext cx="784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1" name=""/>
            <p:cNvCxnSpPr>
              <a:stCxn id="549" idx="3"/>
              <a:endCxn id="557" idx="1"/>
            </p:cNvCxnSpPr>
            <p:nvPr/>
          </p:nvCxnSpPr>
          <p:spPr>
            <a:xfrm>
              <a:off x="4065120" y="14857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2" name=""/>
            <p:cNvCxnSpPr>
              <a:stCxn id="550" idx="3"/>
              <a:endCxn id="558" idx="1"/>
            </p:cNvCxnSpPr>
            <p:nvPr/>
          </p:nvCxnSpPr>
          <p:spPr>
            <a:xfrm>
              <a:off x="4065120" y="21715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3" name=""/>
            <p:cNvCxnSpPr>
              <a:stCxn id="551" idx="3"/>
              <a:endCxn id="559" idx="1"/>
            </p:cNvCxnSpPr>
            <p:nvPr/>
          </p:nvCxnSpPr>
          <p:spPr>
            <a:xfrm>
              <a:off x="4065120" y="28573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4" name=""/>
            <p:cNvCxnSpPr>
              <a:stCxn id="552" idx="3"/>
              <a:endCxn id="560" idx="1"/>
            </p:cNvCxnSpPr>
            <p:nvPr/>
          </p:nvCxnSpPr>
          <p:spPr>
            <a:xfrm>
              <a:off x="4065120" y="35431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5" name=""/>
            <p:cNvCxnSpPr>
              <a:stCxn id="553" idx="3"/>
              <a:endCxn id="561" idx="1"/>
            </p:cNvCxnSpPr>
            <p:nvPr/>
          </p:nvCxnSpPr>
          <p:spPr>
            <a:xfrm>
              <a:off x="4065120" y="42289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6" name=""/>
            <p:cNvCxnSpPr>
              <a:stCxn id="554" idx="3"/>
              <a:endCxn id="562" idx="1"/>
            </p:cNvCxnSpPr>
            <p:nvPr/>
          </p:nvCxnSpPr>
          <p:spPr>
            <a:xfrm>
              <a:off x="4065120" y="49147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7" name=""/>
            <p:cNvCxnSpPr>
              <a:stCxn id="555" idx="3"/>
              <a:endCxn id="563" idx="1"/>
            </p:cNvCxnSpPr>
            <p:nvPr/>
          </p:nvCxnSpPr>
          <p:spPr>
            <a:xfrm>
              <a:off x="4065120" y="56005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8" name=""/>
            <p:cNvCxnSpPr>
              <a:stCxn id="556" idx="3"/>
              <a:endCxn id="564" idx="1"/>
            </p:cNvCxnSpPr>
            <p:nvPr/>
          </p:nvCxnSpPr>
          <p:spPr>
            <a:xfrm>
              <a:off x="4065120" y="6286320"/>
              <a:ext cx="78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89" name=""/>
            <p:cNvCxnSpPr>
              <a:stCxn id="533" idx="3"/>
              <a:endCxn id="542" idx="1"/>
            </p:cNvCxnSpPr>
            <p:nvPr/>
          </p:nvCxnSpPr>
          <p:spPr>
            <a:xfrm>
              <a:off x="1258560" y="1485720"/>
              <a:ext cx="784800" cy="686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0" name=""/>
            <p:cNvCxnSpPr>
              <a:endCxn id="543" idx="1"/>
            </p:cNvCxnSpPr>
            <p:nvPr/>
          </p:nvCxnSpPr>
          <p:spPr>
            <a:xfrm>
              <a:off x="1320840" y="2209680"/>
              <a:ext cx="72252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1" name=""/>
            <p:cNvCxnSpPr>
              <a:stCxn id="535" idx="3"/>
              <a:endCxn id="544" idx="1"/>
            </p:cNvCxnSpPr>
            <p:nvPr/>
          </p:nvCxnSpPr>
          <p:spPr>
            <a:xfrm>
              <a:off x="1258560" y="2857320"/>
              <a:ext cx="784800" cy="686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2" name=""/>
            <p:cNvCxnSpPr>
              <a:stCxn id="536" idx="3"/>
              <a:endCxn id="545" idx="1"/>
            </p:cNvCxnSpPr>
            <p:nvPr/>
          </p:nvCxnSpPr>
          <p:spPr>
            <a:xfrm>
              <a:off x="1258560" y="3543120"/>
              <a:ext cx="784800" cy="686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3" name=""/>
            <p:cNvCxnSpPr>
              <a:stCxn id="537" idx="3"/>
              <a:endCxn id="546" idx="1"/>
            </p:cNvCxnSpPr>
            <p:nvPr/>
          </p:nvCxnSpPr>
          <p:spPr>
            <a:xfrm>
              <a:off x="1258560" y="4228920"/>
              <a:ext cx="784800" cy="686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4" name=""/>
            <p:cNvCxnSpPr>
              <a:stCxn id="538" idx="3"/>
              <a:endCxn id="547" idx="1"/>
            </p:cNvCxnSpPr>
            <p:nvPr/>
          </p:nvCxnSpPr>
          <p:spPr>
            <a:xfrm>
              <a:off x="1258560" y="4914720"/>
              <a:ext cx="784800" cy="686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5" name=""/>
            <p:cNvCxnSpPr>
              <a:stCxn id="539" idx="3"/>
              <a:endCxn id="548" idx="1"/>
            </p:cNvCxnSpPr>
            <p:nvPr/>
          </p:nvCxnSpPr>
          <p:spPr>
            <a:xfrm>
              <a:off x="1258560" y="5600520"/>
              <a:ext cx="784800" cy="686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6" name=""/>
            <p:cNvCxnSpPr>
              <a:stCxn id="541" idx="3"/>
              <a:endCxn id="551" idx="1"/>
            </p:cNvCxnSpPr>
            <p:nvPr/>
          </p:nvCxnSpPr>
          <p:spPr>
            <a:xfrm>
              <a:off x="2661840" y="1486080"/>
              <a:ext cx="784800" cy="13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7" name=""/>
            <p:cNvCxnSpPr>
              <a:stCxn id="542" idx="3"/>
              <a:endCxn id="552" idx="1"/>
            </p:cNvCxnSpPr>
            <p:nvPr/>
          </p:nvCxnSpPr>
          <p:spPr>
            <a:xfrm>
              <a:off x="2661840" y="2171880"/>
              <a:ext cx="784800" cy="13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8" name=""/>
            <p:cNvCxnSpPr>
              <a:stCxn id="543" idx="3"/>
              <a:endCxn id="553" idx="1"/>
            </p:cNvCxnSpPr>
            <p:nvPr/>
          </p:nvCxnSpPr>
          <p:spPr>
            <a:xfrm>
              <a:off x="2661840" y="2857680"/>
              <a:ext cx="784800" cy="13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599" name=""/>
            <p:cNvCxnSpPr>
              <a:stCxn id="544" idx="3"/>
              <a:endCxn id="554" idx="1"/>
            </p:cNvCxnSpPr>
            <p:nvPr/>
          </p:nvCxnSpPr>
          <p:spPr>
            <a:xfrm>
              <a:off x="2661840" y="3543480"/>
              <a:ext cx="784800" cy="13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0" name=""/>
            <p:cNvCxnSpPr>
              <a:stCxn id="545" idx="3"/>
              <a:endCxn id="555" idx="1"/>
            </p:cNvCxnSpPr>
            <p:nvPr/>
          </p:nvCxnSpPr>
          <p:spPr>
            <a:xfrm>
              <a:off x="2661840" y="4229280"/>
              <a:ext cx="784800" cy="13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1" name=""/>
            <p:cNvCxnSpPr>
              <a:stCxn id="546" idx="3"/>
              <a:endCxn id="556" idx="1"/>
            </p:cNvCxnSpPr>
            <p:nvPr/>
          </p:nvCxnSpPr>
          <p:spPr>
            <a:xfrm>
              <a:off x="2661840" y="4915080"/>
              <a:ext cx="784800" cy="1372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2" name=""/>
            <p:cNvCxnSpPr>
              <a:stCxn id="549" idx="3"/>
              <a:endCxn id="561" idx="1"/>
            </p:cNvCxnSpPr>
            <p:nvPr/>
          </p:nvCxnSpPr>
          <p:spPr>
            <a:xfrm>
              <a:off x="4065120" y="1486080"/>
              <a:ext cx="784440" cy="2743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3" name=""/>
            <p:cNvCxnSpPr>
              <a:stCxn id="550" idx="3"/>
              <a:endCxn id="562" idx="1"/>
            </p:cNvCxnSpPr>
            <p:nvPr/>
          </p:nvCxnSpPr>
          <p:spPr>
            <a:xfrm>
              <a:off x="4065120" y="2171880"/>
              <a:ext cx="784440" cy="2743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4" name=""/>
            <p:cNvCxnSpPr>
              <a:stCxn id="551" idx="3"/>
              <a:endCxn id="563" idx="1"/>
            </p:cNvCxnSpPr>
            <p:nvPr/>
          </p:nvCxnSpPr>
          <p:spPr>
            <a:xfrm>
              <a:off x="4065120" y="2857680"/>
              <a:ext cx="784440" cy="2743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05" name=""/>
            <p:cNvCxnSpPr>
              <a:stCxn id="552" idx="3"/>
              <a:endCxn id="564" idx="1"/>
            </p:cNvCxnSpPr>
            <p:nvPr/>
          </p:nvCxnSpPr>
          <p:spPr>
            <a:xfrm>
              <a:off x="4065120" y="3543480"/>
              <a:ext cx="784440" cy="2743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606" name=""/>
            <p:cNvSpPr/>
            <p:nvPr/>
          </p:nvSpPr>
          <p:spPr>
            <a:xfrm>
              <a:off x="5972400" y="1868400"/>
              <a:ext cx="367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pth (time)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lexity (cost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 3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8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398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7CC7B-E1D9-4131-9DF9-05E8BD3414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231800" y="6237000"/>
            <a:ext cx="3056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Recursive Circuit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108080" y="9208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08080" y="16066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08080" y="22924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8080" y="29782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08080" y="36640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08080" y="43498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08080" y="50356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08080" y="57214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7" name=""/>
          <p:cNvCxnSpPr>
            <a:stCxn id="609" idx="3"/>
          </p:cNvCxnSpPr>
          <p:nvPr/>
        </p:nvCxnSpPr>
        <p:spPr>
          <a:xfrm>
            <a:off x="1685520" y="11869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610" idx="3"/>
          </p:cNvCxnSpPr>
          <p:nvPr/>
        </p:nvCxnSpPr>
        <p:spPr>
          <a:xfrm>
            <a:off x="1685520" y="18727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611" idx="3"/>
          </p:cNvCxnSpPr>
          <p:nvPr/>
        </p:nvCxnSpPr>
        <p:spPr>
          <a:xfrm>
            <a:off x="1685520" y="25585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612" idx="3"/>
          </p:cNvCxnSpPr>
          <p:nvPr/>
        </p:nvCxnSpPr>
        <p:spPr>
          <a:xfrm>
            <a:off x="1685520" y="32443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613" idx="3"/>
          </p:cNvCxnSpPr>
          <p:nvPr/>
        </p:nvCxnSpPr>
        <p:spPr>
          <a:xfrm>
            <a:off x="1685520" y="39301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614" idx="3"/>
          </p:cNvCxnSpPr>
          <p:nvPr/>
        </p:nvCxnSpPr>
        <p:spPr>
          <a:xfrm>
            <a:off x="1685520" y="46159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615" idx="3"/>
          </p:cNvCxnSpPr>
          <p:nvPr/>
        </p:nvCxnSpPr>
        <p:spPr>
          <a:xfrm>
            <a:off x="1685520" y="53017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616" idx="3"/>
          </p:cNvCxnSpPr>
          <p:nvPr/>
        </p:nvCxnSpPr>
        <p:spPr>
          <a:xfrm>
            <a:off x="1685520" y="5987520"/>
            <a:ext cx="785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2511360" y="920880"/>
            <a:ext cx="1816200" cy="259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ircuit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1360" y="3664080"/>
            <a:ext cx="1816200" cy="259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ircuit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/>
          <p:nvPr/>
        </p:nvCxnSpPr>
        <p:spPr>
          <a:xfrm>
            <a:off x="4327200" y="1225080"/>
            <a:ext cx="2064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8" name=""/>
          <p:cNvCxnSpPr/>
          <p:nvPr/>
        </p:nvCxnSpPr>
        <p:spPr>
          <a:xfrm>
            <a:off x="4327200" y="1910880"/>
            <a:ext cx="2064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29" name=""/>
          <p:cNvCxnSpPr/>
          <p:nvPr/>
        </p:nvCxnSpPr>
        <p:spPr>
          <a:xfrm>
            <a:off x="4327200" y="2520720"/>
            <a:ext cx="2064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30" name=""/>
          <p:cNvCxnSpPr/>
          <p:nvPr/>
        </p:nvCxnSpPr>
        <p:spPr>
          <a:xfrm>
            <a:off x="4327200" y="3206520"/>
            <a:ext cx="2064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31" name=""/>
          <p:cNvCxnSpPr/>
          <p:nvPr/>
        </p:nvCxnSpPr>
        <p:spPr>
          <a:xfrm>
            <a:off x="4327200" y="4044600"/>
            <a:ext cx="123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32" name=""/>
          <p:cNvCxnSpPr/>
          <p:nvPr/>
        </p:nvCxnSpPr>
        <p:spPr>
          <a:xfrm>
            <a:off x="4327200" y="4730400"/>
            <a:ext cx="123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33" name=""/>
          <p:cNvCxnSpPr/>
          <p:nvPr/>
        </p:nvCxnSpPr>
        <p:spPr>
          <a:xfrm>
            <a:off x="4327200" y="5339880"/>
            <a:ext cx="123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34" name=""/>
          <p:cNvCxnSpPr/>
          <p:nvPr/>
        </p:nvCxnSpPr>
        <p:spPr>
          <a:xfrm>
            <a:off x="4327200" y="6025680"/>
            <a:ext cx="123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35" name=""/>
          <p:cNvSpPr/>
          <p:nvPr/>
        </p:nvSpPr>
        <p:spPr>
          <a:xfrm>
            <a:off x="4327560" y="6922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27560" y="13780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27560" y="20638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27560" y="2749680"/>
            <a:ext cx="57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327560" y="3511440"/>
            <a:ext cx="57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27560" y="4197240"/>
            <a:ext cx="57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327560" y="4883040"/>
            <a:ext cx="57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27560" y="5568840"/>
            <a:ext cx="57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05360" y="920880"/>
            <a:ext cx="2063880" cy="5333760"/>
            <a:chOff x="4905360" y="920880"/>
            <a:chExt cx="2063880" cy="5333760"/>
          </a:xfrm>
        </p:grpSpPr>
        <p:sp>
          <p:nvSpPr>
            <p:cNvPr id="644" name=""/>
            <p:cNvSpPr/>
            <p:nvPr/>
          </p:nvSpPr>
          <p:spPr>
            <a:xfrm>
              <a:off x="5565600" y="3664080"/>
              <a:ext cx="660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65600" y="4349880"/>
              <a:ext cx="660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65600" y="4959360"/>
              <a:ext cx="660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65600" y="5645160"/>
              <a:ext cx="660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987800" y="3206880"/>
              <a:ext cx="0" cy="25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87800" y="579744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05360" y="3130560"/>
              <a:ext cx="16524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05360" y="3740040"/>
              <a:ext cx="16524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05360" y="4425840"/>
              <a:ext cx="16524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05360" y="5035680"/>
              <a:ext cx="16524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987800" y="511164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87800" y="450216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87800" y="381636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26200" y="389268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26200" y="457848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6200" y="518796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226200" y="587376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91440" y="9208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391440" y="16066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391440" y="22924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391440" y="29782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91440" y="36640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91440" y="43498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91440" y="50356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91440" y="572148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52880" y="335772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52880" y="4048200"/>
              <a:ext cx="577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52880" y="4653000"/>
              <a:ext cx="577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952880" y="5338800"/>
              <a:ext cx="577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140120" y="228600"/>
            <a:ext cx="239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3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平衡树设计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14337-AC8C-46F5-B783-E4FAFC3690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0" name=""/>
          <p:cNvCxnSpPr>
            <a:stCxn id="676" idx="3"/>
            <a:endCxn id="677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81" name=""/>
          <p:cNvCxnSpPr>
            <a:stCxn id="678" idx="1"/>
            <a:endCxn id="677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82" name=""/>
          <p:cNvCxnSpPr>
            <a:stCxn id="678" idx="3"/>
            <a:endCxn id="679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6" name=""/>
          <p:cNvCxnSpPr>
            <a:stCxn id="679" idx="3"/>
            <a:endCxn id="683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87" name=""/>
          <p:cNvCxnSpPr>
            <a:stCxn id="684" idx="1"/>
            <a:endCxn id="683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84" idx="3"/>
            <a:endCxn id="685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89" name=""/>
          <p:cNvSpPr/>
          <p:nvPr/>
        </p:nvSpPr>
        <p:spPr>
          <a:xfrm>
            <a:off x="491760" y="342900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,4,5,1,7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61649-0F4C-4446-BB01-BC1A936BC081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3" idx="3"/>
            <a:endCxn id="694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95" idx="1"/>
            <a:endCxn id="694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95" idx="3"/>
            <a:endCxn id="696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3" name=""/>
          <p:cNvCxnSpPr>
            <a:stCxn id="696" idx="3"/>
            <a:endCxn id="700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4" name=""/>
          <p:cNvCxnSpPr>
            <a:stCxn id="701" idx="1"/>
            <a:endCxn id="700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05" name=""/>
          <p:cNvCxnSpPr>
            <a:stCxn id="701" idx="3"/>
            <a:endCxn id="702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829800" y="3429000"/>
            <a:ext cx="17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,4,5,1,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658C2-D869-41F7-B870-E27508F54753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0" idx="3"/>
            <a:endCxn id="711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15" name=""/>
          <p:cNvCxnSpPr>
            <a:stCxn id="712" idx="1"/>
            <a:endCxn id="711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16" name=""/>
          <p:cNvCxnSpPr>
            <a:stCxn id="712" idx="3"/>
            <a:endCxn id="713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17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3"/>
            <a:endCxn id="717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"/>
          <p:cNvCxnSpPr>
            <a:stCxn id="718" idx="1"/>
            <a:endCxn id="717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2" name=""/>
          <p:cNvCxnSpPr>
            <a:stCxn id="718" idx="3"/>
            <a:endCxn id="719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1168200" y="342900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,4,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4AC21-8AD5-4EEC-8F8E-75348000AD0C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27" idx="3"/>
            <a:endCxn id="728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29" idx="1"/>
            <a:endCxn id="728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29" idx="3"/>
            <a:endCxn id="730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0" idx="3"/>
            <a:endCxn id="734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38" name=""/>
          <p:cNvCxnSpPr>
            <a:stCxn id="735" idx="1"/>
            <a:endCxn id="734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39" name=""/>
          <p:cNvCxnSpPr>
            <a:stCxn id="735" idx="3"/>
            <a:endCxn id="736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1506240" y="3429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,4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C910A-F617-4515-AF32-53B26C598309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5" idx="3"/>
            <a:endCxn id="746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47" idx="1"/>
            <a:endCxn id="746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7" idx="3"/>
            <a:endCxn id="748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52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5" name=""/>
          <p:cNvCxnSpPr>
            <a:stCxn id="748" idx="3"/>
            <a:endCxn id="752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56" name=""/>
          <p:cNvCxnSpPr>
            <a:stCxn id="753" idx="1"/>
            <a:endCxn id="752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57" name=""/>
          <p:cNvCxnSpPr>
            <a:stCxn id="753" idx="3"/>
            <a:endCxn id="754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844640" y="34290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E3074-DB6E-4795-B7E5-F6391EC810D3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8514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划分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31800" y="981000"/>
            <a:ext cx="7561440" cy="3835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设计思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将原问题划分成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p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个独立的几乎相等的子问题；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p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台处理器并行地求解各子问题。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Rema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划分重点在于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: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子问题易解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组合成原问题的解方便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;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有别于分治法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划分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均匀划分              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•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方根划分         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对数划分              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•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c0128"/>
                </a:solidFill>
                <a:latin typeface="Arial"/>
                <a:ea typeface="宋体"/>
              </a:rPr>
              <a:t>功能划分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fc0128"/>
                </a:solidFill>
                <a:latin typeface="Arial"/>
                <a:ea typeface="宋体"/>
              </a:rPr>
              <a:t>补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宋体"/>
              </a:rPr>
              <a:t>)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E83C9-7115-4064-826A-6CE03C26CA44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7" name=""/>
          <p:cNvCxnSpPr>
            <a:stCxn id="763" idx="3"/>
            <a:endCxn id="764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65" idx="1"/>
            <a:endCxn id="764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65" idx="3"/>
            <a:endCxn id="766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70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3"/>
            <a:endCxn id="770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71" idx="1"/>
            <a:endCxn id="770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5" name=""/>
          <p:cNvCxnSpPr>
            <a:stCxn id="771" idx="3"/>
            <a:endCxn id="772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218268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876920" y="2833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ACD08-172F-4C3F-AD48-4BA5C4205977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6" name=""/>
          <p:cNvCxnSpPr>
            <a:stCxn id="782" idx="3"/>
            <a:endCxn id="783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87" name=""/>
          <p:cNvCxnSpPr>
            <a:stCxn id="784" idx="1"/>
            <a:endCxn id="783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88" name=""/>
          <p:cNvCxnSpPr>
            <a:stCxn id="784" idx="3"/>
            <a:endCxn id="785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89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2" name=""/>
          <p:cNvCxnSpPr>
            <a:stCxn id="785" idx="3"/>
            <a:endCxn id="789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93" name=""/>
          <p:cNvCxnSpPr>
            <a:stCxn id="790" idx="1"/>
            <a:endCxn id="789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94" name=""/>
          <p:cNvCxnSpPr>
            <a:stCxn id="790" idx="3"/>
            <a:endCxn id="791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95" name=""/>
          <p:cNvSpPr/>
          <p:nvPr/>
        </p:nvSpPr>
        <p:spPr>
          <a:xfrm>
            <a:off x="3049920" y="2808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625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833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E5E74-1B84-446B-88ED-574C17AF785B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800" idx="3"/>
            <a:endCxn id="801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2" idx="1"/>
            <a:endCxn id="801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3"/>
            <a:endCxn id="803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07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803" idx="3"/>
            <a:endCxn id="807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11" name=""/>
          <p:cNvCxnSpPr>
            <a:stCxn id="808" idx="1"/>
            <a:endCxn id="807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12" name=""/>
          <p:cNvCxnSpPr>
            <a:stCxn id="808" idx="3"/>
            <a:endCxn id="809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13" name=""/>
          <p:cNvSpPr/>
          <p:nvPr/>
        </p:nvSpPr>
        <p:spPr>
          <a:xfrm>
            <a:off x="571536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876920" y="2833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625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37281-2078-448F-AAFB-1647E2D5BF48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818" idx="3"/>
            <a:endCxn id="819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20" idx="1"/>
            <a:endCxn id="819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24" name=""/>
          <p:cNvCxnSpPr>
            <a:stCxn id="820" idx="3"/>
            <a:endCxn id="821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25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21" idx="3"/>
            <a:endCxn id="825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29" name=""/>
          <p:cNvCxnSpPr>
            <a:stCxn id="826" idx="1"/>
            <a:endCxn id="825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30" name=""/>
          <p:cNvCxnSpPr>
            <a:stCxn id="826" idx="3"/>
            <a:endCxn id="827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31" name=""/>
          <p:cNvSpPr/>
          <p:nvPr/>
        </p:nvSpPr>
        <p:spPr>
          <a:xfrm>
            <a:off x="571536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76920" y="2833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52FD7-8D34-4670-9ED4-D3E6013DF666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35" idx="3"/>
            <a:endCxn id="836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0" name=""/>
          <p:cNvCxnSpPr>
            <a:stCxn id="837" idx="1"/>
            <a:endCxn id="836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1" name=""/>
          <p:cNvCxnSpPr>
            <a:stCxn id="837" idx="3"/>
            <a:endCxn id="838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42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3"/>
            <a:endCxn id="842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43" idx="1"/>
            <a:endCxn id="842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43" idx="3"/>
            <a:endCxn id="844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655344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71536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B1BDE-5379-4636-9882-BA33BB64B723}" type="datetime1">
              <a:rPr lang="en-US"/>
              <a:t>07/29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"/>
          <p:cNvCxnSpPr>
            <a:stCxn id="852" idx="3"/>
            <a:endCxn id="853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57" name=""/>
          <p:cNvCxnSpPr>
            <a:stCxn id="854" idx="1"/>
            <a:endCxn id="853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58" name=""/>
          <p:cNvCxnSpPr>
            <a:stCxn id="854" idx="3"/>
            <a:endCxn id="855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55" idx="3"/>
            <a:endCxn id="859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63" name=""/>
          <p:cNvCxnSpPr>
            <a:stCxn id="860" idx="1"/>
            <a:endCxn id="859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64" name=""/>
          <p:cNvCxnSpPr>
            <a:stCxn id="860" idx="3"/>
            <a:endCxn id="861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655344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B7B32-9DCB-4E63-9C9A-3E7C096FD4B8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2" name=""/>
          <p:cNvCxnSpPr>
            <a:stCxn id="868" idx="3"/>
            <a:endCxn id="869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73" name=""/>
          <p:cNvCxnSpPr>
            <a:stCxn id="870" idx="1"/>
            <a:endCxn id="869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0" idx="3"/>
            <a:endCxn id="871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75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8" name=""/>
          <p:cNvCxnSpPr>
            <a:stCxn id="871" idx="3"/>
            <a:endCxn id="875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stCxn id="876" idx="1"/>
            <a:endCxn id="875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80" name=""/>
          <p:cNvCxnSpPr>
            <a:stCxn id="876" idx="3"/>
            <a:endCxn id="877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81" name=""/>
          <p:cNvSpPr/>
          <p:nvPr/>
        </p:nvSpPr>
        <p:spPr>
          <a:xfrm>
            <a:off x="7391520" y="281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E3F7C-41D2-44B3-A1C1-73FCE5BE2290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04880" y="198000"/>
            <a:ext cx="4896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5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流水线设计技术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703080" y="922320"/>
            <a:ext cx="7489800" cy="102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Systolic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排序算法示例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3, 4, 5, 1, 7, 2,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 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6712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6244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65776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8" name=""/>
          <p:cNvCxnSpPr>
            <a:stCxn id="884" idx="3"/>
            <a:endCxn id="885" idx="1"/>
          </p:cNvCxnSpPr>
          <p:nvPr/>
        </p:nvCxnSpPr>
        <p:spPr>
          <a:xfrm>
            <a:off x="352404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89" name=""/>
          <p:cNvCxnSpPr>
            <a:stCxn id="886" idx="1"/>
            <a:endCxn id="885" idx="3"/>
          </p:cNvCxnSpPr>
          <p:nvPr/>
        </p:nvCxnSpPr>
        <p:spPr>
          <a:xfrm flipH="1">
            <a:off x="441900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86" idx="3"/>
            <a:endCxn id="887" idx="1"/>
          </p:cNvCxnSpPr>
          <p:nvPr/>
        </p:nvCxnSpPr>
        <p:spPr>
          <a:xfrm>
            <a:off x="5314680" y="3695400"/>
            <a:ext cx="32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891" name=""/>
          <p:cNvSpPr/>
          <p:nvPr/>
        </p:nvSpPr>
        <p:spPr>
          <a:xfrm>
            <a:off x="6477120" y="342900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31520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153280" y="342900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>
            <a:stCxn id="887" idx="3"/>
            <a:endCxn id="891" idx="1"/>
          </p:cNvCxnSpPr>
          <p:nvPr/>
        </p:nvCxnSpPr>
        <p:spPr>
          <a:xfrm>
            <a:off x="6210360" y="3695400"/>
            <a:ext cx="248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95" name=""/>
          <p:cNvCxnSpPr>
            <a:stCxn id="892" idx="1"/>
            <a:endCxn id="891" idx="3"/>
          </p:cNvCxnSpPr>
          <p:nvPr/>
        </p:nvCxnSpPr>
        <p:spPr>
          <a:xfrm flipH="1">
            <a:off x="70290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2" idx="3"/>
            <a:endCxn id="893" idx="1"/>
          </p:cNvCxnSpPr>
          <p:nvPr/>
        </p:nvCxnSpPr>
        <p:spPr>
          <a:xfrm>
            <a:off x="7867800" y="3695400"/>
            <a:ext cx="267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779A8-7A48-47E2-95EE-CEEA6EA5EF2F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45543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0520" y="955800"/>
            <a:ext cx="8496000" cy="4633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75000"/>
              </a:lnSpc>
              <a:spcBef>
                <a:spcPts val="1950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元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[1..n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成等长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组，每组满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某种特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5000"/>
              </a:lnSpc>
              <a:spcBef>
                <a:spcPts val="1950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示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(m, n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问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求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元素中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最小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功能划分：要求每组元素个数必须大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法是基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atch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排序网络，下面先介绍一些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预备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  <a:ea typeface="宋体"/>
              </a:rPr>
              <a:t>1.Batcher</a:t>
            </a: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比较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奇偶归并及排序网络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  <a:ea typeface="宋体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             </a:t>
            </a: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网络构造、奇偶归并网络、奇偶排序网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双调归并及排序网络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  <a:ea typeface="宋体"/>
              </a:rPr>
              <a:t>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  <a:ea typeface="宋体"/>
              </a:rPr>
              <a:t>              </a:t>
            </a:r>
            <a:r>
              <a:rPr b="1" lang="zh-CN" sz="2000" spc="-1" strike="noStrike">
                <a:solidFill>
                  <a:srgbClr val="063de8"/>
                </a:solidFill>
                <a:latin typeface="Arial"/>
                <a:ea typeface="宋体"/>
              </a:rPr>
              <a:t>定义与定理、网络构造、双调归并网络、双调排序网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1DB42-034D-4D6F-8A9A-19A2DCF97CA5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37623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0520" y="1142640"/>
            <a:ext cx="8496000" cy="4311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1. Batcher</a:t>
            </a:r>
            <a:r>
              <a:rPr b="1" lang="zh-CN" sz="2800" spc="-1" strike="noStrike">
                <a:solidFill>
                  <a:srgbClr val="063de8"/>
                </a:solidFill>
                <a:latin typeface="Arial"/>
                <a:ea typeface="宋体"/>
              </a:rPr>
              <a:t>比较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d58"/>
                </a:solidFill>
                <a:latin typeface="Arial"/>
                <a:ea typeface="宋体"/>
              </a:rPr>
              <a:t>比较和条件交换操作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: CCI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d58"/>
                </a:solidFill>
                <a:latin typeface="Arial"/>
                <a:ea typeface="宋体"/>
              </a:rPr>
              <a:t>比较器网络：用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宋体"/>
              </a:rPr>
              <a:t>Batcher</a:t>
            </a:r>
            <a:r>
              <a:rPr b="1" lang="zh-CN" sz="2400" spc="-1" strike="noStrike">
                <a:solidFill>
                  <a:srgbClr val="081d58"/>
                </a:solidFill>
                <a:latin typeface="Arial"/>
                <a:ea typeface="宋体"/>
              </a:rPr>
              <a:t>比较器连成完成某一功能的网络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d58"/>
                </a:solidFill>
                <a:latin typeface="Arial"/>
                <a:ea typeface="宋体"/>
              </a:rPr>
              <a:t>假定：每次每个元素只能与另一个元素比较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1d58"/>
                </a:solidFill>
                <a:latin typeface="Arial"/>
                <a:ea typeface="宋体"/>
              </a:rPr>
              <a:t>比较器网络的参数：比较器数目、延迟级数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36520" y="1639800"/>
            <a:ext cx="6912000" cy="18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27351-1C07-405A-8778-EE410BCD07DE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5120" y="198000"/>
            <a:ext cx="44895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07760" y="977760"/>
            <a:ext cx="3668760" cy="462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2.1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奇偶归并网络构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有序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: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B: 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m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归并思想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, B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中奇数号元素进入奇归并器；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, B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中偶数号元素进入偶归并器；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再将奇归并器与偶归并器的输出交叉比较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注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: (m,n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规模划分为：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92520" y="836640"/>
            <a:ext cx="4386240" cy="547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2880" y="4869000"/>
                <a:ext cx="2357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d>
                                    <m:dPr>
                                      <m:begChr m:val="⌈"/>
                                      <m:endChr m:val="⌉"/>
                                    </m:dP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m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t xml:space="preserve">,</m:t>
                                  </m:r>
                                  <m:d>
                                    <m:dPr>
                                      <m:begChr m:val="⌈"/>
                                      <m:endChr m:val="⌉"/>
                                    </m:dP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</m:d>
                              <m:r>
                                <m:t xml:space="preserve">奇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d>
                                    <m:dPr>
                                      <m:begChr m:val="⌊"/>
                                      <m:endChr m:val="⌋"/>
                                    </m:dP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m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t xml:space="preserve">,</m:t>
                                  </m:r>
                                  <m:d>
                                    <m:dPr>
                                      <m:begChr m:val="⌊"/>
                                      <m:endChr m:val="⌋"/>
                                    </m:dP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</m:d>
                              <m:r>
                                <m:t xml:space="preserve">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025A4-1541-4177-A85C-26EC6B618C22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499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7760" y="977400"/>
            <a:ext cx="7629480" cy="711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2.2 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奇偶归并示例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=n=4   A=(2,4,6,8)  B=(0,1,3,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4, 4)</a:t>
            </a:r>
            <a:r>
              <a:rPr b="1" lang="en-US" sz="2000" spc="-1" strike="noStrike">
                <a:solidFill>
                  <a:srgbClr val="081d58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2×(2, 2)</a:t>
            </a:r>
            <a:r>
              <a:rPr b="1" lang="en-US" sz="2000" spc="-1" strike="noStrike">
                <a:solidFill>
                  <a:srgbClr val="081d58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4×(1, 1)</a:t>
            </a:r>
            <a:endParaRPr b="1" lang="en-US" sz="20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85960" y="1916280"/>
            <a:ext cx="5254560" cy="384480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152880" y="1773360"/>
            <a:ext cx="1663560" cy="4103640"/>
            <a:chOff x="3152880" y="1773360"/>
            <a:chExt cx="1663560" cy="4103640"/>
          </a:xfrm>
        </p:grpSpPr>
        <p:sp>
          <p:nvSpPr>
            <p:cNvPr id="102" name=""/>
            <p:cNvSpPr/>
            <p:nvPr/>
          </p:nvSpPr>
          <p:spPr>
            <a:xfrm>
              <a:off x="3152880" y="1773360"/>
              <a:ext cx="1663560" cy="4103640"/>
            </a:xfrm>
            <a:prstGeom prst="rect">
              <a:avLst/>
            </a:prstGeom>
            <a:noFill/>
            <a:ln w="2844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52880" y="3789360"/>
              <a:ext cx="1663560" cy="0"/>
            </a:xfrm>
            <a:prstGeom prst="line">
              <a:avLst/>
            </a:prstGeom>
            <a:ln w="2844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7257960" y="2205000"/>
            <a:ext cx="151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(2,2)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奇归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075040" y="1773360"/>
            <a:ext cx="501480" cy="4174920"/>
            <a:chOff x="2075040" y="1773360"/>
            <a:chExt cx="501480" cy="4174920"/>
          </a:xfrm>
        </p:grpSpPr>
        <p:sp>
          <p:nvSpPr>
            <p:cNvPr id="106" name=""/>
            <p:cNvSpPr/>
            <p:nvPr/>
          </p:nvSpPr>
          <p:spPr>
            <a:xfrm>
              <a:off x="2075040" y="1773360"/>
              <a:ext cx="501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75040" y="2349360"/>
              <a:ext cx="501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75040" y="2781360"/>
              <a:ext cx="501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75040" y="3429000"/>
              <a:ext cx="501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75040" y="3860640"/>
              <a:ext cx="501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5040" y="4437000"/>
              <a:ext cx="501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75040" y="4941720"/>
              <a:ext cx="501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75040" y="5516640"/>
              <a:ext cx="501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93960" y="1773360"/>
            <a:ext cx="503280" cy="4174920"/>
            <a:chOff x="2793960" y="1773360"/>
            <a:chExt cx="503280" cy="4174920"/>
          </a:xfrm>
        </p:grpSpPr>
        <p:sp>
          <p:nvSpPr>
            <p:cNvPr id="115" name=""/>
            <p:cNvSpPr/>
            <p:nvPr/>
          </p:nvSpPr>
          <p:spPr>
            <a:xfrm>
              <a:off x="2793960" y="177336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3960" y="234936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93960" y="278136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3960" y="342900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93960" y="386064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93960" y="443700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93960" y="494172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93960" y="551664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368520" y="1773360"/>
            <a:ext cx="503280" cy="4174920"/>
            <a:chOff x="3368520" y="1773360"/>
            <a:chExt cx="503280" cy="4174920"/>
          </a:xfrm>
        </p:grpSpPr>
        <p:sp>
          <p:nvSpPr>
            <p:cNvPr id="124" name=""/>
            <p:cNvSpPr/>
            <p:nvPr/>
          </p:nvSpPr>
          <p:spPr>
            <a:xfrm>
              <a:off x="3368520" y="177336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68520" y="234936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68520" y="278136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68520" y="342900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8520" y="386064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68520" y="443700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68520" y="494172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68520" y="551664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665600" y="1773360"/>
            <a:ext cx="504360" cy="4174920"/>
            <a:chOff x="4665600" y="1773360"/>
            <a:chExt cx="504360" cy="4174920"/>
          </a:xfrm>
        </p:grpSpPr>
        <p:sp>
          <p:nvSpPr>
            <p:cNvPr id="133" name=""/>
            <p:cNvSpPr/>
            <p:nvPr/>
          </p:nvSpPr>
          <p:spPr>
            <a:xfrm>
              <a:off x="4665600" y="1773360"/>
              <a:ext cx="50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65600" y="2349360"/>
              <a:ext cx="50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65600" y="2781360"/>
              <a:ext cx="50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65600" y="3429000"/>
              <a:ext cx="50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5600" y="3860640"/>
              <a:ext cx="50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65600" y="4437000"/>
              <a:ext cx="50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65600" y="4941720"/>
              <a:ext cx="50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65600" y="5516640"/>
              <a:ext cx="50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961240" y="1774800"/>
            <a:ext cx="502920" cy="4174920"/>
            <a:chOff x="5961240" y="1774800"/>
            <a:chExt cx="502920" cy="4174920"/>
          </a:xfrm>
        </p:grpSpPr>
        <p:sp>
          <p:nvSpPr>
            <p:cNvPr id="142" name=""/>
            <p:cNvSpPr/>
            <p:nvPr/>
          </p:nvSpPr>
          <p:spPr>
            <a:xfrm>
              <a:off x="5961240" y="1774800"/>
              <a:ext cx="502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61240" y="2350800"/>
              <a:ext cx="502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61240" y="2782800"/>
              <a:ext cx="502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61240" y="3430440"/>
              <a:ext cx="502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61240" y="3862080"/>
              <a:ext cx="502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61240" y="4438440"/>
              <a:ext cx="502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61240" y="4943160"/>
              <a:ext cx="502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61240" y="5518080"/>
              <a:ext cx="502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  <a:ea typeface="宋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329600" y="4365720"/>
            <a:ext cx="151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(2,2)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偶归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70320" y="6093000"/>
            <a:ext cx="1509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03040" indent="-20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交叉比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448160" y="2492280"/>
            <a:ext cx="2665440" cy="720720"/>
          </a:xfrm>
          <a:prstGeom prst="line">
            <a:avLst/>
          </a:prstGeom>
          <a:ln w="28440">
            <a:solidFill>
              <a:srgbClr val="063de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21240" y="4653000"/>
            <a:ext cx="2665440" cy="720720"/>
          </a:xfrm>
          <a:prstGeom prst="line">
            <a:avLst/>
          </a:prstGeom>
          <a:ln w="28440">
            <a:solidFill>
              <a:srgbClr val="063de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16520" y="5229360"/>
            <a:ext cx="73080" cy="863640"/>
          </a:xfrm>
          <a:prstGeom prst="line">
            <a:avLst/>
          </a:prstGeom>
          <a:ln w="28440">
            <a:solidFill>
              <a:srgbClr val="063de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7274C-E200-4E3E-B7A1-15C6BB5F9118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5480" y="198000"/>
            <a:ext cx="6215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520" y="907560"/>
            <a:ext cx="8263080" cy="1195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2.3 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奇偶排序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于奇偶归并网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示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(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12880" y="2193840"/>
            <a:ext cx="6192720" cy="41626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3370320" y="2181240"/>
            <a:ext cx="1150560" cy="2862000"/>
            <a:chOff x="3370320" y="2181240"/>
            <a:chExt cx="1150560" cy="2862000"/>
          </a:xfrm>
        </p:grpSpPr>
        <p:sp>
          <p:nvSpPr>
            <p:cNvPr id="159" name=""/>
            <p:cNvSpPr/>
            <p:nvPr/>
          </p:nvSpPr>
          <p:spPr>
            <a:xfrm>
              <a:off x="3370320" y="2181240"/>
              <a:ext cx="1132200" cy="28620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70320" y="3645000"/>
              <a:ext cx="115056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121360" y="2181240"/>
            <a:ext cx="2063520" cy="286236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12880" y="2252520"/>
            <a:ext cx="361800" cy="2808360"/>
            <a:chOff x="1712880" y="2252520"/>
            <a:chExt cx="361800" cy="2808360"/>
          </a:xfrm>
        </p:grpSpPr>
        <p:sp>
          <p:nvSpPr>
            <p:cNvPr id="163" name=""/>
            <p:cNvSpPr/>
            <p:nvPr/>
          </p:nvSpPr>
          <p:spPr>
            <a:xfrm>
              <a:off x="1712880" y="225252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12880" y="246852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2880" y="297180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2880" y="326052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2880" y="369252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2880" y="398124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2880" y="441324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12880" y="4700520"/>
              <a:ext cx="361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720880" y="2181240"/>
            <a:ext cx="360360" cy="2808000"/>
            <a:chOff x="2720880" y="2181240"/>
            <a:chExt cx="360360" cy="2808000"/>
          </a:xfrm>
        </p:grpSpPr>
        <p:sp>
          <p:nvSpPr>
            <p:cNvPr id="172" name=""/>
            <p:cNvSpPr/>
            <p:nvPr/>
          </p:nvSpPr>
          <p:spPr>
            <a:xfrm>
              <a:off x="2720880" y="21812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20880" y="23968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20880" y="29001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20880" y="31892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0880" y="36208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0880" y="39099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20880" y="434160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20880" y="46288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448160" y="2133720"/>
            <a:ext cx="360360" cy="2782440"/>
            <a:chOff x="4448160" y="2133720"/>
            <a:chExt cx="360360" cy="2782440"/>
          </a:xfrm>
        </p:grpSpPr>
        <p:sp>
          <p:nvSpPr>
            <p:cNvPr id="181" name=""/>
            <p:cNvSpPr/>
            <p:nvPr/>
          </p:nvSpPr>
          <p:spPr>
            <a:xfrm>
              <a:off x="4448160" y="213372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48160" y="253980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48160" y="275580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48160" y="311616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48160" y="362088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48160" y="397980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48160" y="426852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48160" y="4556160"/>
              <a:ext cx="3603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832880" y="2181240"/>
            <a:ext cx="360360" cy="2808000"/>
            <a:chOff x="7832880" y="2181240"/>
            <a:chExt cx="360360" cy="2808000"/>
          </a:xfrm>
        </p:grpSpPr>
        <p:sp>
          <p:nvSpPr>
            <p:cNvPr id="190" name=""/>
            <p:cNvSpPr/>
            <p:nvPr/>
          </p:nvSpPr>
          <p:spPr>
            <a:xfrm>
              <a:off x="7832880" y="218124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32880" y="25876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32880" y="29001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32880" y="333216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32880" y="36208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32880" y="40273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32880" y="426852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32880" y="4628880"/>
              <a:ext cx="36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03040" indent="-2030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  <a:ea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855CD-4646-4DBF-88DA-C33CD2132040}" type="datetime1">
              <a:rPr lang="en-US"/>
              <a:t>07/29/26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5120" y="198000"/>
            <a:ext cx="44895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7.1.4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宋体"/>
              </a:rPr>
              <a:t>功能划分</a:t>
            </a:r>
            <a:endParaRPr b="1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7520" y="977760"/>
            <a:ext cx="8163000" cy="3029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3.1 </a:t>
            </a:r>
            <a:r>
              <a:rPr b="1" lang="zh-CN" sz="2400" spc="-1" strike="noStrike">
                <a:solidFill>
                  <a:srgbClr val="063de8"/>
                </a:solidFill>
                <a:latin typeface="Arial"/>
                <a:ea typeface="宋体"/>
              </a:rPr>
              <a:t>定义及定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一个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是双调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Bitonic Sequence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，如果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1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存在一个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k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1</a:t>
            </a:r>
            <a:r>
              <a:rPr b="1" lang="en-US" sz="2000" spc="-1" strike="noStrike">
                <a:solidFill>
                  <a:srgbClr val="081d58"/>
                </a:solidFill>
                <a:latin typeface="华文中宋"/>
                <a:ea typeface="华文中宋"/>
              </a:rPr>
              <a:t>≤k≤n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),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使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≥…≥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k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≤…≤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成立；或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2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能够循环移位满足条件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示例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1,3,5,7,8,6,4,2,0), (7,8,6,4,2,0,1,3,5)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1,2,3,4,5,6,7,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都是双调序列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宋体"/>
              </a:rPr>
              <a:t>a</a:t>
            </a:r>
            <a:r>
              <a:rPr b="1" lang="en-US" sz="2000" spc="-1" strike="noStrike" baseline="-25000">
                <a:solidFill>
                  <a:srgbClr val="fc0128"/>
                </a:solidFill>
                <a:latin typeface="Arial"/>
                <a:ea typeface="宋体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97240" y="3357720"/>
            <a:ext cx="576360" cy="35856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16160" y="3408480"/>
            <a:ext cx="817560" cy="3078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160520" y="3403440"/>
            <a:ext cx="1855800" cy="31284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1800" y="3894120"/>
            <a:ext cx="8163000" cy="21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624"/>
              </a:spcBef>
              <a:buClr>
                <a:srgbClr val="063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定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Batch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定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设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+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 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2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是一个双调序列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=min{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 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+n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}   ==&gt;  MIN</a:t>
            </a: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=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{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=max{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 a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+n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}  ==&gt;  MAX</a:t>
            </a: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=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{c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,…,c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n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},  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(1) b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i</a:t>
            </a:r>
            <a:r>
              <a:rPr b="1" lang="en-US" sz="2400" spc="-1" strike="noStrike">
                <a:solidFill>
                  <a:srgbClr val="081d58"/>
                </a:solidFill>
                <a:latin typeface="华文中宋"/>
                <a:ea typeface="华文中宋"/>
              </a:rPr>
              <a:t>≤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 baseline="-25000">
                <a:solidFill>
                  <a:srgbClr val="081d58"/>
                </a:solidFill>
                <a:latin typeface="Arial"/>
                <a:ea typeface="宋体"/>
              </a:rPr>
              <a:t>j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     (1≤i, j≤n)    (2) MIN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宋体"/>
              </a:rPr>
              <a:t>MAX</a:t>
            </a:r>
            <a:r>
              <a:rPr b="1" lang="zh-CN" sz="2000" spc="-1" strike="noStrike">
                <a:solidFill>
                  <a:srgbClr val="081d58"/>
                </a:solidFill>
                <a:latin typeface="Arial"/>
                <a:ea typeface="宋体"/>
              </a:rPr>
              <a:t>序列仍是双调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78B5C-A499-445E-8AD0-D4C14187C440}" type="datetime1">
              <a:rPr lang="en-US"/>
              <a:t>07/29/26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9T16:58:46Z</dcterms:created>
  <dc:creator>Xu Yun</dc:creator>
  <dc:description/>
  <cp:keywords/>
  <dc:language>en-US</dc:language>
  <cp:lastModifiedBy>walkinnet</cp:lastModifiedBy>
  <cp:lastPrinted>1999-08-22T22:40:57Z</cp:lastPrinted>
  <dcterms:modified xsi:type="dcterms:W3CDTF">2014-07-16T07:49:15Z</dcterms:modified>
  <cp:revision>330</cp:revision>
  <dc:subject/>
  <dc:title>并行计算</dc:title>
</cp:coreProperties>
</file>