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2.wmf" ContentType="image/x-wmf"/>
  <Override PartName="/ppt/media/image9.wmf" ContentType="image/x-wmf"/>
  <Override PartName="/ppt/media/image11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2A2A-9354-47D6-82B3-2585917CF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5EC08-12C7-4EE7-BF51-E8C4BFC65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33F2C-9C14-455B-AF73-A72679BE0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40720"/>
            <a:ext cx="252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F949-56A8-4454-A69F-BA271A9D2F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5AD6-69A8-4E4B-B277-0EAE5F1B5A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6005F-9E35-404C-A2EF-FEED62C80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B1234-BDBD-46B7-9151-C78A92894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BF53-6FB1-4797-80BE-BF218A70E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0C012-D994-4560-9C1C-5FCFCDA7F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C3825-9DC0-4DE9-81E0-16F7202CA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4072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87ED9-124F-45DD-AD34-3570E8635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78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C9B38-1CF9-4AE4-A8C2-267745C27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创艺简黑体"/>
              </a:rPr>
              <a:t>国家高性能计算中心（合肥）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4FE1-2070-43B7-9ED4-9BD4F5F3B3AA}" type="slidenum">
              <a:rPr b="0" lang="zh-CN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并行计算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Compu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52880"/>
            <a:ext cx="665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讲人   徐 云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mer, 20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直接求解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2.2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奇偶规约法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求解    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8200" y="685440"/>
            <a:ext cx="8066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三对角方程组的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奇偶规约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求解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56908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奇偶规约求解法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并行化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对角方程可以写成如下形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+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+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i=1~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行算法描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用上下相邻方程消去偶序号方程中的奇下标变量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-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-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-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-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-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-1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</a:t>
            </a:r>
            <a:r>
              <a:rPr b="0" lang="en-US" sz="2200" spc="-1" strike="noStrike">
                <a:solidFill>
                  <a:srgbClr val="cc0066"/>
                </a:solidFill>
                <a:latin typeface="华文新魏"/>
                <a:ea typeface="华文新魏"/>
              </a:rPr>
              <a:t>f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华文新魏"/>
                <a:ea typeface="华文新魏"/>
              </a:rPr>
              <a:t>2i</a:t>
            </a:r>
            <a:r>
              <a:rPr b="0" lang="en-US" sz="2200" spc="-1" strike="noStrike">
                <a:solidFill>
                  <a:srgbClr val="cc0066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华文新魏"/>
                <a:ea typeface="华文新魏"/>
              </a:rPr>
              <a:t>2i-1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  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0" lang="en-US" sz="2200" spc="-1" strike="noStrike">
                <a:solidFill>
                  <a:srgbClr val="cc0066"/>
                </a:solidFill>
                <a:latin typeface="华文新魏"/>
                <a:ea typeface="华文新魏"/>
              </a:rPr>
              <a:t> h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华文新魏"/>
                <a:ea typeface="华文新魏"/>
              </a:rPr>
              <a:t>2i</a:t>
            </a:r>
            <a:r>
              <a:rPr b="0" lang="en-US" sz="2200" spc="-1" strike="noStrike">
                <a:solidFill>
                  <a:srgbClr val="cc0066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华文新魏"/>
                <a:ea typeface="华文新魏"/>
              </a:rPr>
              <a:t>2i+1 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+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+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+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+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+2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+1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i-1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乘上某个数消去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i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中的</a:t>
            </a:r>
            <a:r>
              <a:rPr b="0" lang="en-US" sz="2200" spc="-1" strike="noStrike">
                <a:solidFill>
                  <a:srgbClr val="cc0066"/>
                </a:solidFill>
                <a:latin typeface="华文新魏"/>
                <a:ea typeface="华文新魏"/>
              </a:rPr>
              <a:t>f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华文新魏"/>
                <a:ea typeface="华文新魏"/>
              </a:rPr>
              <a:t>2i</a:t>
            </a:r>
            <a:r>
              <a:rPr b="0" lang="en-US" sz="2200" spc="-1" strike="noStrike">
                <a:solidFill>
                  <a:srgbClr val="cc0066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华文新魏"/>
                <a:ea typeface="华文新魏"/>
              </a:rPr>
              <a:t>2i-1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项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2i+1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乘上某个数   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去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i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中的</a:t>
            </a:r>
            <a:r>
              <a:rPr b="0" lang="en-US" sz="2200" spc="-1" strike="noStrike">
                <a:solidFill>
                  <a:srgbClr val="cc0066"/>
                </a:solidFill>
                <a:latin typeface="华文新魏"/>
                <a:ea typeface="华文新魏"/>
              </a:rPr>
              <a:t>h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华文新魏"/>
                <a:ea typeface="华文新魏"/>
              </a:rPr>
              <a:t>2i</a:t>
            </a:r>
            <a:r>
              <a:rPr b="0" lang="en-US" sz="2200" spc="-1" strike="noStrike">
                <a:solidFill>
                  <a:srgbClr val="cc0066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华文新魏"/>
                <a:ea typeface="华文新魏"/>
              </a:rPr>
              <a:t>2i+1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项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i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变为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α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-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β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γ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i+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η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i=1,2,…,n/2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B5486-6475-42C4-9121-00813BD618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9640" y="1267920"/>
            <a:ext cx="8569440" cy="52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重复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终可得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ase 1:                                                case 2:                 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 baseline="-25000">
                <a:solidFill>
                  <a:srgbClr val="cc0066"/>
                </a:solidFill>
                <a:latin typeface="华文新魏"/>
                <a:ea typeface="华文新魏"/>
              </a:rPr>
              <a:t> 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分别得到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                      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得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回代求解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化分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去奇下标可以并行化；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③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回代求解可以并行化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8200" y="620280"/>
            <a:ext cx="8066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三对角方程组的奇偶规约求解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2EC00-23BC-4F82-B3B9-A4745A549B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3.1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有回代的高斯消去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无回代的高斯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约旦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迭代求解的高斯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赛德尔法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求解   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有回代的高斯消去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50800" y="1483920"/>
            <a:ext cx="8269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基本原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解过程分为消元和回代两个阶段，消元是将系数矩阵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化为上三角阵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然后对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X=c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行回代求解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元过程中可以应用选主元方法，增加算法的数值稳定性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是消元过程图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700360" y="3121200"/>
          <a:ext cx="568800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121200"/>
                    <a:ext cx="568800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82596-900F-4754-A088-C108BA30AD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有回代的高斯消去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化分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元和回代均可以并行化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主元也可以并行化；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元过程的并行化图示：处理器按行划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260360" y="3141720"/>
          <a:ext cx="5472360" cy="35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3141720"/>
                    <a:ext cx="547236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ACEC7-3A54-4EB9-8516-0017662CB1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有回代的高斯消去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3.2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无回代的高斯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-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约旦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迭代求解的高斯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赛德尔法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求解   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无回代的高斯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约旦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0800" y="1483920"/>
            <a:ext cx="8269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行算法原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元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初等行变换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A,b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化为主对角线矩阵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便起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n+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②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解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a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,n+1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a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j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136520" y="2997360"/>
                <a:ext cx="703584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 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/>
                            <m:e/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  <m:mr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/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  <m:mr>
                            <m:e/>
                            <m:e/>
                            <m:e>
                              <m:r>
                                <m:t xml:space="preserve">⋱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50FC-266E-4C3A-8BFB-168E75AA67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无回代的高斯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约旦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50800" y="1483920"/>
            <a:ext cx="8269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MD-CREW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并行算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)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理器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n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处理器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些处理器排成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n×(n+1)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矩阵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理器编号为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k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i=1~n, k=1~n+1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化分析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①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元的并行化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      // O(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for j=1 to n-1, each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k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Par-do    //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消元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j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&lt;&gt;j): 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j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&lt;— 0    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k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&lt;&gt;j, k=j+1~n+1): 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k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&lt;— 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k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k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j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j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②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解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for each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j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j=1~n) Par-do: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&lt;—  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,n+1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j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/O(1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分析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 t(n)=O(n), p(n)=O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  c(n)=O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成本最优？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8C270-249C-4F75-8903-5B4894902D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无回代的高斯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约旦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0800" y="1268280"/>
            <a:ext cx="8269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成本最优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行算法的最优时间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(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设已有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:  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②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∴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-1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需要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2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n/2×n/2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矩阵的逆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i(n/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n/2×n/2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矩阵的乘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m(n/2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n/2×n/2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矩阵的加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(n/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i(n)=2i(n/2)+6m(n/2)+2a(n/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(n/2)=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/4,   m(n/2)=O((n/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    2&lt;x&lt;2.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&gt; i(n)=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综上，串行算法的最优时间为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   2&lt;x&lt;2.5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692360" y="2689200"/>
                <a:ext cx="725148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sSub>
                                        <m:e/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</m:sSub>
                                    </m:sub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其中，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3538-5000-44F2-B87C-EE2DF4ED95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06112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三篇 并行数值算法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九章 稠密矩阵运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第十章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十一章 快速傅里叶变换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第十二章 数值计算的基本支撑技术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有回代的高斯消去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无回代的高斯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约旦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3.3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迭代求解的高斯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-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赛德尔法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求解   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迭代求解的高斯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赛德尔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928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串行算法原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对某个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,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给定的误差允许值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认为迭代是收敛的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化分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每次迭代需要使用本次迭代的前面部分值，因而难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得到同步的并行算法，下面给出一个异步的并行算法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547640" y="1884240"/>
                <a:ext cx="467064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&lt;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&gt;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046320" y="3429000"/>
                <a:ext cx="19638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</m:nary>
                    <m:r>
                      <m:t xml:space="preserve">&lt;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2255-F28F-4663-836E-AF387EB68B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迭代求解的高斯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赛德尔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928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MIMD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异步并行算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处理器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N≤n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成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进程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进程计算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一个分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ol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ne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成进程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程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) ol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ne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ii)ne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∑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&lt;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k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ol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∑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&gt;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k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ol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until ∑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=1~n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| ol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- ne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|&lt;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ne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ABF7B-09E1-48E6-BD40-F004F9F7AD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稀疏线性方程组的求解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线性方程组的并行化方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迭代解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高斯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赛德尔迭代法的并行化</a:t>
            </a:r>
            <a:br>
              <a:rPr sz="32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17480" y="1539720"/>
            <a:ext cx="2400480" cy="3195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71680" y="1539720"/>
            <a:ext cx="2399040" cy="3195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824440" y="1539720"/>
            <a:ext cx="2347920" cy="3195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41520" y="4665600"/>
            <a:ext cx="25588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wton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linear sol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Times New Roman"/>
              </a:rPr>
              <a:t>asymptotically quadrat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411000" y="4665600"/>
            <a:ext cx="21492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Krylov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ler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Times New Roman"/>
              </a:rPr>
              <a:t>spectrally adap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6138360" y="4665600"/>
            <a:ext cx="1692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chwarz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ondition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Times New Roman"/>
              </a:rPr>
              <a:t>paralleliz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858600"/>
            <a:ext cx="7611840" cy="600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Three VIPs for Iterative Method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DA658-E604-4300-AA37-627EF37469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求解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4.1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线性方程组的并行化方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迭代解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高斯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赛德尔迭代法的并行化</a:t>
            </a:r>
            <a:br>
              <a:rPr sz="32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线性方程组的并行化方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线性方程组选择算法的考虑因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系数矩阵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结构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n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Gaussian elimination, et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ar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iterative meth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iangula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substitution, odd-even redu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rtain PD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multigrid, et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精度要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ussian elimination:  more accurate, more expens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jugate gradients:  less accurate, less expens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环境要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, available languages, compiler qu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brarie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3E837-1352-49B9-B9D3-01C1E7ED208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线性方程组的并行化方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解方法的并行化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接解法的并行化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于稠密线性方程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Gauss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去法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包括选主元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Gauss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去法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Gauss-Jordan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去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LU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解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迭代法的并行化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于稠密和稀疏线性方程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Jacob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Gauss-Seidel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异步并行化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Jacobi OverRelaxation(J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Gauss-Seidel OverRelaxation(S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Conjugate Gradi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8E95-F18E-4C58-ADC5-708C4F7424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求解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线性方程组的并行化方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4.2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稀疏线性方程组的迭代解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.3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高斯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赛德尔迭代法的并行化</a:t>
            </a:r>
            <a:br>
              <a:rPr sz="32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稀疏线性方程组的迭代解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630080"/>
            <a:ext cx="813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迭代解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74720" y="2284560"/>
                <a:ext cx="7974000" cy="32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acobi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auss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idel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&lt;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&gt;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OR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R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&lt;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&gt;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jugat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adi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602B-C811-4D74-92FB-79F63A2F2B9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1.1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基本术语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上三角方程组的求解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求解    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求解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线性方程组的并行化方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迭代解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4.3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高斯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-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赛德尔迭代法的并行化</a:t>
            </a:r>
            <a:br>
              <a:rPr sz="32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高斯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赛德尔迭代法的并行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PDE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离散产生的稀疏线性方程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Laplace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32000" y="2276640"/>
                <a:ext cx="66247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0,1</m:t>
                        </m:r>
                        <m:r>
                          <m:t xml:space="preserve">]</m:t>
                        </m:r>
                        <m:r>
                          <m:t xml:space="preserve">×</m:t>
                        </m:r>
                        <m:r>
                          <m:t xml:space="preserve">[</m:t>
                        </m:r>
                        <m:r>
                          <m:t xml:space="preserve">0,1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求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满足上面的方程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且满足边值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4" name=""/>
          <p:cNvGraphicFramePr/>
          <p:nvPr/>
        </p:nvGraphicFramePr>
        <p:xfrm>
          <a:off x="1496880" y="3141720"/>
          <a:ext cx="530712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3141720"/>
                    <a:ext cx="530712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E7F3-9A9B-4C74-9D94-0F4E1414D7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高斯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赛德尔迭代法的并行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485720"/>
            <a:ext cx="8135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五点格式的离散化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设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g(x,y)=0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55640" y="1957320"/>
                <a:ext cx="8024760" cy="448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记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，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用二阶中心差分逼近：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[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[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代入</m:t>
                        </m:r>
                        <m:r>
                          <m:rPr>
                            <m:lit/>
                            <m:nor/>
                          </m:rPr>
                          <m:t xml:space="preserve">Laplace</m:t>
                        </m:r>
                        <m:r>
                          <m:rPr>
                            <m:lit/>
                            <m:nor/>
                          </m:rPr>
                          <m:t xml:space="preserve">方程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[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&lt;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  <m:e/>
                                <m:e/>
                                <m:e/>
                              </m:mr>
                              <m:mr>
                                <m:e>
                                  <m:r>
                                    <m:t xml:space="preserve">E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  <m:e/>
                                <m:e/>
                              </m:mr>
                              <m:mr>
                                <m:e/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/>
                              </m:mr>
                              <m:mr>
                                <m:e/>
                                <m:e/>
                                <m:e>
                                  <m:r>
                                    <m:t xml:space="preserve">E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</m:mr>
                              <m:mr>
                                <m:e/>
                                <m:e/>
                                <m:e/>
                                <m:e>
                                  <m:r>
                                    <m:t xml:space="preserve">E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/>
                                <m:e/>
                                <m:e/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/>
                                <m:e/>
                              </m:mr>
                              <m:mr>
                                <m:e/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/>
                              </m:mr>
                              <m:mr>
                                <m:e/>
                                <m:e/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/>
                                <m:e/>
                                <m:e/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为单位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D17A3-AA26-4B6E-85FC-D13E324A53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高斯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赛德尔迭代法的并行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1356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稀疏的块三对角矩阵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705440" cy="41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66D5-520C-4852-B198-83F0CA9E8B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高斯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赛德尔迭代法的并行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485720"/>
            <a:ext cx="813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Gauss-Seidel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迭代解法的并行化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种串行算法的计算顺序及其并行化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顺序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顺序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顺序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难以并行化；顺序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小规模并行化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-374760" y="2278080"/>
            <a:ext cx="9699480" cy="3456000"/>
            <a:chOff x="-374760" y="2278080"/>
            <a:chExt cx="9699480" cy="3456000"/>
          </a:xfrm>
        </p:grpSpPr>
        <p:graphicFrame>
          <p:nvGraphicFramePr>
            <p:cNvPr id="125" name=""/>
            <p:cNvGraphicFramePr/>
            <p:nvPr/>
          </p:nvGraphicFramePr>
          <p:xfrm>
            <a:off x="-374760" y="2278080"/>
            <a:ext cx="5915880" cy="345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374760" y="2278080"/>
                      <a:ext cx="5915880" cy="345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" name=""/>
            <p:cNvGraphicFramePr/>
            <p:nvPr/>
          </p:nvGraphicFramePr>
          <p:xfrm>
            <a:off x="3408840" y="2278080"/>
            <a:ext cx="5915880" cy="345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08840" y="2278080"/>
                      <a:ext cx="5915880" cy="345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B5374-23D0-4749-9E64-EDA6B909EF1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高斯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赛德尔迭代法的并行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13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黑着色并行算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计算所有的红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行计算所有的黑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重复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至满足精度要求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63800" y="1557360"/>
          <a:ext cx="552420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1557360"/>
                    <a:ext cx="552420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BC8DB-D6FF-45A7-8D96-1522DAF397A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基本术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412640"/>
            <a:ext cx="81392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线性方程组的定义和符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,1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+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,2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+  …  +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,n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= 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,1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+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,1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+  …  +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,n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= 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…                    …                  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,1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+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,1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+  …  +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,n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= 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记为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X=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205000"/>
            <a:ext cx="216000" cy="13716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704880" y="4365720"/>
                <a:ext cx="7107120" cy="19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10AA4-9C19-467B-BFEB-4BFBF100FE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.1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基本术语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1.2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上三角方程组的求解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求解    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79488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上三角方程组的求解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557000"/>
            <a:ext cx="81392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三角方程组的回代解法并行化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SISD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回代算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for i=n downto 1 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.1)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.2)for j=1 to i-1 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i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4719600" y="4076280"/>
            <a:ext cx="287280" cy="1513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5079960" y="4723920"/>
            <a:ext cx="11430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marL="203040" indent="-203040" algn="ctr"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可并行化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A724A-6BE5-4A9B-BE92-40CC1DA4F4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上三角方程组的求解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63388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三角方程组的回代解法并行化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SIMD-CREW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的并行回代算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分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p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处理器行循环带状划分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or i=n downto 1 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or all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where 1≤j≤p 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for k=j to i-1 step p 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-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ki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d              // p(n)=n,  t(n)=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10160" y="2346480"/>
          <a:ext cx="4065480" cy="32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0160" y="2346480"/>
                    <a:ext cx="4065480" cy="32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0C346-FE99-4675-8031-23CF456650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04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omic Sans MS"/>
                <a:ea typeface="华文新魏"/>
              </a:rPr>
              <a:t>第十章 线性方程组的求解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1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角形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对角方程组的求解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华文新魏"/>
              </a:rPr>
              <a:t>10.2.1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直接求解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2.2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奇偶规约法</a:t>
            </a: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3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稠密线性方程组的求解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10.4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稀疏线性方程组的求解    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79640" y="2066760"/>
          <a:ext cx="9756720" cy="546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2066760"/>
                    <a:ext cx="9756720" cy="54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三对角方程组的直接求解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75628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Gauss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去法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难以并行化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消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回代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注：由于三对角的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组的特殊性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次消元或一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回代，只涉及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一个方程，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难以并行化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现代密码学理论与实践之五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56F5F-07F8-4E26-94DF-F4B031ED56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7T01:26:01Z</dcterms:created>
  <dc:creator>Xu Yun</dc:creator>
  <dc:description/>
  <dc:language>en-US</dc:language>
  <cp:lastModifiedBy>walkinnet</cp:lastModifiedBy>
  <dcterms:modified xsi:type="dcterms:W3CDTF">2014-07-16T07:50:48Z</dcterms:modified>
  <cp:revision>43</cp:revision>
  <dc:subject/>
  <dc:title>并行计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