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779-2B14-4A86-89D9-8C247347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3BD-A6FB-4740-9B5D-A496C314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5AE-71EE-4C9D-99BC-19F4F541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0BE-6FEB-41E2-90E0-5D03B4C6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运行方式之二：命令行方式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顺便对数组，输出，绘图等基本的东西有一个感性的认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常用的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注释用分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注意：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下运行命令行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需要设置一下用户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环境变量，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目录（比如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\Program Files\ITT\IDL71\bin\bin.x8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添加到用户环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过程、函数、过程文件将在程序导读中详细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AEB9-C55F-4269-B3A2-CD4541E2B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,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3.5d &amp; c=4L &amp; help, a, b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, a+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c &amp; help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=fltarr(2,4) &amp; help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[0,0]=1L &amp; print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多种使用方式，可以用命令行交互输入，可以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从一段简单程序导读中介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的命令书写规则，基本数据类型，数组，输入输出，分支判断，循环，函数，过程等基本程序设计的概念，给听众一个基本的感性认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的基本格式为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动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, 300, 600, 900, FORMAT=‘(I3, I6, I9)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命令动词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关键字，关键字可有可无，顺序不定，而参数则有一定的顺序，且必须出现。参数有可变长参数和确定个数的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是典型的可变长参数，所谓可变长，即可以写任意多个参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简单的程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simplePro.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一行中，分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;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之后的部分皆为注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主文件名为过程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Simple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程序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结尾，不区分大小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表示长整形，对于基本类型，赋值时，值和类型一起赋给左边的变量。符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语句分隔符，将一行中多条语句分隔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&amp; b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该行读取两个整形值，分别给两个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关键字，其作用是使命令行提示符由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DL&gt;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变成该标签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, PROMPT=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整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"b&lt;=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请重新输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打印输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 =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nAr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(b-a)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循环遍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=a,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逻辑判断，奇数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，偶数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假；非零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；非空字符串为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[idx]=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+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stA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'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目标数组的总和是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'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stAr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从一段简单程序导读中介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的命令书写规则，基本数据类型，数组，输入输出，分支判断，循环，函数，过程等基本程序设计的概念，给听众一个基本的感性认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的基本格式为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动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, 300, 600, 900, FORMAT=‘(I3, I6, I9)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命令动词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关键字，关键字可有可无，顺序不定，而参数则有一定的顺序，且必须出现。参数有可变长参数和确定个数的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是典型的可变长参数，所谓可变长，即可以写任意多个参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简单的程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simplePro.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一行中，分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;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之后的部分皆为注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主文件名为过程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Simple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程序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结尾，不区分大小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表示长整形，对于基本类型，赋值时，值和类型一起赋给左边的变量。符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语句分隔符，将一行中多条语句分隔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&amp; b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该行读取两个整形值，分别给两个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关键字，其作用是使命令行提示符由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DL&gt;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变成该标签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, PROMPT=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整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"b&lt;=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请重新输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打印输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 =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nAr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(b-a)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循环遍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=a,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逻辑判断，奇数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，偶数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假；非零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；非空字符串为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[idx]=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+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stA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'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目标数组的总和是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'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stAr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Name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,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"this is a function, their parameters are: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y,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[x,y,z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call proName1 fir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Name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,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"this is a function, their parameters are: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y,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[x,y,z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call proName1 fir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导读与语法解析，向听众展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操作方法，基本语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包括数据与变量，数组，循环，分支，判断，过程，函数），输入输出，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琐碎的语法再简单介绍一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ltArr(3,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ltArr(3,2,/NOZERO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indgen(3,2) 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indgen(3,2, /Long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indgen(3,2) 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make_array(3, 2, /float)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所有值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二维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u/readf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输入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mated binary 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本），从指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u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中读取数据到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u/printf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输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mated binary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本），将变量值输出到指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u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A94-C7BC-4222-8EA8-19C253D9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着重讲解前面几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灰色部分从略，使用时看帮助即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一些关键字及其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de_sur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一些关键字及其相应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imag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Nam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PATH('rose.jpg', SUBDIRECTORY = ['examples', 'data'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,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iz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(image, /dimensions);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若不指定，输出维度、各维度大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x[[, y], z]]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、类型、元素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, image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_IMAGE(fileName)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取图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, 0, Xsize = imageSize[1]*2, Ysize = imageSize[2]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显示窗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image, 0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smooth(image, [1,5,5]), 1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Imag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rd(true=1)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取直接图形窗口显示的内容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Imag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newImage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_image, "E:\IDLWrokspace71\testData\newImage.jpg", 'JPEG', new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C18-D274-4007-9C0E-7B48D1F0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怎么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运行程序之前先要做一点准备工作：可用节点的节点名和在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首先要在自己的目录下准备两个文本文件，一个用来记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用的节点的节点名，另一个记录着可用节点的节点名和在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，这个数通常和该节点拥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核的数量相等，但也可以小于或大于这个数，只是这样运行起来效率可能没那么高。比如本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核，但是你指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，可能就有浪费，或者你指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进程，可能就有一半进程需要跟另一半进程串行执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比如我在自己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下建两个文本文件，分别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d.hos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里边的记录如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建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运行环境，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dboo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启动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指定使用的节点数，一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指定记录节点的文件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指定使用的安全协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样就可以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，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mpid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命令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chine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指定刚才我们建立的那个记录着节点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Nam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，该数量不能超过前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，冒号后面指定的数量之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16DC-E8E3-4A75-9418-FF1C656A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4B9-C7B4-4438-9D73-2982DA37C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逻辑判断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相去甚远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逻辑判断分以下几种情况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字符型，整形和长整形的奇数，判断为真；反之，偶数和零，判断为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非零的浮点型，双精度型和复数类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包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判断为真；反之，零判断为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非空的字符串类型，判断为真； 反之，空的字符串类型判断为假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E82-6E19-43D8-862C-D01A1868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F96-7DAE-4471-BB25-6E00079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8DA-41FF-41C6-8BE8-4423240E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1CA-BB81-4D7F-8DB1-A01236F3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92D-3967-4A9E-BF6E-FA07681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A05-CA54-45BE-94CF-D313E7F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87B-5B13-4A4E-8FD7-1598CB2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E81-8AD8-4BEB-ABAA-140D6083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B1A-E3C7-4487-8076-31833DDF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620-08B9-4AD2-911D-0FFD8CA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686-3650-4A36-A860-EF4086ED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686-28A9-4EBF-A819-EB05727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862F-3E96-4761-853F-16356956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elisvis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dfanning.com/" TargetMode="External"/><Relationship Id="rId2" Type="http://schemas.openxmlformats.org/officeDocument/2006/relationships/hyperlink" Target="http://www.rlkling.com/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idlastro.gsfc.nasa.gov/homepage.html" TargetMode="External"/><Relationship Id="rId2" Type="http://schemas.openxmlformats.org/officeDocument/2006/relationships/hyperlink" Target="http://www.lmsal.com/solarsoft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76">
                  <a:alpha val="25098"/>
                </a:srgbClr>
              </a:gs>
              <a:gs pos="100000">
                <a:srgbClr val="0000ff">
                  <a:alpha val="24313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1989000"/>
            <a:ext cx="9144000" cy="38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ID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科学计算可视化基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nteractive Data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科院计算机网络信息中心 超级计算中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茂金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xiemaojin@sccas.c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.11.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066680" y="3352680"/>
            <a:ext cx="3672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213520" y="5113440"/>
            <a:ext cx="39304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像处理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'rose.jpg', SUBDIRECTORY = ['examples', 'data'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_IM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Siz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/DIMEN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COMPOS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Decomposed={0|1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伪彩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真彩彩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X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Y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 = ‘Original Rose Im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mage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True={1|2|3}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,m,n),(m,3,n), (m,n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XSIZ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Y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$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 = 'Vertically Smoothed (left), Horizontally ' + 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Smoothed (middle), and Both (right)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Display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324000" y="-54000"/>
            <a:ext cx="8439120" cy="1682640"/>
            <a:chOff x="324000" y="-54000"/>
            <a:chExt cx="8439120" cy="1682640"/>
          </a:xfrm>
        </p:grpSpPr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2427480" y="-54000"/>
              <a:ext cx="633564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324000" y="-52200"/>
              <a:ext cx="21351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8"/>
            <p:cNvSpPr/>
            <p:nvPr/>
          </p:nvSpPr>
          <p:spPr>
            <a:xfrm>
              <a:off x="2499120" y="174240"/>
              <a:ext cx="208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1, 2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4586400" y="17424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21, 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6674040" y="174240"/>
              <a:ext cx="20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5, 5])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338400" y="17424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00"/>
                  </a:solidFill>
                  <a:latin typeface="Arial"/>
                </a:rPr>
                <a:t>原图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755640" y="4437000"/>
            <a:ext cx="4176720" cy="647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619280" y="1916280"/>
            <a:ext cx="2160720" cy="288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826920" y="2781360"/>
            <a:ext cx="6050160" cy="503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6902280" y="3573360"/>
            <a:ext cx="216000" cy="358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7230960" y="2708280"/>
            <a:ext cx="188136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GBRGBRGB…….RG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243560" y="4003560"/>
            <a:ext cx="180216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RRRRRRRR….RR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GGGGGGGG….GG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BBBBBBBB….BB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241400" y="3102120"/>
            <a:ext cx="188748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RRRRRRRR….RR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GGGGGGGG….GG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BBBBBBBB…...BB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7"/>
          <p:cNvGrpSpPr/>
          <p:nvPr/>
        </p:nvGrpSpPr>
        <p:grpSpPr>
          <a:xfrm>
            <a:off x="6443640" y="4869000"/>
            <a:ext cx="2232000" cy="1412280"/>
            <a:chOff x="6443640" y="4869000"/>
            <a:chExt cx="2232000" cy="1412280"/>
          </a:xfrm>
        </p:grpSpPr>
        <p:sp>
          <p:nvSpPr>
            <p:cNvPr id="130" name="Rectangle 19"/>
            <p:cNvSpPr/>
            <p:nvPr/>
          </p:nvSpPr>
          <p:spPr>
            <a:xfrm>
              <a:off x="6443640" y="5343480"/>
              <a:ext cx="1656000" cy="864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6731280" y="5155920"/>
              <a:ext cx="1655640" cy="86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7020000" y="4940280"/>
              <a:ext cx="1655640" cy="86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36"/>
            <p:cNvGrpSpPr/>
            <p:nvPr/>
          </p:nvGrpSpPr>
          <p:grpSpPr>
            <a:xfrm>
              <a:off x="6514920" y="4869000"/>
              <a:ext cx="576720" cy="1412280"/>
              <a:chOff x="6514920" y="4869000"/>
              <a:chExt cx="576720" cy="1412280"/>
            </a:xfrm>
          </p:grpSpPr>
          <p:sp>
            <p:nvSpPr>
              <p:cNvPr id="134" name="Line 31"/>
              <p:cNvSpPr/>
              <p:nvPr/>
            </p:nvSpPr>
            <p:spPr>
              <a:xfrm>
                <a:off x="6515280" y="5256000"/>
                <a:ext cx="0" cy="981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2"/>
              <p:cNvSpPr/>
              <p:nvPr/>
            </p:nvSpPr>
            <p:spPr>
              <a:xfrm>
                <a:off x="6804000" y="5084640"/>
                <a:ext cx="0" cy="980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3"/>
              <p:cNvSpPr/>
              <p:nvPr/>
            </p:nvSpPr>
            <p:spPr>
              <a:xfrm>
                <a:off x="7091640" y="4869000"/>
                <a:ext cx="0" cy="981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4"/>
              <p:cNvSpPr/>
              <p:nvPr/>
            </p:nvSpPr>
            <p:spPr>
              <a:xfrm flipH="1">
                <a:off x="6514920" y="4869000"/>
                <a:ext cx="576360" cy="406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5"/>
              <p:cNvSpPr/>
              <p:nvPr/>
            </p:nvSpPr>
            <p:spPr>
              <a:xfrm flipH="1">
                <a:off x="6514920" y="5875200"/>
                <a:ext cx="576360" cy="406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Line 43"/>
          <p:cNvSpPr/>
          <p:nvPr/>
        </p:nvSpPr>
        <p:spPr>
          <a:xfrm flipV="1">
            <a:off x="5148360" y="2924280"/>
            <a:ext cx="208764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4"/>
          <p:cNvSpPr/>
          <p:nvPr/>
        </p:nvSpPr>
        <p:spPr>
          <a:xfrm flipV="1">
            <a:off x="5940360" y="3284280"/>
            <a:ext cx="122400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6516720" y="3573360"/>
            <a:ext cx="71928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4859280" y="501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、过程、参数、关键字、返回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和过程统称为例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9"/>
          <p:cNvSpPr/>
          <p:nvPr/>
        </p:nvSpPr>
        <p:spPr>
          <a:xfrm>
            <a:off x="5148360" y="4292640"/>
            <a:ext cx="1079280" cy="431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S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5796000" y="1989000"/>
            <a:ext cx="3097080" cy="9169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el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scxiemj@v3904 ~]$ idl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即可打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900000" y="6237360"/>
            <a:ext cx="2519640" cy="431640"/>
          </a:xfrm>
          <a:prstGeom prst="wedgeEllipseCallout">
            <a:avLst>
              <a:gd name="adj1" fmla="val -53337"/>
              <a:gd name="adj2" fmla="val -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此输入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1835280" y="4292640"/>
            <a:ext cx="3960720" cy="576360"/>
          </a:xfrm>
          <a:prstGeom prst="wedgeEllipseCallout">
            <a:avLst>
              <a:gd name="adj1" fmla="val -52125"/>
              <a:gd name="adj2" fmla="val -76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用户变量和系统变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611280" y="2349360"/>
            <a:ext cx="1368360" cy="1295640"/>
          </a:xfrm>
          <a:prstGeom prst="wedgeEllipseCallout">
            <a:avLst>
              <a:gd name="adj1" fmla="val -56148"/>
              <a:gd name="adj2" fmla="val 76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台显示输出结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1042920" y="1413000"/>
            <a:ext cx="1728720" cy="936360"/>
          </a:xfrm>
          <a:prstGeom prst="wedgeEllipseCallout">
            <a:avLst>
              <a:gd name="adj1" fmla="val -10513"/>
              <a:gd name="adj2" fmla="val -12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译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1476360" y="476280"/>
            <a:ext cx="50328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0" t="0" r="981" b="0"/>
          <a:stretch/>
        </p:blipFill>
        <p:spPr>
          <a:xfrm>
            <a:off x="179280" y="-27000"/>
            <a:ext cx="8964720" cy="63324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611280" y="333360"/>
            <a:ext cx="7921440" cy="5572080"/>
            <a:chOff x="611280" y="333360"/>
            <a:chExt cx="7921440" cy="5572080"/>
          </a:xfrm>
        </p:grpSpPr>
        <p:sp>
          <p:nvSpPr>
            <p:cNvPr id="155" name="Rectangle 4"/>
            <p:cNvSpPr/>
            <p:nvPr/>
          </p:nvSpPr>
          <p:spPr>
            <a:xfrm>
              <a:off x="2484360" y="3645000"/>
              <a:ext cx="277920" cy="255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55640" y="4941720"/>
              <a:ext cx="1295280" cy="432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611280" y="4508640"/>
              <a:ext cx="26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2124000" y="83664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684360" y="1916280"/>
              <a:ext cx="20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2916360" y="1700280"/>
              <a:ext cx="215640" cy="216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132000" y="1916280"/>
              <a:ext cx="324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3564000" y="2205000"/>
              <a:ext cx="48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gen(3,4)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生成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列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行的二维数组，每个元素的值依次递增，注意是按列存储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>
              <a:off x="3276720" y="333360"/>
              <a:ext cx="5256000" cy="360360"/>
            </a:xfrm>
            <a:prstGeom prst="wedgeRectCallout">
              <a:avLst>
                <a:gd name="adj1" fmla="val -60842"/>
                <a:gd name="adj2" fmla="val 680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直接敲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，运行命令行形式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3" descr=""/>
            <p:cNvPicPr/>
            <p:nvPr/>
          </p:nvPicPr>
          <p:blipFill>
            <a:blip r:embed="rId2"/>
            <a:stretch/>
          </p:blipFill>
          <p:spPr>
            <a:xfrm>
              <a:off x="3635280" y="2997360"/>
              <a:ext cx="4578480" cy="290808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165" name="AutoShape 14"/>
            <p:cNvSpPr/>
            <p:nvPr/>
          </p:nvSpPr>
          <p:spPr>
            <a:xfrm>
              <a:off x="5651640" y="1268280"/>
              <a:ext cx="2881080" cy="432000"/>
            </a:xfrm>
            <a:prstGeom prst="wedgeRectCallout">
              <a:avLst>
                <a:gd name="adj1" fmla="val -132370"/>
                <a:gd name="adj2" fmla="val 4963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号后面的为注释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>
              <a:off x="684360" y="5805360"/>
              <a:ext cx="158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124000" y="5157360"/>
              <a:ext cx="1656000" cy="64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939240" y="6357960"/>
            <a:ext cx="73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下命令行运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需要添加环境变量，如：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:\Program Files\ITT\IDL71\bin\bin.x8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的几种运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行程序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文本文件中输入代码，保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File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志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一系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的文本文件，默认扩展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其他文件中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方式调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程序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序列，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束，保存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5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运行，不能在命令行直接输入文件名运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、函数、过程文件的编写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6894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设计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写不敏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类型，赋值和类型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矩阵：列优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功能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续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断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042920" y="1484280"/>
            <a:ext cx="50472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1403280" y="4941720"/>
            <a:ext cx="504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900000" y="335772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900000" y="393372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1042920" y="5229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简单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程序读入一小一大两个整形数给变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奇数存储到一个数组中，并统计数组元素的总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250920" y="2852640"/>
            <a:ext cx="8893080" cy="3672000"/>
            <a:chOff x="250920" y="2852640"/>
            <a:chExt cx="8893080" cy="3672000"/>
          </a:xfrm>
        </p:grpSpPr>
        <p:pic>
          <p:nvPicPr>
            <p:cNvPr id="183" name="Picture 5" descr=""/>
            <p:cNvPicPr/>
            <p:nvPr/>
          </p:nvPicPr>
          <p:blipFill>
            <a:blip r:embed="rId1"/>
            <a:srcRect l="0" t="0" r="11090" b="0"/>
            <a:stretch/>
          </p:blipFill>
          <p:spPr>
            <a:xfrm>
              <a:off x="250920" y="2852640"/>
              <a:ext cx="8893080" cy="36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"/>
            <p:cNvPicPr/>
            <p:nvPr/>
          </p:nvPicPr>
          <p:blipFill>
            <a:blip r:embed="rId2"/>
            <a:stretch/>
          </p:blipFill>
          <p:spPr>
            <a:xfrm>
              <a:off x="2916360" y="5227560"/>
              <a:ext cx="5208480" cy="129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4140360" y="638172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012000" y="5734080"/>
            <a:ext cx="2305080" cy="431640"/>
          </a:xfrm>
          <a:prstGeom prst="wedgeRectCallout">
            <a:avLst>
              <a:gd name="adj1" fmla="val -54958"/>
              <a:gd name="adj2" fmla="val 80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组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0"/>
            <a:ext cx="6875640" cy="1268280"/>
          </a:xfrm>
          <a:prstGeom prst="wedgeRectCallout">
            <a:avLst>
              <a:gd name="adj1" fmla="val -53578"/>
              <a:gd name="adj2" fmla="val 46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保留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头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尾，其基本格式如下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程名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序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76360" y="1844640"/>
            <a:ext cx="285840" cy="360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58920" y="1844640"/>
            <a:ext cx="285840" cy="360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203640" y="1886040"/>
            <a:ext cx="5508720" cy="368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  128L   16384LL   3.14159D   7U   4UL   100U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492360" y="5084640"/>
            <a:ext cx="252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支、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2771640" y="3900600"/>
            <a:ext cx="5112000" cy="368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Arr IntArr LonArr  FltArr DblArr ComplexA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1908000" y="3500280"/>
            <a:ext cx="2376720" cy="3924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程文件的编译及过程调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文件是用来存放多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和函数，其扩展名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名过程必须放在过程文件的最后，而且编译后可以直接使用过程文件的文件名运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6985080" cy="53197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3492360" y="1268280"/>
            <a:ext cx="5651640" cy="5329440"/>
            <a:chOff x="3492360" y="1268280"/>
            <a:chExt cx="5651640" cy="5329440"/>
          </a:xfrm>
        </p:grpSpPr>
        <p:pic>
          <p:nvPicPr>
            <p:cNvPr id="204" name="Picture 6" descr=""/>
            <p:cNvPicPr/>
            <p:nvPr/>
          </p:nvPicPr>
          <p:blipFill>
            <a:blip r:embed="rId2"/>
            <a:srcRect l="0" t="0" r="4275" b="0"/>
            <a:stretch/>
          </p:blipFill>
          <p:spPr>
            <a:xfrm>
              <a:off x="3492360" y="1268280"/>
              <a:ext cx="565164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7"/>
            <p:cNvSpPr/>
            <p:nvPr/>
          </p:nvSpPr>
          <p:spPr>
            <a:xfrm>
              <a:off x="6156360" y="3122280"/>
              <a:ext cx="2663640" cy="960840"/>
            </a:xfrm>
            <a:prstGeom prst="wedgeRectCallout">
              <a:avLst>
                <a:gd name="adj1" fmla="val -20976"/>
                <a:gd name="adj2" fmla="val 358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过程文件的编译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TRL+F8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调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4067280" y="3190680"/>
              <a:ext cx="158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4067280" y="3671640"/>
              <a:ext cx="158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4067280" y="4563360"/>
              <a:ext cx="3673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052880" y="6556680"/>
              <a:ext cx="878040" cy="16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程文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993080" cy="55116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43280" y="1125360"/>
            <a:ext cx="4321440" cy="790920"/>
          </a:xfrm>
          <a:prstGeom prst="wedgeRectCallout">
            <a:avLst>
              <a:gd name="adj1" fmla="val -53379"/>
              <a:gd name="adj2" fmla="val -19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过程文件用来存放多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程和函数，其扩展名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64000" y="4437000"/>
            <a:ext cx="3529080" cy="1944720"/>
          </a:xfrm>
          <a:prstGeom prst="wedgeRectCallout">
            <a:avLst>
              <a:gd name="adj1" fmla="val -58365"/>
              <a:gd name="adj2" fmla="val 38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过程文件编译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+F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后，可以按照过程和函数的调用方法任意调用过程文件中的过程和函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88000" y="2205000"/>
            <a:ext cx="4176720" cy="1655640"/>
          </a:xfrm>
          <a:prstGeom prst="wedgeRectCallout">
            <a:avLst>
              <a:gd name="adj1" fmla="val -56953"/>
              <a:gd name="adj2" fmla="val -35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主文件名可以与某个过程名相同，也可以不同，若相同，则该过程必须放在过程文件的最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1268280"/>
            <a:ext cx="60300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476360" y="5229360"/>
            <a:ext cx="7192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容提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干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的文件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像处理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、数组、过程、函数、输入输出、循环、分支、判断等语法基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视化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标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可视化：绘制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等值线，面，体绘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能工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数据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类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十进制后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占用字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B, 12B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 无符号整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, 8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无符号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28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无符号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LL, 12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, 0., 3.14E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s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D, 3.1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单精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，双精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44D, 4.7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IDL’   “I’m a string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084720" y="249228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924360" y="2492280"/>
            <a:ext cx="576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8920" y="4941720"/>
            <a:ext cx="10810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类型代码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据类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f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wor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_precision fl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fl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_precision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Re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o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Longwor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6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word 64-bit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ong6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64-bit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符型常量：又称为字符串，用“”或‘’界定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7.1”, “12-47”, “I’m OK”, ‘2010/09/13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值型常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159265D,  0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4, 2.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逻辑型常量：真和假，判断为真的情况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型、整形和长整型的奇数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B, 5, 1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真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B,  0, 4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为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零的浮点型、双精度、和复数类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4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4.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空的字符串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而空字符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”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定义：使用前无需事先说明类型，赋值时确定类型（连同类型一块赋值），不区分大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命名：只能以字母或下划线开头，里边可以包括字母、数字、下划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6500880" y="400068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错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4357800" y="407196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_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16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$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4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714240" y="46432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a=4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;a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整形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8LL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;b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长整形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a   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;b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长整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系统变量：以感叹号！开头。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PI (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部系统变量：由系统自动提供、自动生成和维护的一组特殊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系统变量：用户根据需要自定义，用于描述系统运行中的状态或用于某种特殊用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SYSV, ‘var1’, expression[,Read_Onl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SYSV, ‘var1’, EXISTS =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70848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5508720" y="5013360"/>
            <a:ext cx="3311280" cy="431640"/>
          </a:xfrm>
          <a:prstGeom prst="wedgeRectCallout">
            <a:avLst>
              <a:gd name="adj1" fmla="val -96069"/>
              <a:gd name="adj2" fmla="val -78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I   3.141592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500720" y="3645000"/>
            <a:ext cx="4319280" cy="792000"/>
          </a:xfrm>
          <a:prstGeom prst="wedgeRectCallout">
            <a:avLst>
              <a:gd name="adj1" fmla="val -33643"/>
              <a:gd name="adj2" fmla="val 74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ATH   D:\\Program Fil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可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Pat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命令增加搜索路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5508720" y="5589720"/>
            <a:ext cx="3311280" cy="431640"/>
          </a:xfrm>
          <a:prstGeom prst="wedgeRectCallout">
            <a:avLst>
              <a:gd name="adj1" fmla="val -108532"/>
              <a:gd name="adj2" fmla="val -165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ROMPT   IDL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508720" y="1989000"/>
            <a:ext cx="3311280" cy="432000"/>
          </a:xfrm>
          <a:prstGeom prst="wedgeRectCallout">
            <a:avLst>
              <a:gd name="adj1" fmla="val -88972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DTOR  0.01745329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6192720" cy="6555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242" name="Rectangle 10"/>
          <p:cNvSpPr/>
          <p:nvPr/>
        </p:nvSpPr>
        <p:spPr>
          <a:xfrm>
            <a:off x="1908000" y="115920"/>
            <a:ext cx="136872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5724360" y="907920"/>
            <a:ext cx="3095640" cy="432000"/>
          </a:xfrm>
          <a:prstGeom prst="wedgeRectCallout">
            <a:avLst>
              <a:gd name="adj1" fmla="val -126412"/>
              <a:gd name="adj2" fmla="val -126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锁，表示只读不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存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临时存储于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中的变量，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a=4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b=2.4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2.4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c=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p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tr_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5796000" cy="2857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6804000" y="2852640"/>
            <a:ext cx="1513080" cy="289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6948360" y="3789360"/>
            <a:ext cx="158436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查看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,exp1,exp2,…,expn][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forma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3.0D &amp; b=4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a, a+b, a/2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‘I4, I4, I4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p1, exp2, …, exp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配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[,OUTPUT=var] [,/SYSTEM_VARIABLES][,/STRUCTU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, a, output = myVar 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信息存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Va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a*’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有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头的变量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, !D, /STRUCTURES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系统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结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查看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rcRect l="0" t="931" r="0" b="0"/>
          <a:stretch/>
        </p:blipFill>
        <p:spPr>
          <a:xfrm>
            <a:off x="755640" y="1484280"/>
            <a:ext cx="7272360" cy="5146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量的存储、释放与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有价值的内存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编译程序及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到文件中，以备下次继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,var1,…,varn] [,/ALL] [,/COMM,/VARIBLES] [,COMPRESS][,FILENAME=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/ROUTINES] [,/SYSTEM_VARIBL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释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闭所有文件，释放所有用户定义的变量、指针、对象等，初始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RESET_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FULL_RESET_SESSION  ;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卸载所有动态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恢复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之前保存在文件中的内存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编译程序及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恢复到内存中继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[[,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| [,FILENAME=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不写文件名的话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将保存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save.d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将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save.d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恢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(Interactive Data Langu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交互式数据语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美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lisv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之前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tv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公司的旗舰产品，进行二维及多维数据可视化表现、分析及应用开发的软件，面向矩阵、语法简单的第四代可视化计算机语言。是进行数据分析、可视化表达与跨平台应用开发的理想工具。（目前版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lisvis.com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涵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c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家利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“勇气号”和“机遇号”的数据进行数据分析和图像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列存储，允许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直接创建（能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）数组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达式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[21, 10, 6, 6, 4, 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[[21, 10, 6], [6, 4, 9]]    ;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, 2, 3], [4, 5, 6]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, 8, 9], [10, 11, 12]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，下标顺序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0,0]=1    myArray[1,0,0]=2    myArray[2,0,0]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1,0]=4    myArray[1,1,0]=5    myArray[2,1,0]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0,1]=7    myArray[1,0,1]=8    myArray[2,0,1]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1,1]=10  myArray[1,1,1]=11  myArray[2,1,1]=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98560" y="4724280"/>
            <a:ext cx="66978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987640" y="4941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5219640" y="4941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7451640" y="486900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755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2987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5219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7451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755640" y="587700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2987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5219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7451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755640" y="63104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3060720" y="63104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5219640" y="63086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用函数创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~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初值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fltArr(d1[,…,d8][,/NOZERO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fltArr(3,4)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的浮点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OZER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数组的初值为不确定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tAr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函数还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Arr(), IntArr(), uIntArr(), LonArr(), uLonArr(), Lon64Arr(), uLon64Arr(), DblArr(), ComplexArr(), DComplexArr(), StrArr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创建各种类型的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0" t="0" r="0" b="51616"/>
          <a:stretch/>
        </p:blipFill>
        <p:spPr>
          <a:xfrm>
            <a:off x="324000" y="0"/>
            <a:ext cx="828036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用函数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~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初值为索引号的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(d1[,…,d8][,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|[TYPE=value])  ;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某个数据类型，可以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,complex,dcomplex, double, float, L64, Long, String, Uint, UL64, Ulong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种方法通过关键字来确定数组类型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15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方法还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0" t="-4366" r="0" b="9341"/>
          <a:stretch/>
        </p:blipFill>
        <p:spPr>
          <a:xfrm>
            <a:off x="428760" y="0"/>
            <a:ext cx="8137440" cy="285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(exp, d1[,…,d8]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来创建一个所有数组值均是表达式的值的一维或多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array(d0[,d1,...,d8][,/TYPE]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建一个所有值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维或多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make_array(3, 4, /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赋值和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466560" y="2111400"/>
            <a:ext cx="8353440" cy="33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Line 5"/>
          <p:cNvSpPr/>
          <p:nvPr/>
        </p:nvSpPr>
        <p:spPr>
          <a:xfrm>
            <a:off x="226692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H="1">
            <a:off x="2247480" y="2563920"/>
            <a:ext cx="4514760" cy="15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042920" y="319248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392256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565164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226692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392256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65164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226692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392256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65164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"/>
          <p:cNvSpPr/>
          <p:nvPr/>
        </p:nvSpPr>
        <p:spPr>
          <a:xfrm flipH="1">
            <a:off x="2266560" y="2852640"/>
            <a:ext cx="4514760" cy="1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赋值和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6560" y="2111400"/>
            <a:ext cx="8353440" cy="33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8" name="Rectangle 7"/>
          <p:cNvSpPr/>
          <p:nvPr/>
        </p:nvSpPr>
        <p:spPr>
          <a:xfrm>
            <a:off x="1042920" y="319248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7"/>
          <p:cNvGrpSpPr/>
          <p:nvPr/>
        </p:nvGrpSpPr>
        <p:grpSpPr>
          <a:xfrm>
            <a:off x="324000" y="404640"/>
            <a:ext cx="8496000" cy="2865600"/>
            <a:chOff x="324000" y="404640"/>
            <a:chExt cx="8496000" cy="2865600"/>
          </a:xfrm>
        </p:grpSpPr>
        <p:pic>
          <p:nvPicPr>
            <p:cNvPr id="300" name="Picture 18" descr="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8496000" cy="28656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01" name="Text Box 19"/>
            <p:cNvSpPr/>
            <p:nvPr/>
          </p:nvSpPr>
          <p:spPr>
            <a:xfrm>
              <a:off x="4751280" y="2060280"/>
              <a:ext cx="399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小心：二维下标数组的方式可能会让你感到失望！二维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下标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数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会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DL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拆解成一维下标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数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1403280" y="1339560"/>
              <a:ext cx="43200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2700360" y="1339560"/>
              <a:ext cx="431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2700360" y="198756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>
              <a:off x="3924360" y="1987560"/>
              <a:ext cx="718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>
              <a:off x="3780000" y="2636640"/>
              <a:ext cx="718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5"/>
            <p:cNvSpPr/>
            <p:nvPr/>
          </p:nvSpPr>
          <p:spPr>
            <a:xfrm>
              <a:off x="241128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6"/>
            <p:cNvSpPr/>
            <p:nvPr/>
          </p:nvSpPr>
          <p:spPr>
            <a:xfrm>
              <a:off x="111600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370836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2747160" y="5516640"/>
            <a:ext cx="5496840" cy="847800"/>
            <a:chOff x="2747160" y="5516640"/>
            <a:chExt cx="5496840" cy="847800"/>
          </a:xfrm>
        </p:grpSpPr>
        <p:sp>
          <p:nvSpPr>
            <p:cNvPr id="311" name="WordArt 29"/>
            <p:cNvSpPr txBox="1"/>
            <p:nvPr/>
          </p:nvSpPr>
          <p:spPr>
            <a:xfrm>
              <a:off x="7451640" y="5516640"/>
              <a:ext cx="79236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隶书"/>
                </a:rPr>
                <a:t>?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  <a:ea typeface="华文隶书"/>
              </a:endParaRPr>
            </a:p>
          </p:txBody>
        </p:sp>
        <p:sp>
          <p:nvSpPr>
            <p:cNvPr id="312" name="Text Box 30"/>
            <p:cNvSpPr/>
            <p:nvPr/>
          </p:nvSpPr>
          <p:spPr>
            <a:xfrm>
              <a:off x="2747160" y="5661000"/>
              <a:ext cx="35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用二维的下标数组可以吗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用的函数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循环的语法紧凑，运行高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(myArray[*:10, 10*4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最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小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myArray, MIN=my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_Elements(myAr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尺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数、列数、行数、类型、元素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均值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差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De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标准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算数组的平均值、方差、倾斜度、峰值、平均绝对偏差、标准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回满足指定条件的数组元素下标所组成的一维数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不改变数组元素的前提下重新生成新的维数的数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运算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值运算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圆括号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加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减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方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或下标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最小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最大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矩阵列乘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#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矩阵行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运算符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于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等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于等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于等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运算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非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或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非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或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异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赋运算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##=   *=    +=    -=    /=   AND=    EQ=    GE=    GT=    LE=    LT=    MOD=    NE=    OR=    XOR=     &lt;=   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900000" y="2421000"/>
            <a:ext cx="1150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987640" y="2060640"/>
            <a:ext cx="936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340000" y="242100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780000" y="2421000"/>
            <a:ext cx="1512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5508720" y="2421000"/>
            <a:ext cx="16556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7920000" y="4941720"/>
            <a:ext cx="53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755640" y="5300640"/>
            <a:ext cx="53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3492360" y="494172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控制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–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– Then –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–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–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– 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X of – else – end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? Expr1:expr2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判断语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输入输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/ readu / rea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/ writeu / print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857160" y="3143160"/>
            <a:ext cx="400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=fltarr(128, 1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r, lun, “../mydata.da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u, lun,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, l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857160" y="485784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w, lun, “../mydata.tx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f, lun, format=‘(I12)’, myV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, l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菜单的定制、消息传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可视化界面的设计、语言通俗易懂、编程入门容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良好的跨平台能力，方便移植，面向对象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ORTRAN+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风格绝大部分继承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少量来源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向矩阵，执行效率高，代码量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少得多，简洁而不失灵活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ATLA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了大量封装和参数化了的数学函数及各种信号处理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PENG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提供了丰富的二维、三维图形图像操作类，能高效快速地对数据进行可视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视化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形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图形系统和对象图形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坐标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窗口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可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图形系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直接图形法和对象图形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图形法： 创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时常用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mapping, contou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简单、快速，但需反复重画，依赖于当前图形设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图形法： 加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显示，灵活，交互性强，充分控制对象，对象驻留内存，不需反复重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管理：生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销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ro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效性查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属性：获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Proper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设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象图形系统的类和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 (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前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容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cene, *View, *ViewGrou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是容器对象的子对象，起承上启下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元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, *Surface, *Ax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o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line, *Ploygon, *Light, *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属性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Font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无法直接显示的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容器和模型对象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构造右图所示的结构，利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绘制容器对象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7"/>
          <p:cNvGrpSpPr/>
          <p:nvPr/>
        </p:nvGrpSpPr>
        <p:grpSpPr>
          <a:xfrm>
            <a:off x="6227640" y="1773360"/>
            <a:ext cx="2700360" cy="3960720"/>
            <a:chOff x="6227640" y="1773360"/>
            <a:chExt cx="2700360" cy="3960720"/>
          </a:xfrm>
        </p:grpSpPr>
        <p:sp>
          <p:nvSpPr>
            <p:cNvPr id="338" name="Rectangle 4"/>
            <p:cNvSpPr/>
            <p:nvPr/>
          </p:nvSpPr>
          <p:spPr>
            <a:xfrm>
              <a:off x="6227640" y="1773360"/>
              <a:ext cx="935280" cy="67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Graphics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Ato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6230880" y="4121280"/>
              <a:ext cx="68112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6964200" y="5195880"/>
              <a:ext cx="8496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Scen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7426440" y="1773360"/>
              <a:ext cx="934920" cy="67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Graphics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Ato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"/>
            <p:cNvSpPr/>
            <p:nvPr/>
          </p:nvSpPr>
          <p:spPr>
            <a:xfrm>
              <a:off x="6897600" y="2909880"/>
              <a:ext cx="76536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Mo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8161200" y="2909880"/>
              <a:ext cx="7668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Mo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7362720" y="4121280"/>
              <a:ext cx="76536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>
              <a:off x="6561000" y="2421000"/>
              <a:ext cx="792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5"/>
            <p:cNvSpPr/>
            <p:nvPr/>
          </p:nvSpPr>
          <p:spPr>
            <a:xfrm flipH="1">
              <a:off x="7353000" y="2421000"/>
              <a:ext cx="43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>
              <a:off x="7243920" y="3448080"/>
              <a:ext cx="39816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0"/>
            <p:cNvSpPr/>
            <p:nvPr/>
          </p:nvSpPr>
          <p:spPr>
            <a:xfrm flipH="1">
              <a:off x="7696080" y="3448080"/>
              <a:ext cx="67968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>
              <a:off x="6630840" y="4657680"/>
              <a:ext cx="7225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 flipH="1">
              <a:off x="7353000" y="4657680"/>
              <a:ext cx="36828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8"/>
          <p:cNvSpPr/>
          <p:nvPr/>
        </p:nvSpPr>
        <p:spPr>
          <a:xfrm>
            <a:off x="6909840" y="578484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象图形系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结构和调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形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坐标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供了三种独立的坐标系统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坐标系统：通常与数据范围相同，可以是线性、对数或半对数的，系统默认的坐标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坐标系统：选定设备的实际坐标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归一化坐标系统：将数据坐标系统或设备坐标系统中行列数据范围归一化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坐标系统之间的互相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坐标系统、设备坐标系统、归一化坐标系统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_Co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,y [,Z]], [,/Data|,/Device, /Normal], [,/Double][,/To_Data| ,/To_Device,|/ To_Normal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笛卡尔坐标、极坐标、柱面坐标和球坐标系统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_Coord([,/Degrees][,Double][,From_Cylin=cyl_coords| ,From_Polar=pol_coords| ,From_Rect=rect_coords| , From_Sphere=sph_coords] [,/To_Cylin|,/To_Polar|,/To_Rect, /To_Spher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窗口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建立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Win = OBJ_NEW(‘IDLgrWindow’,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[,IDLgrView | IDLgrViewGroup | IDLgrSce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(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Win-&gt;[IDLgrWindow: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除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rase [,color= index | [R,G,B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ow,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小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原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onify,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_Dest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对象的下一级对象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以设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的属性来修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大小和位置、投影方式、裁剪平面和裁剪方式、进行几何变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可视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多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t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坐标轴多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等值轮廓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网格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阴影曲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e_Su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投影曲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_3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绘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坐标轴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文本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X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条形图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ar_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交互文本标注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nn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交互控制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rack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绘制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,[X]Y[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Y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线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Y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坐标组成的数组。在绘图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转换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x=Findgen(101)*(0.01*2.0*!P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y = Si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808360" cy="2364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808360" cy="2357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6658920" y="32115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, x,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6659640" y="6165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,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几十个关键字用于控制绘制的属性，包括线的虚实粗细，图形符号，颜色，位置，裁剪；标题文字及相应字体；坐标轴及其刻度的粗细长短宽窄朝向；所用的坐标系统及其缩放等每一个细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403280" y="4149720"/>
            <a:ext cx="2808360" cy="2357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2808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部分关键字和使用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SOTROPI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强制把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轴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轴转换成等比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Pola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绘制极坐标下的线。这时格式为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ot, r, theta, /Po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THICK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设定绘制线的粗细，默认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XLog,/YLog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用于创建对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|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|Min_Value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绘制数据的最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最小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Sum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每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值绘制一个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ground | Color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设定背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前景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M=integer{-10~10}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按指定图形符号绘制数据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Style=integer{0~5}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实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点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长虚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7236000" cy="6076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4752720" cy="4000680"/>
          </a:xfrm>
          <a:prstGeom prst="rect">
            <a:avLst/>
          </a:prstGeom>
          <a:ln w="0">
            <a:noFill/>
          </a:ln>
        </p:spPr>
      </p:pic>
      <p:sp>
        <p:nvSpPr>
          <p:cNvPr id="373" name="Line 6"/>
          <p:cNvSpPr/>
          <p:nvPr/>
        </p:nvSpPr>
        <p:spPr>
          <a:xfrm flipH="1">
            <a:off x="2195280" y="4292640"/>
            <a:ext cx="115236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06760" y="43117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m=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771640" y="5157720"/>
            <a:ext cx="115272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1383480" y="5176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m=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3280" y="691920"/>
            <a:ext cx="417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L&gt;  r=findgen(100)*0.01 IDL&gt;  t=4.0*!Pi*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L&gt;  Plot, r, t, /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9"/>
          <p:cNvGrpSpPr/>
          <p:nvPr/>
        </p:nvGrpSpPr>
        <p:grpSpPr>
          <a:xfrm>
            <a:off x="6343560" y="831960"/>
            <a:ext cx="2692080" cy="2020320"/>
            <a:chOff x="6343560" y="831960"/>
            <a:chExt cx="2692080" cy="202032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6343560" y="831960"/>
              <a:ext cx="159444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2"/>
            <a:stretch/>
          </p:blipFill>
          <p:spPr>
            <a:xfrm>
              <a:off x="6876720" y="1310040"/>
              <a:ext cx="2158920" cy="15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/>
            <p:cNvSpPr/>
            <p:nvPr/>
          </p:nvSpPr>
          <p:spPr>
            <a:xfrm>
              <a:off x="6703920" y="2333520"/>
              <a:ext cx="184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250920" y="1052640"/>
            <a:ext cx="1871640" cy="1968480"/>
            <a:chOff x="250920" y="1052640"/>
            <a:chExt cx="1871640" cy="1968480"/>
          </a:xfrm>
        </p:grpSpPr>
        <p:graphicFrame>
          <p:nvGraphicFramePr>
            <p:cNvPr id="66" name="Object 3"/>
            <p:cNvGraphicFramePr/>
            <p:nvPr/>
          </p:nvGraphicFramePr>
          <p:xfrm>
            <a:off x="250920" y="1052640"/>
            <a:ext cx="1871640" cy="17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1052640"/>
                      <a:ext cx="1871640" cy="170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8" name="Text Box 12"/>
            <p:cNvSpPr/>
            <p:nvPr/>
          </p:nvSpPr>
          <p:spPr>
            <a:xfrm>
              <a:off x="322200" y="2563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6" descr=""/>
          <p:cNvPicPr/>
          <p:nvPr/>
        </p:nvPicPr>
        <p:blipFill>
          <a:blip r:embed="rId5"/>
          <a:stretch/>
        </p:blipFill>
        <p:spPr>
          <a:xfrm>
            <a:off x="3276720" y="4726080"/>
            <a:ext cx="2079360" cy="15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tretch/>
        </p:blipFill>
        <p:spPr>
          <a:xfrm>
            <a:off x="4429080" y="5373720"/>
            <a:ext cx="23148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4"/>
          <p:cNvGrpSpPr/>
          <p:nvPr/>
        </p:nvGrpSpPr>
        <p:grpSpPr>
          <a:xfrm>
            <a:off x="6407280" y="2997360"/>
            <a:ext cx="2736720" cy="2735280"/>
            <a:chOff x="6407280" y="2997360"/>
            <a:chExt cx="2736720" cy="2735280"/>
          </a:xfrm>
        </p:grpSpPr>
        <p:pic>
          <p:nvPicPr>
            <p:cNvPr id="72" name="Picture 2060" descr=""/>
            <p:cNvPicPr/>
            <p:nvPr/>
          </p:nvPicPr>
          <p:blipFill>
            <a:blip r:embed="rId7"/>
            <a:stretch/>
          </p:blipFill>
          <p:spPr>
            <a:xfrm>
              <a:off x="6407280" y="4292640"/>
              <a:ext cx="2736720" cy="14400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3" name="Picture 2063" descr=""/>
            <p:cNvPicPr/>
            <p:nvPr/>
          </p:nvPicPr>
          <p:blipFill>
            <a:blip r:embed="rId8"/>
            <a:srcRect l="0" t="0" r="960" b="3764"/>
            <a:stretch/>
          </p:blipFill>
          <p:spPr>
            <a:xfrm>
              <a:off x="7308720" y="2997360"/>
              <a:ext cx="1603440" cy="15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3"/>
          <p:cNvSpPr/>
          <p:nvPr/>
        </p:nvSpPr>
        <p:spPr>
          <a:xfrm>
            <a:off x="7056360" y="42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2"/>
          <p:cNvGrpSpPr/>
          <p:nvPr/>
        </p:nvGrpSpPr>
        <p:grpSpPr>
          <a:xfrm>
            <a:off x="2340000" y="549360"/>
            <a:ext cx="3168360" cy="1752120"/>
            <a:chOff x="2340000" y="549360"/>
            <a:chExt cx="3168360" cy="1752120"/>
          </a:xfrm>
        </p:grpSpPr>
        <p:sp>
          <p:nvSpPr>
            <p:cNvPr id="76" name="Text Box 23"/>
            <p:cNvSpPr/>
            <p:nvPr/>
          </p:nvSpPr>
          <p:spPr>
            <a:xfrm>
              <a:off x="3131640" y="1845000"/>
              <a:ext cx="9241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27" descr=""/>
            <p:cNvPicPr/>
            <p:nvPr/>
          </p:nvPicPr>
          <p:blipFill>
            <a:blip r:embed="rId9"/>
            <a:stretch/>
          </p:blipFill>
          <p:spPr>
            <a:xfrm>
              <a:off x="2340000" y="549360"/>
              <a:ext cx="184824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0" descr=""/>
            <p:cNvPicPr/>
            <p:nvPr/>
          </p:nvPicPr>
          <p:blipFill>
            <a:blip r:embed="rId10"/>
            <a:srcRect l="0" t="0" r="7630" b="0"/>
            <a:stretch/>
          </p:blipFill>
          <p:spPr>
            <a:xfrm>
              <a:off x="4188240" y="550440"/>
              <a:ext cx="132012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1" descr=""/>
            <p:cNvPicPr/>
            <p:nvPr/>
          </p:nvPicPr>
          <p:blipFill>
            <a:blip r:embed="rId11"/>
            <a:stretch/>
          </p:blipFill>
          <p:spPr>
            <a:xfrm rot="10800000">
              <a:off x="3999960" y="1377000"/>
              <a:ext cx="150804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Diagram 34"/>
          <p:cNvGrpSpPr/>
          <p:nvPr/>
        </p:nvGrpSpPr>
        <p:grpSpPr>
          <a:xfrm>
            <a:off x="2124000" y="2176920"/>
            <a:ext cx="5256000" cy="2836080"/>
            <a:chOff x="2124000" y="2176920"/>
            <a:chExt cx="5256000" cy="2836080"/>
          </a:xfrm>
        </p:grpSpPr>
        <p:sp>
          <p:nvSpPr>
            <p:cNvPr id="81" name="_s1028"/>
            <p:cNvSpPr/>
            <p:nvPr/>
          </p:nvSpPr>
          <p:spPr>
            <a:xfrm flipH="1" flipV="1">
              <a:off x="3611880" y="3059280"/>
              <a:ext cx="572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29"/>
            <p:cNvSpPr/>
            <p:nvPr/>
          </p:nvSpPr>
          <p:spPr>
            <a:xfrm>
              <a:off x="2124000" y="2275920"/>
              <a:ext cx="1799640" cy="841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医学影像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0"/>
            <p:cNvSpPr/>
            <p:nvPr/>
          </p:nvSpPr>
          <p:spPr>
            <a:xfrm flipH="1">
              <a:off x="3613680" y="3688560"/>
              <a:ext cx="572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1"/>
            <p:cNvSpPr/>
            <p:nvPr/>
          </p:nvSpPr>
          <p:spPr>
            <a:xfrm>
              <a:off x="2124000" y="3645000"/>
              <a:ext cx="1871280" cy="83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图像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与分析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4753800" y="3895920"/>
              <a:ext cx="0" cy="4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4066920" y="4076280"/>
              <a:ext cx="1656720" cy="93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信号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4"/>
            <p:cNvSpPr/>
            <p:nvPr/>
          </p:nvSpPr>
          <p:spPr>
            <a:xfrm>
              <a:off x="5319000" y="3687120"/>
              <a:ext cx="572760" cy="2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5"/>
            <p:cNvSpPr/>
            <p:nvPr/>
          </p:nvSpPr>
          <p:spPr>
            <a:xfrm>
              <a:off x="5723640" y="3757680"/>
              <a:ext cx="1656360" cy="45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地球科学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6"/>
            <p:cNvSpPr/>
            <p:nvPr/>
          </p:nvSpPr>
          <p:spPr>
            <a:xfrm flipV="1">
              <a:off x="5319000" y="3058200"/>
              <a:ext cx="5709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7"/>
            <p:cNvSpPr/>
            <p:nvPr/>
          </p:nvSpPr>
          <p:spPr>
            <a:xfrm>
              <a:off x="5802840" y="2430360"/>
              <a:ext cx="1314360" cy="83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数据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与分析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8"/>
            <p:cNvSpPr/>
            <p:nvPr/>
          </p:nvSpPr>
          <p:spPr>
            <a:xfrm flipV="1">
              <a:off x="4752000" y="2639160"/>
              <a:ext cx="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9"/>
            <p:cNvSpPr/>
            <p:nvPr/>
          </p:nvSpPr>
          <p:spPr>
            <a:xfrm>
              <a:off x="4095720" y="2176920"/>
              <a:ext cx="1267200" cy="464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天文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0"/>
            <p:cNvSpPr/>
            <p:nvPr/>
          </p:nvSpPr>
          <p:spPr>
            <a:xfrm>
              <a:off x="3979800" y="2781360"/>
              <a:ext cx="2105280" cy="122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做什么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49"/>
          <p:cNvSpPr/>
          <p:nvPr/>
        </p:nvSpPr>
        <p:spPr>
          <a:xfrm>
            <a:off x="755640" y="5516640"/>
            <a:ext cx="2160720" cy="792000"/>
          </a:xfrm>
          <a:prstGeom prst="cloudCallout">
            <a:avLst>
              <a:gd name="adj1" fmla="val 43976"/>
              <a:gd name="adj2" fmla="val -97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 flipH="1">
            <a:off x="2484000" y="3860640"/>
            <a:ext cx="187164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6" descr=""/>
          <p:cNvPicPr/>
          <p:nvPr/>
        </p:nvPicPr>
        <p:blipFill>
          <a:blip r:embed="rId12"/>
          <a:stretch/>
        </p:blipFill>
        <p:spPr>
          <a:xfrm>
            <a:off x="0" y="3284640"/>
            <a:ext cx="2376360" cy="178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9" descr=""/>
          <p:cNvPicPr/>
          <p:nvPr/>
        </p:nvPicPr>
        <p:blipFill>
          <a:blip r:embed="rId13"/>
          <a:stretch/>
        </p:blipFill>
        <p:spPr>
          <a:xfrm>
            <a:off x="468360" y="2708280"/>
            <a:ext cx="1366920" cy="97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多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方法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用法基本相同，区别在于连续使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，可以在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同一个坐标系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绘制多条直线或者曲线，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不擦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原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内容。相当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NoEras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关键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rcRect l="0" t="0" r="2188" b="0"/>
          <a:stretch/>
        </p:blipFill>
        <p:spPr>
          <a:xfrm>
            <a:off x="4319640" y="2276640"/>
            <a:ext cx="4824360" cy="4249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5"/>
          <p:cNvSpPr/>
          <p:nvPr/>
        </p:nvSpPr>
        <p:spPr>
          <a:xfrm>
            <a:off x="539640" y="3519360"/>
            <a:ext cx="4572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=findgen(101)*(0.01*2.0*!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ot, x, sin(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lot, x, cos(x), pSym=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lot, x, sin(x)*cos(x),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estyle=5, Thick=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 flipV="1">
            <a:off x="2268360" y="3357720"/>
            <a:ext cx="3743640" cy="86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 flipV="1">
            <a:off x="3780000" y="3715920"/>
            <a:ext cx="374328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3995640" y="4868640"/>
            <a:ext cx="23749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无坐标多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方法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用法基本相同，区别在于连续使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，可以在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多个坐标系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绘制任意多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没有坐标轴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直线或者曲线，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不擦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原有内容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除了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相同的关键字外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还有一个关键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Continu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在最后一次的绘制点处继续连续绘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3085920" cy="26049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395280" y="4076640"/>
            <a:ext cx="489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=[0, 10, 20, 30, 40] &amp; y=[0, 0.8, 1, 0.6, 0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=[50, 60, 70, 80] &amp; v=[-0.3, -0.5, -0.3, 0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x/2, y/2+0.5, pSym=-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u/2, v/2+0.5, pSym=-2, /contin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x/2, y/2+0.3, pSym=-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u/2, v/2+0.3, pSym=-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4284720" y="4653000"/>
            <a:ext cx="180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4140360" y="5516640"/>
            <a:ext cx="180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等值轮廓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于绘制坐标系中任意的等值轮廓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法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法基本相同，也提供了许多关键字用于设置线、标注、坐标轴等元素的每一个细节。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Over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效果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_ERA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相同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=vecto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于设置每层对应的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1209" t="1741" r="0" b="1112"/>
          <a:stretch/>
        </p:blipFill>
        <p:spPr>
          <a:xfrm>
            <a:off x="6227640" y="1557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221280" cy="2706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6373800" y="11970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Scl, DIST(1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Shade_Surf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网格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于在坐标系中绘制任意的三维网格。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用法基本相同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|AZ = degre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键字用于设置网格面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|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轴旋转的角度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Lower_ONLY|Upper_ONL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只绘制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顶面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=arr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定一个二维数组作为表面纹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_Sur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法基本相同，但能绘出带阴影的三维曲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3489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2"/>
          <a:stretch/>
        </p:blipFill>
        <p:spPr>
          <a:xfrm>
            <a:off x="4680000" y="0"/>
            <a:ext cx="4103640" cy="3463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3"/>
          <a:stretch/>
        </p:blipFill>
        <p:spPr>
          <a:xfrm>
            <a:off x="612720" y="3473280"/>
            <a:ext cx="4067280" cy="34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4"/>
          <a:stretch/>
        </p:blipFill>
        <p:spPr>
          <a:xfrm>
            <a:off x="4680000" y="3500280"/>
            <a:ext cx="4032360" cy="33973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8"/>
          <p:cNvSpPr/>
          <p:nvPr/>
        </p:nvSpPr>
        <p:spPr>
          <a:xfrm>
            <a:off x="4855320" y="3716280"/>
            <a:ext cx="382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KIRT=4, LineStyle=4, thick=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692360" y="376380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LE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5724360" y="206280"/>
            <a:ext cx="25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/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761120" y="37944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4021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780000" y="2637000"/>
            <a:ext cx="4824360" cy="40557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549360" y="45072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=dist(300) &amp; shade_surf,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279680" y="2898720"/>
            <a:ext cx="38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=dist(300) &amp; shade_surf, A,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hades = BytScl(sin(A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_3DBo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投影曲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_3DBo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用于绘制三维数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=f(x,y)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投影曲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XY|XZ|YZ_PLA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绘制三个投影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00720" y="2975040"/>
            <a:ext cx="4246560" cy="3565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2"/>
          <a:stretch/>
        </p:blipFill>
        <p:spPr>
          <a:xfrm>
            <a:off x="0" y="2978280"/>
            <a:ext cx="42116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是指以体素作为基本单元，使用指定的模型和算法，由体数据直接生成三维虚拟实体影像的过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可以表现实体的外部形状和内部细节，可以结合面绘制技术，在绘制质量、速度、交互性和信息表现互为补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的几种办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过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智能工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rcRect l="1357" t="23808" r="11152" b="2557"/>
          <a:stretch/>
        </p:blipFill>
        <p:spPr>
          <a:xfrm>
            <a:off x="3708360" y="3529080"/>
            <a:ext cx="48592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过创建或初始化体绘制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对象。注意这里输入的数据将被转化成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类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J_NEW(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]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 /NO_COPY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grVolume::]I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]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 /NO_COPY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多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属性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0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B_table0~1, Opacity_table0~1, shader, clip_planes, ambient, X~ZRange, X~ZCoord_conv, ZBuff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该过程用于交互查看和操作体数据和等值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, [, /BLOCK] [, GROUP=widget_id] [, /INTERPOLATE] [, /MODAL] [, RENDERER={0 | 1}] [, /REPLACE] [, SCALE=value] [, /TEST] [, XSIZE=pixels] [, YSIZE=pixe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存在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替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渲染环境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G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默认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iz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ize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绘制窗口的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差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体绘制的比例因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708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文件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本格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f, Read_ascii, 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格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u, Read_binary, Writ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学数据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CDF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HDF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H5_" or "H5*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-E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EOS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C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NCDF_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oo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具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ool(Intelligent Tools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拥有一些列交互功能的图形化智能工具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数据分析、可视化任务和高品质图形表现结合在一起，集成一系列交互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建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lot, iSurface, iContour, iVolume, iMap, iImage, iVecto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创建例程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vertCoord, IRotate, iSave, iZoo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各种程序例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oo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成，既可作为独立程序交互使用，也可被其他程序调用或进行二次开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= FILEPATH('head.dat', SUBDIRECTORY = ['examples', 'data']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0 = READ_BINARY(file, DATA_DIMS = [80, 100, 57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 = BYTARR(80, 100, 57, /NOZERO) + 1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[0:39, *, 28:56] = 0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Table1 = [[BYTARR(256)], [BYTARR(256)], [BYTARR(256)]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Table1[1, *] = [255, 255, 255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Table1 = BYTARR(256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Table1[1] = 2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LUME, data0, data1,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_TABLE1 = rgbTable1,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_TABLE1 = opacityTable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/AUTO_R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data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混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而实现切割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72000" cy="3357720"/>
          </a:xfrm>
          <a:prstGeom prst="rect">
            <a:avLst/>
          </a:prstGeom>
          <a:ln w="0">
            <a:noFill/>
          </a:ln>
        </p:spPr>
      </p:pic>
      <p:sp>
        <p:nvSpPr>
          <p:cNvPr id="431" name="Line 6"/>
          <p:cNvSpPr/>
          <p:nvPr/>
        </p:nvSpPr>
        <p:spPr>
          <a:xfrm flipV="1">
            <a:off x="6211800" y="6054480"/>
            <a:ext cx="606600" cy="190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H="1" flipV="1">
            <a:off x="6300360" y="5371920"/>
            <a:ext cx="12600" cy="43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 flipH="1" flipV="1">
            <a:off x="5292360" y="5516640"/>
            <a:ext cx="863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直接图形法常用的图像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_image/write_ima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入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显示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R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窗口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PATH('rose.jpg', SUBDIRECTORY = ['examples', 'data'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_IMAGE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, smooth(image), true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tImage = tvrd(true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_image, newfileName, ‘BMP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t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行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——Fast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-X Corpor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司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发的一款软件，它弥补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集群并行运算上面的不足，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计算能力发挥到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针对并行的特点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了两个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用于处理各节点间互相独立的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用于处理节点间需要传递消息的任务，与标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方法相同，以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函数前缀，比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S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Recei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AllReduce, MPIDL_Gather, MPIDL_Barr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Bca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简单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 = OBJ_NEW(‘taskdl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open_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spawn_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add_task, ‘print, “Mysimple TaskFarm”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close_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roy, o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一个会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生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添加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结束会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退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中的小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尽量使用库函数而不是自己写函数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丰富的库函数加快开发进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函数通过严格测试，更健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函数内部做了优化，特别是对于矩阵运算，效率提高更明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用一个函数完成则不用两个函数，如需同时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数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, a=max(Matrix, min=b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同时求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。代替类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 = a gt b?a:b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代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128000" cy="214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5" name="Rectangle 5"/>
          <p:cNvSpPr/>
          <p:nvPr/>
        </p:nvSpPr>
        <p:spPr>
          <a:xfrm>
            <a:off x="3851280" y="227664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辅助 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+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中的小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针的运算效率高，但用完后记得及时释放。否则其占用内存会一直保持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码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= make_array(512, 512, 512, /float)  ;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= data + 1.0;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24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+= 1.0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=TEMPORARY(data)+1.0 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效率都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高，节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内存，避免内存申请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别提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不是逻辑判断，而是取最小和最大，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a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不是逻辑判断，而是取最小和最大赋给左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=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目运算符 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言之比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=4; c = (c&lt;5? c:5)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printf(“%d\n”, c);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4 &amp; c = (c&lt;5 ? c : 5) &amp; print,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11280" y="4941720"/>
            <a:ext cx="7489800" cy="6426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&lt;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意思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中取最小的，故结果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，偶数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，为假，故最终结果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正确方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(c gt 5 ? c : 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2771640" y="4365720"/>
            <a:ext cx="576360" cy="388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进一步学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常用帮助。只需敲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调出帮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加一个空格和你想查的关键词，如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Plot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到你想查阅的主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考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Programming Technique. David Fann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师的经典巨著。从基础到应用，数据读取到可视化，从直接图形法到对象图形法，从代码格式到编程习惯，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了全方位阐述。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fanning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近上不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with IDL. Ronn Kl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适合有一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的使用。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lkling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Graphics with IDL. Ronn Kl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着重介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视化方面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官方培训教程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Introduction to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初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ntermediate Programming and Analysis in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中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dvanced Topics in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高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文学中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文学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L Astronomy User's Library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dlastro.gsfc.nasa.gov/homepage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arSoftWare (SSW) system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msal.com/solarsoft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像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提供了具有强大的图像处理能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支持多种文件格式，只要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(Write)_Im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两个函数，即可读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支持的任何图像文件。也可以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log_Read(Write)_Im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交互读取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函数即可显示图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提供了方便的傅里叶变化，小波变换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gh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变换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变换等，各种图像增强滤波操作，形态学操作，图像分割、识别等丰富的图像处理和分析函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像也是数组，所以各种可以处理数组的函数也可以用于图像数据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453960" y="4915080"/>
            <a:ext cx="8439120" cy="1682640"/>
            <a:chOff x="453960" y="4915080"/>
            <a:chExt cx="8439120" cy="16826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2557440" y="4915080"/>
              <a:ext cx="633564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453960" y="4916520"/>
              <a:ext cx="21351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2629080" y="5143320"/>
              <a:ext cx="208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1, 2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716360" y="514332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21, 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804000" y="5143320"/>
              <a:ext cx="20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5, 5])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468360" y="514332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00"/>
                  </a:solidFill>
                  <a:latin typeface="Arial"/>
                </a:rPr>
                <a:t>原图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图像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1628640"/>
          <a:ext cx="7632720" cy="4637160"/>
        </p:xfrm>
        <a:graphic>
          <a:graphicData uri="http://schemas.openxmlformats.org/drawingml/2006/table">
            <a:tbl>
              <a:tblPr/>
              <a:tblGrid>
                <a:gridCol w="3252960"/>
                <a:gridCol w="4379760"/>
              </a:tblGrid>
              <a:tr h="53496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支持的图像格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格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Bitma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M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maging and Communications in Medicin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TIF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file with tags containing geographic data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 Interchang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il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ile version 3.3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2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2000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JPEG2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JPEG2000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图像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413000"/>
          <a:ext cx="7848720" cy="4852800"/>
        </p:xfrm>
        <a:graphic>
          <a:graphicData uri="http://schemas.openxmlformats.org/drawingml/2006/table">
            <a:tbl>
              <a:tblPr/>
              <a:tblGrid>
                <a:gridCol w="3062520"/>
                <a:gridCol w="4786200"/>
              </a:tblGrid>
              <a:tr h="44244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支持的图像格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续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ng Picture Experts Grou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I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resolution Seamless Image Databas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I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AR Raster Interchang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intosh version 2 PICT files (bitmap only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le Network Graphics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/PGM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Raster Fil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bit or 24-bit Tagged Image Fil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1 Bitma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1 Bitmap format used for reading bitmaps for IDL widget button labels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W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Windows Dum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8:42:45Z</dcterms:created>
  <dc:creator>WUHONG</dc:creator>
  <dc:description/>
  <dc:language>en-US</dc:language>
  <cp:lastModifiedBy>vis</cp:lastModifiedBy>
  <dcterms:modified xsi:type="dcterms:W3CDTF">2012-11-09T01:39:11Z</dcterms:modified>
  <cp:revision>3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